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AF8E-0C36-457F-8991-976EE77F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5BD-3E39-4E37-B7DE-256B739E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9902-5B82-465B-A2F5-57F80BC3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C839-C70E-46E8-A5D9-43396858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0D64-ED03-4999-B273-211C6EB2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7281-24F0-467F-8164-BDA60300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FD6D-B1E4-49C7-93B2-2A864F48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CB53-5F55-4D6B-814C-DFB0D945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B798-E49D-42DC-BC99-7D9003C6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7F96-9DB1-4C33-A2D8-5361AD05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0AF4-824D-4C43-A5F7-1DE586CF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953-9B5C-4915-88A8-E0FCE99F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EA78-C04D-4033-AB9A-CDFC3EC3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2FDA-5E13-4BC7-AC4D-F788CD98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1A3E-6961-4AF4-B16B-E95BE13A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B3D3-F396-4E1F-A78A-59202DD5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F5A8-0F21-43D3-8EF8-8EAAB37D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BE34-8FBC-4DFC-AF99-6D3432DB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F3C-5402-49BB-B7E7-AA34BA8A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36D9-0C5D-4E8E-86C2-3659CDAA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5255-2D7D-4FBB-8300-CD44C533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E9CF-7FF6-4D81-B177-6340A35D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A4DD-7FC1-4589-921F-C46DF1BC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9CB-3DE2-4A76-840B-07980B4B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8BE1-3AC2-479E-A934-80E7E1FBC32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CD6F-5944-42FD-9B36-011A7DD4874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200"/>
            <a:ext cx="7097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Tecnologías de información para la gestión de abastecimiento (parte 1)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30BC-87CE-4FE1-83A6-57459169B3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tapa 1: Sistemas aislad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3564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esor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p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564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ven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AD7-7A2A-4B60-A31C-D9370D23FD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tapa 2: Interfas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764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6000" y="306540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35640" y="177336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esor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3" idx="0"/>
            <a:endCxn id="161" idx="0"/>
          </p:cNvCxnSpPr>
          <p:nvPr/>
        </p:nvCxnSpPr>
        <p:spPr>
          <a:xfrm flipV="1">
            <a:off x="1979280" y="2422440"/>
            <a:ext cx="86580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2" idx="0"/>
            <a:endCxn id="161" idx="1"/>
          </p:cNvCxnSpPr>
          <p:nvPr/>
        </p:nvCxnSpPr>
        <p:spPr>
          <a:xfrm flipH="1" flipV="1">
            <a:off x="2844360" y="2422440"/>
            <a:ext cx="424728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3" idx="1"/>
            <a:endCxn id="164" idx="0"/>
          </p:cNvCxnSpPr>
          <p:nvPr/>
        </p:nvCxnSpPr>
        <p:spPr>
          <a:xfrm flipV="1">
            <a:off x="1979280" y="2422440"/>
            <a:ext cx="43203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2" idx="1"/>
            <a:endCxn id="164" idx="1"/>
          </p:cNvCxnSpPr>
          <p:nvPr/>
        </p:nvCxnSpPr>
        <p:spPr>
          <a:xfrm flipH="1" flipV="1">
            <a:off x="6298920" y="2422440"/>
            <a:ext cx="7927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2"/>
            <a:endCxn id="161" idx="2"/>
          </p:cNvCxnSpPr>
          <p:nvPr/>
        </p:nvCxnSpPr>
        <p:spPr>
          <a:xfrm flipH="1">
            <a:off x="3708000" y="2098440"/>
            <a:ext cx="172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111600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436248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p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35640" y="5732640"/>
            <a:ext cx="1727280" cy="6490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ven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0" idx="0"/>
            <a:endCxn id="163" idx="2"/>
          </p:cNvCxnSpPr>
          <p:nvPr/>
        </p:nvCxnSpPr>
        <p:spPr>
          <a:xfrm flipV="1">
            <a:off x="1979280" y="371412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1" idx="0"/>
            <a:endCxn id="162" idx="2"/>
          </p:cNvCxnSpPr>
          <p:nvPr/>
        </p:nvCxnSpPr>
        <p:spPr>
          <a:xfrm flipV="1">
            <a:off x="7090920" y="371412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2" idx="0"/>
            <a:endCxn id="161" idx="3"/>
          </p:cNvCxnSpPr>
          <p:nvPr/>
        </p:nvCxnSpPr>
        <p:spPr>
          <a:xfrm flipH="1" rot="10800000">
            <a:off x="1980000" y="2098080"/>
            <a:ext cx="2520" cy="3960000"/>
          </a:xfrm>
          <a:prstGeom prst="bentConnector3">
            <a:avLst>
              <a:gd name="adj1" fmla="val -97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3" idx="0"/>
            <a:endCxn id="161" idx="4"/>
          </p:cNvCxnSpPr>
          <p:nvPr/>
        </p:nvCxnSpPr>
        <p:spPr>
          <a:xfrm flipH="1" flipV="1">
            <a:off x="2844000" y="1773000"/>
            <a:ext cx="4318920" cy="4285440"/>
          </a:xfrm>
          <a:prstGeom prst="bentConnector4">
            <a:avLst>
              <a:gd name="adj1" fmla="val -33527"/>
              <a:gd name="adj2" fmla="val 1053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0" idx="1"/>
            <a:endCxn id="172" idx="1"/>
          </p:cNvCxnSpPr>
          <p:nvPr/>
        </p:nvCxnSpPr>
        <p:spPr>
          <a:xfrm>
            <a:off x="1979280" y="5011200"/>
            <a:ext cx="865800" cy="7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2" idx="2"/>
            <a:endCxn id="173" idx="1"/>
          </p:cNvCxnSpPr>
          <p:nvPr/>
        </p:nvCxnSpPr>
        <p:spPr>
          <a:xfrm>
            <a:off x="3708360" y="6057720"/>
            <a:ext cx="172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3" idx="2"/>
            <a:endCxn id="171" idx="1"/>
          </p:cNvCxnSpPr>
          <p:nvPr/>
        </p:nvCxnSpPr>
        <p:spPr>
          <a:xfrm flipV="1">
            <a:off x="6299280" y="5010840"/>
            <a:ext cx="792720" cy="7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1" idx="2"/>
            <a:endCxn id="173" idx="3"/>
          </p:cNvCxnSpPr>
          <p:nvPr/>
        </p:nvCxnSpPr>
        <p:spPr>
          <a:xfrm flipH="1" flipV="1" rot="10800000">
            <a:off x="6226560" y="4687560"/>
            <a:ext cx="72360" cy="1045440"/>
          </a:xfrm>
          <a:prstGeom prst="bentConnector4">
            <a:avLst>
              <a:gd name="adj1" fmla="val -320000"/>
              <a:gd name="adj2" fmla="val 654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2" idx="3"/>
            <a:endCxn id="170" idx="2"/>
          </p:cNvCxnSpPr>
          <p:nvPr/>
        </p:nvCxnSpPr>
        <p:spPr>
          <a:xfrm flipV="1" rot="16200000">
            <a:off x="2050920" y="4938840"/>
            <a:ext cx="721800" cy="86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63" idx="3"/>
            <a:endCxn id="170" idx="3"/>
          </p:cNvCxnSpPr>
          <p:nvPr/>
        </p:nvCxnSpPr>
        <p:spPr>
          <a:xfrm flipH="1" flipV="1" rot="10800000">
            <a:off x="1115640" y="3389760"/>
            <a:ext cx="2160" cy="1297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708360" y="328140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08360" y="4653000"/>
            <a:ext cx="1727280" cy="64908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su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5" idx="0"/>
            <a:endCxn id="184" idx="0"/>
          </p:cNvCxnSpPr>
          <p:nvPr/>
        </p:nvCxnSpPr>
        <p:spPr>
          <a:xfrm flipV="1">
            <a:off x="4571640" y="3929760"/>
            <a:ext cx="1080" cy="7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85" idx="1"/>
            <a:endCxn id="172" idx="4"/>
          </p:cNvCxnSpPr>
          <p:nvPr/>
        </p:nvCxnSpPr>
        <p:spPr>
          <a:xfrm flipH="1">
            <a:off x="2844000" y="4978080"/>
            <a:ext cx="86436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5" idx="2"/>
            <a:endCxn id="173" idx="4"/>
          </p:cNvCxnSpPr>
          <p:nvPr/>
        </p:nvCxnSpPr>
        <p:spPr>
          <a:xfrm>
            <a:off x="5435280" y="4978080"/>
            <a:ext cx="86436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9" name=""/>
          <p:cNvCxnSpPr>
            <a:stCxn id="184" idx="1"/>
            <a:endCxn id="163" idx="4"/>
          </p:cNvCxnSpPr>
          <p:nvPr/>
        </p:nvCxnSpPr>
        <p:spPr>
          <a:xfrm flipH="1" flipV="1">
            <a:off x="2842560" y="3390480"/>
            <a:ext cx="86580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0" name=""/>
          <p:cNvCxnSpPr>
            <a:stCxn id="184" idx="2"/>
            <a:endCxn id="162" idx="3"/>
          </p:cNvCxnSpPr>
          <p:nvPr/>
        </p:nvCxnSpPr>
        <p:spPr>
          <a:xfrm flipV="1">
            <a:off x="5435640" y="3390480"/>
            <a:ext cx="7927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1" name=""/>
          <p:cNvCxnSpPr>
            <a:stCxn id="184" idx="3"/>
            <a:endCxn id="170" idx="4"/>
          </p:cNvCxnSpPr>
          <p:nvPr/>
        </p:nvCxnSpPr>
        <p:spPr>
          <a:xfrm flipH="1">
            <a:off x="2842560" y="3606480"/>
            <a:ext cx="86580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2" name=""/>
          <p:cNvCxnSpPr>
            <a:stCxn id="184" idx="4"/>
            <a:endCxn id="172" idx="5"/>
          </p:cNvCxnSpPr>
          <p:nvPr/>
        </p:nvCxnSpPr>
        <p:spPr>
          <a:xfrm flipH="1">
            <a:off x="2844000" y="3606480"/>
            <a:ext cx="864360" cy="212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3" name=""/>
          <p:cNvCxnSpPr>
            <a:stCxn id="185" idx="3"/>
            <a:endCxn id="173" idx="5"/>
          </p:cNvCxnSpPr>
          <p:nvPr/>
        </p:nvCxnSpPr>
        <p:spPr>
          <a:xfrm>
            <a:off x="4572000" y="5302080"/>
            <a:ext cx="172800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"/>
          <p:cNvCxnSpPr>
            <a:stCxn id="185" idx="4"/>
            <a:endCxn id="172" idx="6"/>
          </p:cNvCxnSpPr>
          <p:nvPr/>
        </p:nvCxnSpPr>
        <p:spPr>
          <a:xfrm flipH="1">
            <a:off x="2844360" y="5302080"/>
            <a:ext cx="172800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5" name=""/>
          <p:cNvCxnSpPr>
            <a:stCxn id="170" idx="5"/>
            <a:endCxn id="185" idx="5"/>
          </p:cNvCxnSpPr>
          <p:nvPr/>
        </p:nvCxnSpPr>
        <p:spPr>
          <a:xfrm>
            <a:off x="2761920" y="4687560"/>
            <a:ext cx="10278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6" name=""/>
          <p:cNvCxnSpPr>
            <a:stCxn id="171" idx="3"/>
            <a:endCxn id="185" idx="6"/>
          </p:cNvCxnSpPr>
          <p:nvPr/>
        </p:nvCxnSpPr>
        <p:spPr>
          <a:xfrm flipH="1">
            <a:off x="5354280" y="4687560"/>
            <a:ext cx="95472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7" name=""/>
          <p:cNvCxnSpPr>
            <a:stCxn id="184" idx="5"/>
            <a:endCxn id="171" idx="4"/>
          </p:cNvCxnSpPr>
          <p:nvPr/>
        </p:nvCxnSpPr>
        <p:spPr>
          <a:xfrm>
            <a:off x="5435280" y="3606480"/>
            <a:ext cx="87372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8" name=""/>
          <p:cNvCxnSpPr>
            <a:stCxn id="184" idx="6"/>
            <a:endCxn id="164" idx="3"/>
          </p:cNvCxnSpPr>
          <p:nvPr/>
        </p:nvCxnSpPr>
        <p:spPr>
          <a:xfrm flipV="1">
            <a:off x="4571640" y="2098080"/>
            <a:ext cx="864360" cy="118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9" name=""/>
          <p:cNvCxnSpPr>
            <a:stCxn id="184" idx="7"/>
            <a:endCxn id="161" idx="5"/>
          </p:cNvCxnSpPr>
          <p:nvPr/>
        </p:nvCxnSpPr>
        <p:spPr>
          <a:xfrm flipH="1" flipV="1">
            <a:off x="3707640" y="2098080"/>
            <a:ext cx="864360" cy="118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B0D-3E5C-46CE-BF57-29198754E8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tapa 3: Sistemas integrad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45080" y="3506760"/>
            <a:ext cx="1655640" cy="1214640"/>
          </a:xfrm>
          <a:prstGeom prst="can">
            <a:avLst>
              <a:gd name="adj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ase de da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95400" y="249228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093080" y="3355920"/>
            <a:ext cx="172692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3355920"/>
            <a:ext cx="172692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19880" y="2492280"/>
            <a:ext cx="1726920" cy="64944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esor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4219560"/>
            <a:ext cx="172692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4219560"/>
            <a:ext cx="172692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mp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95400" y="5083200"/>
            <a:ext cx="172728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19880" y="5083200"/>
            <a:ext cx="1726920" cy="6494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ven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08360" y="162864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5948280"/>
            <a:ext cx="1727280" cy="6494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su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1" idx="1"/>
            <a:endCxn id="205" idx="0"/>
          </p:cNvCxnSpPr>
          <p:nvPr/>
        </p:nvCxnSpPr>
        <p:spPr>
          <a:xfrm flipV="1">
            <a:off x="4573080" y="3141360"/>
            <a:ext cx="18104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3" name=""/>
          <p:cNvCxnSpPr>
            <a:stCxn id="201" idx="1"/>
            <a:endCxn id="210" idx="0"/>
          </p:cNvCxnSpPr>
          <p:nvPr/>
        </p:nvCxnSpPr>
        <p:spPr>
          <a:xfrm flipH="1" flipV="1">
            <a:off x="4571640" y="2277360"/>
            <a:ext cx="2160" cy="122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4" name=""/>
          <p:cNvCxnSpPr>
            <a:stCxn id="201" idx="1"/>
            <a:endCxn id="202" idx="0"/>
          </p:cNvCxnSpPr>
          <p:nvPr/>
        </p:nvCxnSpPr>
        <p:spPr>
          <a:xfrm flipH="1" flipV="1">
            <a:off x="2758680" y="3141360"/>
            <a:ext cx="181512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01" idx="2"/>
            <a:endCxn id="206" idx="0"/>
          </p:cNvCxnSpPr>
          <p:nvPr/>
        </p:nvCxnSpPr>
        <p:spPr>
          <a:xfrm flipH="1">
            <a:off x="2050560" y="4114440"/>
            <a:ext cx="16948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6" name=""/>
          <p:cNvCxnSpPr>
            <a:stCxn id="201" idx="2"/>
            <a:endCxn id="204" idx="0"/>
          </p:cNvCxnSpPr>
          <p:nvPr/>
        </p:nvCxnSpPr>
        <p:spPr>
          <a:xfrm flipH="1" flipV="1">
            <a:off x="2050560" y="3681000"/>
            <a:ext cx="16948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7" name=""/>
          <p:cNvCxnSpPr>
            <a:stCxn id="201" idx="4"/>
            <a:endCxn id="203" idx="0"/>
          </p:cNvCxnSpPr>
          <p:nvPr/>
        </p:nvCxnSpPr>
        <p:spPr>
          <a:xfrm flipV="1">
            <a:off x="5400360" y="3681000"/>
            <a:ext cx="1693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"/>
          <p:cNvCxnSpPr>
            <a:stCxn id="201" idx="4"/>
            <a:endCxn id="207" idx="0"/>
          </p:cNvCxnSpPr>
          <p:nvPr/>
        </p:nvCxnSpPr>
        <p:spPr>
          <a:xfrm>
            <a:off x="5400360" y="4114440"/>
            <a:ext cx="16930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9" name=""/>
          <p:cNvCxnSpPr>
            <a:stCxn id="201" idx="3"/>
            <a:endCxn id="211" idx="0"/>
          </p:cNvCxnSpPr>
          <p:nvPr/>
        </p:nvCxnSpPr>
        <p:spPr>
          <a:xfrm flipH="1">
            <a:off x="4571640" y="4721400"/>
            <a:ext cx="2160" cy="122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0" name=""/>
          <p:cNvCxnSpPr>
            <a:stCxn id="201" idx="3"/>
            <a:endCxn id="208" idx="0"/>
          </p:cNvCxnSpPr>
          <p:nvPr/>
        </p:nvCxnSpPr>
        <p:spPr>
          <a:xfrm flipH="1">
            <a:off x="2758680" y="4721040"/>
            <a:ext cx="181512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1" name=""/>
          <p:cNvCxnSpPr>
            <a:stCxn id="201" idx="3"/>
            <a:endCxn id="209" idx="0"/>
          </p:cNvCxnSpPr>
          <p:nvPr/>
        </p:nvCxnSpPr>
        <p:spPr>
          <a:xfrm>
            <a:off x="4573080" y="4721040"/>
            <a:ext cx="181044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179280" y="1557360"/>
            <a:ext cx="8785440" cy="5111640"/>
          </a:xfrm>
          <a:prstGeom prst="rect">
            <a:avLst/>
          </a:prstGeom>
          <a:solidFill>
            <a:srgbClr val="ff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76920" y="609300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1B9-AC6A-413E-82D9-D3805FB3B4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Integración de sistemas</a:t>
            </a:r>
            <a:br>
              <a:rPr sz="3000"/>
            </a:b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tapa 4: Integración con entorn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252960" y="3216240"/>
            <a:ext cx="2636640" cy="2706840"/>
            <a:chOff x="3252960" y="3216240"/>
            <a:chExt cx="2636640" cy="270684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 rot="5400000">
              <a:off x="3217680" y="3251160"/>
              <a:ext cx="2706840" cy="26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001040" y="3983040"/>
              <a:ext cx="1141560" cy="1172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E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83280" y="479304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C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89840" y="461304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S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43720" y="51328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S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96320" y="3447360"/>
              <a:ext cx="3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lack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979560" y="4067280"/>
            <a:ext cx="1258920" cy="9144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ove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05520" y="4067280"/>
            <a:ext cx="1258920" cy="9144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32" idx="6"/>
            <a:endCxn id="226" idx="2"/>
          </p:cNvCxnSpPr>
          <p:nvPr/>
        </p:nvCxnSpPr>
        <p:spPr>
          <a:xfrm>
            <a:off x="2238480" y="4524480"/>
            <a:ext cx="1018080" cy="46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235" name=""/>
          <p:cNvCxnSpPr>
            <a:stCxn id="226" idx="0"/>
            <a:endCxn id="233" idx="2"/>
          </p:cNvCxnSpPr>
          <p:nvPr/>
        </p:nvCxnSpPr>
        <p:spPr>
          <a:xfrm flipV="1">
            <a:off x="5892480" y="4524120"/>
            <a:ext cx="1013400" cy="46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3941640" y="1577880"/>
            <a:ext cx="1258920" cy="9144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ue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6" idx="4"/>
            <a:endCxn id="226" idx="1"/>
          </p:cNvCxnSpPr>
          <p:nvPr/>
        </p:nvCxnSpPr>
        <p:spPr>
          <a:xfrm>
            <a:off x="4572000" y="2492280"/>
            <a:ext cx="2160" cy="72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5F34-549B-467A-BCC0-833D91FB5F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2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inter-empres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odelo de intercambi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50920" y="2349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50920" y="3573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50920" y="4797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80000" y="2349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80000" y="3573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80000" y="4797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2" idx="2"/>
            <a:endCxn id="239" idx="6"/>
          </p:cNvCxnSpPr>
          <p:nvPr/>
        </p:nvCxnSpPr>
        <p:spPr>
          <a:xfrm flipH="1">
            <a:off x="2663640" y="2806200"/>
            <a:ext cx="3816720" cy="1080"/>
          </a:xfrm>
          <a:prstGeom prst="straightConnector1">
            <a:avLst/>
          </a:prstGeom>
          <a:ln w="9360">
            <a:solidFill>
              <a:srgbClr val="d8d8e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6" name=""/>
          <p:cNvCxnSpPr>
            <a:stCxn id="242" idx="2"/>
            <a:endCxn id="240" idx="6"/>
          </p:cNvCxnSpPr>
          <p:nvPr/>
        </p:nvCxnSpPr>
        <p:spPr>
          <a:xfrm flipH="1">
            <a:off x="2663640" y="2806560"/>
            <a:ext cx="3816720" cy="1224720"/>
          </a:xfrm>
          <a:prstGeom prst="straightConnector1">
            <a:avLst/>
          </a:prstGeom>
          <a:ln w="9360">
            <a:solidFill>
              <a:srgbClr val="d8d8e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7" name=""/>
          <p:cNvCxnSpPr>
            <a:stCxn id="242" idx="2"/>
            <a:endCxn id="241" idx="6"/>
          </p:cNvCxnSpPr>
          <p:nvPr/>
        </p:nvCxnSpPr>
        <p:spPr>
          <a:xfrm flipH="1">
            <a:off x="2663640" y="2806560"/>
            <a:ext cx="3816720" cy="2448720"/>
          </a:xfrm>
          <a:prstGeom prst="straightConnector1">
            <a:avLst/>
          </a:prstGeom>
          <a:ln w="9360">
            <a:solidFill>
              <a:srgbClr val="d8d8e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8" name=""/>
          <p:cNvCxnSpPr>
            <a:stCxn id="243" idx="2"/>
            <a:endCxn id="239" idx="6"/>
          </p:cNvCxnSpPr>
          <p:nvPr/>
        </p:nvCxnSpPr>
        <p:spPr>
          <a:xfrm flipH="1" flipV="1">
            <a:off x="2663640" y="2806200"/>
            <a:ext cx="3816720" cy="1224720"/>
          </a:xfrm>
          <a:prstGeom prst="straightConnector1">
            <a:avLst/>
          </a:prstGeom>
          <a:ln w="9360">
            <a:solidFill>
              <a:srgbClr val="7e9ce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9" name=""/>
          <p:cNvCxnSpPr>
            <a:stCxn id="243" idx="2"/>
            <a:endCxn id="240" idx="6"/>
          </p:cNvCxnSpPr>
          <p:nvPr/>
        </p:nvCxnSpPr>
        <p:spPr>
          <a:xfrm flipH="1">
            <a:off x="2663640" y="4030200"/>
            <a:ext cx="3816720" cy="1080"/>
          </a:xfrm>
          <a:prstGeom prst="straightConnector1">
            <a:avLst/>
          </a:prstGeom>
          <a:ln w="9360">
            <a:solidFill>
              <a:srgbClr val="7e9ce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0" name=""/>
          <p:cNvCxnSpPr/>
          <p:nvPr/>
        </p:nvCxnSpPr>
        <p:spPr>
          <a:xfrm flipH="1">
            <a:off x="2699640" y="4005360"/>
            <a:ext cx="3817080" cy="1224720"/>
          </a:xfrm>
          <a:prstGeom prst="straightConnector1">
            <a:avLst/>
          </a:prstGeom>
          <a:ln w="9360">
            <a:solidFill>
              <a:srgbClr val="7e9ce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1" name=""/>
          <p:cNvCxnSpPr>
            <a:stCxn id="244" idx="2"/>
            <a:endCxn id="239" idx="6"/>
          </p:cNvCxnSpPr>
          <p:nvPr/>
        </p:nvCxnSpPr>
        <p:spPr>
          <a:xfrm flipH="1" flipV="1">
            <a:off x="2663640" y="2806200"/>
            <a:ext cx="3816720" cy="2448720"/>
          </a:xfrm>
          <a:prstGeom prst="straightConnector1">
            <a:avLst/>
          </a:prstGeom>
          <a:ln w="9360">
            <a:solidFill>
              <a:srgbClr val="66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2" name=""/>
          <p:cNvCxnSpPr>
            <a:stCxn id="244" idx="2"/>
            <a:endCxn id="240" idx="6"/>
          </p:cNvCxnSpPr>
          <p:nvPr/>
        </p:nvCxnSpPr>
        <p:spPr>
          <a:xfrm flipH="1" flipV="1">
            <a:off x="2663640" y="4030200"/>
            <a:ext cx="3816720" cy="1224720"/>
          </a:xfrm>
          <a:prstGeom prst="straightConnector1">
            <a:avLst/>
          </a:prstGeom>
          <a:ln w="9360">
            <a:solidFill>
              <a:srgbClr val="6699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3" name=""/>
          <p:cNvCxnSpPr>
            <a:stCxn id="244" idx="2"/>
            <a:endCxn id="241" idx="6"/>
          </p:cNvCxnSpPr>
          <p:nvPr/>
        </p:nvCxnSpPr>
        <p:spPr>
          <a:xfrm flipH="1">
            <a:off x="2663640" y="5254200"/>
            <a:ext cx="3816720" cy="1080"/>
          </a:xfrm>
          <a:prstGeom prst="straightConnector1">
            <a:avLst/>
          </a:prstGeom>
          <a:ln w="9360">
            <a:solidFill>
              <a:srgbClr val="6699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9601-985B-4A08-BF74-F62A796617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626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tegración inter-empresas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rketplac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50920" y="2349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50920" y="3573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50920" y="4797360"/>
            <a:ext cx="1513080" cy="914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80000" y="2349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80000" y="3573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80000" y="4797360"/>
            <a:ext cx="15130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14920" y="3573360"/>
            <a:ext cx="1512720" cy="9144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et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"/>
          <p:cNvCxnSpPr>
            <a:stCxn id="255" idx="6"/>
            <a:endCxn id="261" idx="2"/>
          </p:cNvCxnSpPr>
          <p:nvPr/>
        </p:nvCxnSpPr>
        <p:spPr>
          <a:xfrm>
            <a:off x="2663640" y="2806560"/>
            <a:ext cx="115164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3" name=""/>
          <p:cNvCxnSpPr>
            <a:stCxn id="256" idx="6"/>
            <a:endCxn id="261" idx="2"/>
          </p:cNvCxnSpPr>
          <p:nvPr/>
        </p:nvCxnSpPr>
        <p:spPr>
          <a:xfrm>
            <a:off x="2663640" y="4030200"/>
            <a:ext cx="115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"/>
          <p:cNvCxnSpPr>
            <a:stCxn id="257" idx="6"/>
            <a:endCxn id="261" idx="2"/>
          </p:cNvCxnSpPr>
          <p:nvPr/>
        </p:nvCxnSpPr>
        <p:spPr>
          <a:xfrm flipV="1">
            <a:off x="2663640" y="4030200"/>
            <a:ext cx="115164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"/>
          <p:cNvCxnSpPr>
            <a:stCxn id="261" idx="6"/>
            <a:endCxn id="258" idx="2"/>
          </p:cNvCxnSpPr>
          <p:nvPr/>
        </p:nvCxnSpPr>
        <p:spPr>
          <a:xfrm flipV="1">
            <a:off x="5327280" y="2806200"/>
            <a:ext cx="115272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6" name=""/>
          <p:cNvCxnSpPr>
            <a:stCxn id="261" idx="6"/>
            <a:endCxn id="259" idx="2"/>
          </p:cNvCxnSpPr>
          <p:nvPr/>
        </p:nvCxnSpPr>
        <p:spPr>
          <a:xfrm>
            <a:off x="5327280" y="4030200"/>
            <a:ext cx="115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0" idx="2"/>
          </p:cNvCxnSpPr>
          <p:nvPr/>
        </p:nvCxnSpPr>
        <p:spPr>
          <a:xfrm>
            <a:off x="5327280" y="4030560"/>
            <a:ext cx="1152720" cy="12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EB1-BA4C-476D-9A51-838E499343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Cloud"/>
          <p:cNvSpPr/>
          <p:nvPr/>
        </p:nvSpPr>
        <p:spPr>
          <a:xfrm>
            <a:off x="2987640" y="1900080"/>
            <a:ext cx="1262160" cy="4768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I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N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1844640"/>
            <a:ext cx="4321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arketplace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ormas de interconexión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32720" y="3500280"/>
            <a:ext cx="1871640" cy="1511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a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43280" y="5156280"/>
            <a:ext cx="3961080" cy="72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io de mensaj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3280" y="3500280"/>
            <a:ext cx="1873440" cy="151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oste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43280" y="2637000"/>
            <a:ext cx="3961080" cy="72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icios de valor agre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823000" y="20541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ket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0920" y="2349360"/>
            <a:ext cx="136836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5068800"/>
            <a:ext cx="136836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08000" y="5068800"/>
            <a:ext cx="863640" cy="9144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1480" y="184464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Hoste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6" idx="3"/>
            <a:endCxn id="273" idx="1"/>
          </p:cNvCxnSpPr>
          <p:nvPr/>
        </p:nvCxnSpPr>
        <p:spPr>
          <a:xfrm>
            <a:off x="1619280" y="2806200"/>
            <a:ext cx="3024720" cy="145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1" name=""/>
          <p:cNvCxnSpPr>
            <a:stCxn id="277" idx="3"/>
            <a:endCxn id="278" idx="1"/>
          </p:cNvCxnSpPr>
          <p:nvPr/>
        </p:nvCxnSpPr>
        <p:spPr>
          <a:xfrm>
            <a:off x="1619280" y="55256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2" name=""/>
          <p:cNvCxnSpPr>
            <a:stCxn id="278" idx="3"/>
            <a:endCxn id="272" idx="1"/>
          </p:cNvCxnSpPr>
          <p:nvPr/>
        </p:nvCxnSpPr>
        <p:spPr>
          <a:xfrm flipV="1">
            <a:off x="2771280" y="5516280"/>
            <a:ext cx="18723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3" name=""/>
          <p:cNvCxnSpPr>
            <a:stCxn id="272" idx="2"/>
            <a:endCxn id="284" idx="3"/>
          </p:cNvCxnSpPr>
          <p:nvPr/>
        </p:nvCxnSpPr>
        <p:spPr>
          <a:xfrm rot="5400000">
            <a:off x="3841200" y="3654360"/>
            <a:ext cx="560880" cy="5006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Letter"/>
          <p:cNvSpPr/>
          <p:nvPr/>
        </p:nvSpPr>
        <p:spPr>
          <a:xfrm>
            <a:off x="2987640" y="5445000"/>
            <a:ext cx="432000" cy="287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6203880"/>
            <a:ext cx="1368360" cy="46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77" idx="2"/>
            <a:endCxn id="284" idx="0"/>
          </p:cNvCxnSpPr>
          <p:nvPr/>
        </p:nvCxnSpPr>
        <p:spPr>
          <a:xfrm>
            <a:off x="934560" y="5982840"/>
            <a:ext cx="10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7" name="Lock"/>
          <p:cNvSpPr/>
          <p:nvPr/>
        </p:nvSpPr>
        <p:spPr>
          <a:xfrm>
            <a:off x="2268360" y="6165720"/>
            <a:ext cx="268560" cy="4525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2840" y="450864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te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FBC-9F47-475E-A417-F5EE58D2A9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500" spc="-1" strike="noStrike">
                <a:solidFill>
                  <a:srgbClr val="330066"/>
                </a:solidFill>
                <a:latin typeface="Arial"/>
              </a:rPr>
              <a:t>Marketplace</a:t>
            </a:r>
            <a:br>
              <a:rPr sz="3500"/>
            </a:br>
            <a:r>
              <a:rPr b="1" lang="es-MX" sz="3500" spc="-1" strike="noStrike">
                <a:solidFill>
                  <a:srgbClr val="330066"/>
                </a:solidFill>
                <a:latin typeface="Arial"/>
              </a:rPr>
              <a:t>Funcionalidad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87280" y="4869000"/>
            <a:ext cx="6696360" cy="50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 Black"/>
              </a:rPr>
              <a:t>Vend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87280" y="2492280"/>
            <a:ext cx="6696360" cy="505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Compr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87280" y="3427560"/>
            <a:ext cx="187200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Nego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98920" y="3427560"/>
            <a:ext cx="187164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Fluj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12000" y="3429000"/>
            <a:ext cx="1871640" cy="10080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Servicios de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Valor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Arial Black"/>
              </a:rPr>
              <a:t>Agreg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"/>
          <p:cNvCxnSpPr>
            <a:stCxn id="291" idx="2"/>
            <a:endCxn id="292" idx="0"/>
          </p:cNvCxnSpPr>
          <p:nvPr/>
        </p:nvCxnSpPr>
        <p:spPr>
          <a:xfrm flipH="1">
            <a:off x="2123280" y="2997000"/>
            <a:ext cx="241236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6" name=""/>
          <p:cNvCxnSpPr>
            <a:stCxn id="291" idx="2"/>
            <a:endCxn id="293" idx="0"/>
          </p:cNvCxnSpPr>
          <p:nvPr/>
        </p:nvCxnSpPr>
        <p:spPr>
          <a:xfrm>
            <a:off x="4535280" y="2997000"/>
            <a:ext cx="10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"/>
          <p:cNvCxnSpPr>
            <a:stCxn id="291" idx="2"/>
            <a:endCxn id="294" idx="0"/>
          </p:cNvCxnSpPr>
          <p:nvPr/>
        </p:nvCxnSpPr>
        <p:spPr>
          <a:xfrm>
            <a:off x="4535640" y="2997000"/>
            <a:ext cx="241344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8" name=""/>
          <p:cNvCxnSpPr>
            <a:stCxn id="290" idx="0"/>
            <a:endCxn id="292" idx="2"/>
          </p:cNvCxnSpPr>
          <p:nvPr/>
        </p:nvCxnSpPr>
        <p:spPr>
          <a:xfrm flipH="1" flipV="1">
            <a:off x="2123280" y="4435200"/>
            <a:ext cx="24123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" name=""/>
          <p:cNvCxnSpPr>
            <a:stCxn id="290" idx="0"/>
            <a:endCxn id="293" idx="2"/>
          </p:cNvCxnSpPr>
          <p:nvPr/>
        </p:nvCxnSpPr>
        <p:spPr>
          <a:xfrm flipV="1">
            <a:off x="4535280" y="44352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" name=""/>
          <p:cNvCxnSpPr>
            <a:stCxn id="290" idx="0"/>
            <a:endCxn id="294" idx="2"/>
          </p:cNvCxnSpPr>
          <p:nvPr/>
        </p:nvCxnSpPr>
        <p:spPr>
          <a:xfrm flipV="1">
            <a:off x="4535640" y="4436640"/>
            <a:ext cx="241344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971640" y="3284640"/>
            <a:ext cx="7129440" cy="1295280"/>
          </a:xfrm>
          <a:prstGeom prst="rect">
            <a:avLst/>
          </a:prstGeom>
          <a:noFill/>
          <a:ln cap="rnd" w="2844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7680" y="457992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33"/>
                </a:solidFill>
                <a:latin typeface="Arial Black"/>
              </a:rPr>
              <a:t>Market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6A76-8920-4BB0-9C07-52D7CA4D37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5:34:13Z</dcterms:created>
  <dc:creator>Patricio Renner P.</dc:creator>
  <dc:description/>
  <dc:language>en-US</dc:language>
  <cp:lastModifiedBy>Patricio Renner</cp:lastModifiedBy>
  <dcterms:modified xsi:type="dcterms:W3CDTF">2005-09-28T18:39:26Z</dcterms:modified>
  <cp:revision>8</cp:revision>
  <dc:subject/>
  <dc:title>Tecnologías de información para la gestión de abastecimiento</dc:title>
</cp:coreProperties>
</file>