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3F2-CE30-40B5-AD49-67AC393D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15E5-C4B5-4203-BB47-713529A3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673C-A546-4132-8CBB-40F44A98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957-6A7C-425C-B264-6E6B1AC3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6A36-F936-45DF-B674-3D85AF74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5C2F-CA61-46DA-A105-2276CC03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4E20-AA08-4E81-B8BC-5AEE09F7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5C2E-DFEC-4F0C-9691-6696BF93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5EEF-4D9B-4C07-857B-F06A3C65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BA01-385D-40F9-AD5C-83292258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7BA9-3575-46DF-8333-5DA81A59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7313-BF8A-4FC0-BBAD-695F58BD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943F-C843-4ECE-B70F-E844A7D1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4C5F-5B0F-46CD-96F8-4750B20B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58D6-82ED-497E-A05E-D10F26CB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E478-26C6-4D03-BB47-D5F7E4B2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87C1-4EE1-4F45-8007-8C66F418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2B1B-5D88-424D-B080-FBEA8006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C87-4301-45B9-A7DA-0ABD0A73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0691-A9B7-4DCF-92F3-90F28FBE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163-E248-479E-A165-64FC8A83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802-A052-4345-AAB2-6DFE73EF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91EE-3175-4510-B988-59706144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2AB-E0AA-436F-A936-1D167153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516B-9E13-44E7-AF34-7451F92F7E1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35D2-9487-4AE8-9064-ECAC4347185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Gestión estratégica de licitaciones (parte 3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FI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equest fo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canismo que se usa durante los estudios pre-licitatorios, para realizar consultas públicas y abiertas a los posibles proveedores de una 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Usos de la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er nuevas soluciones que está ofreciendo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r espacio a los proveedores para que propongan modelo de negocios, que den eficiencia a la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jorar la redacción de las bases de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s de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 la plataforma ChileComp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 la ruta 5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l Registro Nacional de 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sistema clínico y financiero Integra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5. Preparación de las bas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contractual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orporar en las bases de licitación las condiciones relevantes del contrato a firm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ite administrar la parte central de la negociación en condiciones de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ite darse cuenta en qué medida los proveedores pueden satisfacer las condiciones contractuales relevantes para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ite conocer en forma anticipada los elementos que deberán ser abordados en la negociación del contrato defini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contractual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os a consider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gulaciones o restricciones leg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iveles de servicio exigi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ciones de prest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anismo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canismos de actualización de precios y/o revisión de las condiciones contractu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canismos de evaluación del cumplimi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ltas y mecanismos de aplic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diciones de término del contra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arantías y segu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 general, cualquier elemento que pueda incidir en los costos o en el nivel de riesgo que va a asumir el propone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acción de las b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ir un documento de síntesis, que exprese claramente todas las condiciones relevantes que deberán ser satisfechas por el provee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bajar en equipos multidiscipli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tar términos de referencia muy restric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vilegiar opciones que dejen espacios de libertad al provee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r claramente el programa de actividades de la lici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ejar equipos revisores independientes de los redac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visión y redac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egurar que las bases de licitación expresen adecuadamente las condiciones de satisfacción del servicio, se adecuen a las regulaciones y normativas vigentes, y hayan seguido los trámites de formalización correspondient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meter a procesos de revisión exhaustivo los términos de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iderar una consulta pública de las bases a los proveedores (RFI) en las licitaciones de mayor 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tilizar Checklist para revisar que todos los elementos relevantes en la preparación de la licitación han sido cubier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alizar los procedimientos internos de formalización de las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Manejo político institucional de la licitación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aliz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dentificar a los actores relevantes del proc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nalizar el poder que tienen para incidir en el proceso, y su predisposición a colaborar / opone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der de los clientes-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der de la unidad compr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der de los organismos supervisores (Hacienda / Dipres / Midepl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tros actores relevantes  (Asociaciones gremiales / Fiscalía Nacional Económica / Opinión Públ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nalizar posibles objeciones frente al proceso de lici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par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trategia comunicacional del proce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ia los clientes-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ia los 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ia otros agente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tección de la 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ción del modelo, sus fundamentos y los impactos estimados a los actore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de manejo de obje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ia a otros casos similares y los impactos que han 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anzas con actores relevantes del ent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jurídico (recurrir a otras experiencias similares, consultar a la jurisprude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Algunas reflexiones al cierr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sistémico de gestión de licit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63640" y="1352520"/>
          <a:ext cx="561672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352520"/>
                    <a:ext cx="561672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omend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thing first” (Peter Druck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orizar las compras de mayor impac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to de la comp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ortunidades de mejor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izar experiencias pilo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lo van a hacer solos, no partir por lo más difíc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mbios en la forma en que compramos demandan esfuerzos de meses, y requieren que destinemos nuestros mejores recu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rtir en el proceso de compra: un seguro para comprar bi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ner conciencia del proceso de aprendiza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bajo T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1: Selección del te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Acotar el te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Justificar la selección del te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2: Alternativ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dentificar las alternativas a evalu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3: Cos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dentificar los ítems de costo que se considerarán en el mode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Cuantificar los cos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3: Supues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ndicar los supuestos empleados en el modelo y su justific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4: Cálculo del TC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ntregar planilla Excel con detalle de los cálcul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Mostrar resultados en el infor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5: Comparación TCO v/s prec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Analizar si se producen diferencias la decisión que se tomaría con el TCO v/s la que se tomaría sólo con el prec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4. Especificar la necesida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cribir los requerimientos en función de los resultados que se quieren obtener y no de la forma de obtenerl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alizar un análisis en profundidad de los requerimientos, que permita caracterizar los resultados dese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arrollar una estructuración del problema que asegure el cumplimiento de los objetivos anteri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ferencias en la literatura técn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tatement of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vice level agre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916280"/>
            <a:ext cx="2303640" cy="86328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54560" y="1916280"/>
            <a:ext cx="2303280" cy="86328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1916280"/>
            <a:ext cx="2303640" cy="86328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stánd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313992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resultados tienen que obtenerse para satisfacer los requerimient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19640" y="3139920"/>
            <a:ext cx="223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objetivos deben cumplirse para evaluar satisfactoriamente cada uno de esos resultad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3139920"/>
            <a:ext cx="223200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indicadores deben emplearse para evaluar el cumplimiento de los objetiv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Cuáles son los estándares para cada uno de estos indicador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tolerancia podemos acept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heckli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lementos para que los oferentes preparen una buena oferta técnica?¿Están claramente especificados los resultados?¿Son realistas los objetivos y met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lementos para que los oferentes preparen una oferta económica adecuada? ¿Cuentan con los antecedentes para dimensionar la envergadura del proyecto y los costos asociad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stándares de calidad claramente especificados, de modo que todos los participantes puedan evaluar su performanc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Hay restricciones innecesari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claramente definidas las condiciones de entrega? (cantidad, oportunidad, mecanismos de coordinación, tiempos de respuest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 incluido toda la documentación de referencia necesaria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n estudiado e incorporado normas y estándares de calidad para la definición de las especificaciones del trabajo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n especificado claramente los requerimientos de información al proveedor, en una sección separada? ¿Se han eliminado o aclarado requerimientos de información extraños o ambigu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valuar en qué medida se están satisfaciendo las condiciones de la especificación del trabaj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de evaluación de perform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fine la forma en que el personal de la institución evaluará y valorará la performance del proveedor o contratis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 un documento dinámico, que debe ser revisado o modificado cuando las condiciones lo amerit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á basado en la premisa que el proveedor o contratista es responsable por el control de calidad de los servicios entregad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ejecución de este plan nunca debe ser entregada al contratis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de control de calid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á orientado a controlar en forma permanente que los servicios se estén entregando en forma adecuad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be ser de responsabilidad del proveed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estreo aleato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estreo perió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álisis de tend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roalimentación de los cli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torías de c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, Contenidos del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es y responsab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s de eval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das correcti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rtificación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ficación de los reportes de discrepa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imientos de reclamos de clientes y plan de entren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9:49:55Z</dcterms:created>
  <dc:creator>Patricio Renner P.</dc:creator>
  <dc:description/>
  <dc:language>en-US</dc:language>
  <cp:lastModifiedBy>Patricio Renner P.</cp:lastModifiedBy>
  <dcterms:modified xsi:type="dcterms:W3CDTF">2004-09-02T12:22:30Z</dcterms:modified>
  <cp:revision>6</cp:revision>
  <dc:subject/>
  <dc:title>Cómo enfrentar procesos de compra poco competitivos</dc:title>
</cp:coreProperties>
</file>