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4D9-21F8-4658-8A78-4F322B88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92D-CE4C-4707-AF7E-255BC10D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279-1A3A-4CFB-A7B0-30F5D1B1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254-CE0E-4F8E-89D4-D8DE8345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95B3-B57D-4357-A834-030D21B9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6D02-FD84-46E7-9205-3E34CE2F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2863-8280-48BB-A6C8-B1A7FF21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E984-0F63-4D22-ABB1-B863AD41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4E14-2F1F-47D6-883B-135DDF5A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D45C-2B46-401D-9403-2BF1F35F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6717-384D-4EBB-A12D-F005EF90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566-35F5-44A1-BBAE-5BC34C20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022A-445D-4B1F-BD30-09FA5E27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C891-1B85-4E20-B4C3-BDFE055D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138A-FFB7-408C-A257-050DB38A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9620-47F0-45D1-AF48-6CDD4790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C180-0351-4448-8371-9B847840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295-AE7F-4117-906F-A6547777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5BD-2613-408B-9C69-B2D7CBD2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F6D-DEA9-4233-B5B3-BADB2429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D4F-7C1B-4A18-B0DD-9121FC9F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568-AAF4-43FE-8934-3FDCE0C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DD6-CF0A-45E5-8269-0164C95C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D4C-9393-4F21-B220-3750A471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4F36-1155-415C-B535-1C023DB3F39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83FC-21E2-446A-90C1-0A4EE1C8E66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3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5. Preparación de las ba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contractual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r en las bases de licitación las condiciones relevantes del contrato a firm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administrar la parte central de la negociación en condiciones de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darse cuenta en qué medida los proveedores pueden satisfacer las condiciones contractuales relevantes par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conocer en forma anticipada los elementos que deberán ser abordados en la negociación del contrato defin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contractual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os a conside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ciones o restricciones leg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iveles de servicio exig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prest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canismos de actualización de precios y/o revisión de las condiciones contractu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canismos de evaluación del cumplimi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as y mecanismos de apl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diciones de término del contra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arantías y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general, cualquier elemento que pueda incidir en los costos o en el nivel de riesgo que va a asumir el propon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 las b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ir un documento de síntesis, que exprese claramente todas las condiciones relevantes que deberán ser satisfechas por e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ar en equipos multidiscipl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términos de referencia muy restric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ilegiar opciones que dejen espacios de libertad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claramente el programa de actividades de la li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ejar equipos revisores independientes de los red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y reda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egurar que las bases de licitación expresen adecuadamente las condiciones de satisfacción del servicio, se adecuen a las regulaciones y normativas vigentes, y hayan seguido los trámites de formalización correspondi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meter a procesos de revisión exhaustivo los términos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derar una consulta pública de las bases a los proveedores (RFI) en las licitaciones de mayor 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zar Checklist para revisar que todos los elementos relevantes en la preparación de la licitación han sido cubie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lizar los procedimientos internos de formalización de la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Manejo político institucional de la licitación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dentificar a los actores relevantes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alizar el poder que tienen para incidir en el proceso, y su predisposición a colaborar / opon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os clientes-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a unidad compr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os organismos supervisores (Hacienda / Dipres / Midepl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tros actores relevantes  (Asociaciones gremiales / Fiscalía Nacional Económica / Opinión Públ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alizar posibles objeciones frente al proceso de li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pa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rategia comunicacional d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los clientes-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los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otros agent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ección de l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ción del modelo, sus fundamentos y los impactos estimados a los actor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de manejo de obje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 a otros casos similares y los impactos que han 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anzas con actores relevantes 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jurídico (recurrir a otras experiencias similares, consultar a la jurisprud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lgunas reflexiones al cierr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mend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thing first” (Peter Druck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orizar las compras de mayor impa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o de la comp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ortunidades de mejor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xperiencias pilo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 van a hacer solos, no partir por lo más difí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bios en la forma en que compramos demandan esfuerzos de meses, y requieren que destinemos nuestros mejores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rtir en el proceso de compra: un seguro para comprar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er conciencia del proceso de aprendiz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bajo T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1: Selección del 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cotar el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Justificar la selección del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2: Alternativ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dentificar las alternativas a evalu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3: Co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dentificar los ítems de costo que se considerarán en el mode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uantificar los cos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3: Supue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dicar los supuestos empleados en el modelo y su justific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4: Cálculo del T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tregar planilla Excel con detalle de los cálcu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ostrar resultados en el infor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5: Comparación TCO v/s pre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nalizar si se producen diferencias la decisión que se tomaría con el TCO v/s la que se tomaría sólo con el 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22:30Z</dcterms:modified>
  <cp:revision>6</cp:revision>
  <dc:subject/>
  <dc:title>Cómo enfrentar procesos de compra poco competitivos</dc:title>
</cp:coreProperties>
</file>