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E40F-EC0A-45B2-BDF9-1634DE217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B540-FA59-4152-8240-D87744D5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94F0-161E-4726-862D-E58376DCA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5FE9-6B1A-4176-829B-9FD77B064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F5FB-C936-4817-A4E9-7968BCA43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B495-4ABC-40A7-82C2-9B434528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FBA4-D09A-4AD2-9084-FC5F7A86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D3FB-A088-45C7-A289-D641A8F9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CE4A-30DC-4669-9D2D-CC7B0A36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A1FC-EBD2-4BDB-BE94-BCDC8C2A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9987-5BBF-40CD-9A39-A983984C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E491-1579-41EB-8014-05DB023E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4207-0475-4ECB-9CB9-3961D34B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A2A65-D413-4FF5-AF24-FC70B400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943F-AB34-4638-9E6C-D5699BCE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8E6A-3778-4981-A9FE-FED09C112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81CF-3E84-4C39-88C5-CC1DC6F43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34C7-25ED-4598-95E4-077E49C3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75A2-166B-450C-8401-E1ADCE6D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955E-3BB4-4E7F-9434-51C89B7E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0368-42A0-4993-9EC8-B5CDEE04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957A-2DD7-493D-BF40-D4403EBB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4524-A1C9-45C0-869C-356F1021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A817-6FF7-48C4-B7A1-14A20E29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E9BD-AFED-442F-8E30-5F69C4BEAC42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2B5F-D2B6-41C5-A371-F48EC5EBA777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1238040"/>
            <a:ext cx="6551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0066"/>
                </a:solidFill>
                <a:latin typeface="Arial"/>
              </a:rPr>
              <a:t>Gestión estratégica de licitaciones (parte 2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626920" y="3860280"/>
            <a:ext cx="446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5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cio Re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patricio.renner@dyg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RFI</a:t>
            </a:r>
            <a:br>
              <a:rPr sz="3900"/>
            </a:b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Request for inform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ecanismo que se usa durante los estudios pre-licitatorios, para realizar consultas públicas y abiertas a los posibles proveedores de una licit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Usos de la RF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ocer nuevas soluciones que está ofreciendo e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ar espacio a los proveedores para que propongan modelo de negocios, que den eficiencia a la li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jorar la redacción de las bases de li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jemplos de RF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de la plataforma ChileComp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de la ruta 5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del Registro Nacional de Provee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sistema clínico y financiero Integraméd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ecificación del trabajo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dament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scribir los requerimientos en función de los resultados que se quieren obtener y no de la forma de obtenerl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alizar un análisis en profundidad de los requerimientos, que permita caracterizar los resultados dese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sarrollar una estructuración del problema que asegure el cumplimiento de los objetivos anteri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ferencias en la literatura técn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tatement of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vice level agre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ecificación del trabajo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ces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42920" y="1916280"/>
            <a:ext cx="2303640" cy="863280"/>
          </a:xfrm>
          <a:custGeom>
            <a:avLst/>
            <a:gdLst>
              <a:gd name="textAreaLeft" fmla="*/ 0 w 2303640"/>
              <a:gd name="textAreaRight" fmla="*/ 2304000 w 230364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33" y="0"/>
                </a:lnTo>
                <a:lnTo>
                  <a:pt x="21600" y="10800"/>
                </a:lnTo>
                <a:lnTo>
                  <a:pt x="19233" y="21600"/>
                </a:lnTo>
                <a:lnTo>
                  <a:pt x="0" y="21600"/>
                </a:lnTo>
                <a:lnTo>
                  <a:pt x="236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54560" y="1916280"/>
            <a:ext cx="2303280" cy="863280"/>
          </a:xfrm>
          <a:custGeom>
            <a:avLst/>
            <a:gdLst>
              <a:gd name="textAreaLeft" fmla="*/ 0 w 2303280"/>
              <a:gd name="textAreaRight" fmla="*/ 2303640 w 230328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33" y="0"/>
                </a:lnTo>
                <a:lnTo>
                  <a:pt x="21600" y="10800"/>
                </a:lnTo>
                <a:lnTo>
                  <a:pt x="19233" y="21600"/>
                </a:lnTo>
                <a:lnTo>
                  <a:pt x="0" y="21600"/>
                </a:lnTo>
                <a:lnTo>
                  <a:pt x="236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1916280"/>
            <a:ext cx="2303640" cy="863280"/>
          </a:xfrm>
          <a:custGeom>
            <a:avLst/>
            <a:gdLst>
              <a:gd name="textAreaLeft" fmla="*/ 0 w 2303640"/>
              <a:gd name="textAreaRight" fmla="*/ 2304000 w 230364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33" y="0"/>
                </a:lnTo>
                <a:lnTo>
                  <a:pt x="21600" y="10800"/>
                </a:lnTo>
                <a:lnTo>
                  <a:pt x="19233" y="21600"/>
                </a:lnTo>
                <a:lnTo>
                  <a:pt x="0" y="21600"/>
                </a:lnTo>
                <a:lnTo>
                  <a:pt x="236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stánd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3139920"/>
            <a:ext cx="223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resultados tienen que obtenerse para satisfacer los requerimient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19640" y="3139920"/>
            <a:ext cx="2232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objetivos deben cumplirse para evaluar satisfactoriamente cada uno de esos resultad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867280" y="3139920"/>
            <a:ext cx="223200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indicadores deben emplearse para evaluar el cumplimiento de los objetiv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Cuáles son los estándares para cada uno de estos indicador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tolerancia podemos acepta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Especificación del trabajo:</a:t>
            </a:r>
            <a:br>
              <a:rPr sz="3900"/>
            </a:b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Checkli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Están los elementos para que los oferentes preparen una buena oferta técnica?¿Están claramente especificados los resultados?¿Son realistas los objetivos y meta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Están los elementos para que los oferentes preparen una oferta económica adecuada? ¿Cuentan con los antecedentes para dimensionar la envergadura del proyecto y los costos asociado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Están los estándares de calidad claramente especificados, de modo que todos los participantes puedan evaluar su performance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Hay restricciones innecesaria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Están claramente definidas las condiciones de entrega? (cantidad, oportunidad, mecanismos de coordinación, tiempos de respuest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Se ha incluido toda la documentación de referencia necesaria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Se han estudiado e incorporado normas y estándares de calidad para la definición de las especificaciones del trabajo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Se han especificado claramente los requerimientos de información al proveedor, en una sección separada? ¿Se han eliminado o aclarado requerimientos de información extraños o ambiguo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ción de performance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dament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valuar en qué medida se están satisfaciendo las condiciones de la especificación del trabaj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lan de evaluación de performa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fine la forma en que el personal de la institución evaluará y valorará la performance del proveedor o contratist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 un documento dinámico, que debe ser revisado o modificado cuando las condiciones lo amerite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tá basado en la premisa que el proveedor o contratista es responsable por el control de calidad de los servicios entregado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a ejecución de este plan nunca debe ser entregada al contratist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lan de control de calida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tá orientado a controlar en forma permanente que los servicios se estén entregando en forma adecuad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be ser de responsabilidad del proveedo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ción de performance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étod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estreo aleato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estreo periód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álisis de tende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troalimentación de los cli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ditorías de ca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ción de performance, Contenidos del pl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les y responsabi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s de evalu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didas correctiv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rtificación de los servic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pecificación de los reportes de discrepa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dimientos de reclamos de clientes y plan de entrena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o sistémico de gestión de licitaci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763640" y="1352520"/>
          <a:ext cx="5616720" cy="536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352520"/>
                    <a:ext cx="5616720" cy="53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3. Estrategia de licitación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lgunas definiciones en la estrategia de una licit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Definición del produc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j. Transporte de minerales Chuquicama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Segmentación / Agreg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j. Zonificación oxígen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Integración / desintegración de la cade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j. Servicios de agencia de viajes DIREC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Métodos de negoci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j. Gobierno del Estado de Sao Paulo, Brasi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Manejo político institucional de la licit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j. Plantas PSA en el Hospital Van Bur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lanes de contingenc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¿Cómo se va a enfrentar el caso en que la licitación quede desierta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ecio razon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¿Hasta dónde estamos dispuestos a pagar por el servicio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plicación: constancia del precio ante notari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delo de operación del contra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cedimientos administrativ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cesos logístic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lítica de garantías y mult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spectos financier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rma de pa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odelo de reajus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ambios de regula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trategia: cómo enfrentar monopolios y oligopoli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nerar más competenc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¿Existen otros proveedores que puedan integrarse a la licitación? (nacionales/internacion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Qué ha impedido que participen de licitaciones anterior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. Trampa de la mosca de la fruta - S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e la factibilidad de desarrollar nuevos productores/ofer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. Producción nacional de repuestos - CODEL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crementar el poder de negoci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egar dema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agregar la cadena de serv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r métodos de negociación más agres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mitar cuidadosamente las reglas del ju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étodos de negoci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atálog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cit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bre cerrado primer 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alificación técnica / competencia por 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taje ponderado técnico / econó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b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úmero fijo de rondas (2 o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te a la inversa presencial (número indefinido de rond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te a la inversa virtual (precio dinámico limitado por tiemp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trato marco / contrato de suministr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étodos de negociación I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Formas de evaluación y adjud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r agregación de productos servi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Total glob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Total por produc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arcial por producto / zo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r modalidad de evalu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recio (unitario / tota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untaje (polinomio de evaluación: precio, calidad, etc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icitación combinator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68280" indent="-289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j. el menor precio posible en una lista de 200 prods., adjudicados a no más de 3 provee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68280" indent="-289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citación por zonas con adjudicación parcial, y restricciones interz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álisis de riesg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r en qué forma serán abordados los riesgos en el proceso de licitación y en la ejecución del contra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fuentes de ries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aluar sus posibles impactos/consecu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r medidas de mitig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alizar responsabil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ndan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lecer los requerimientos al provee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4. Especificar la necesidad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9:49:55Z</dcterms:created>
  <dc:creator>Patricio Renner P.</dc:creator>
  <dc:description/>
  <dc:language>en-US</dc:language>
  <cp:lastModifiedBy>Patricio Renner P.</cp:lastModifiedBy>
  <dcterms:modified xsi:type="dcterms:W3CDTF">2004-09-02T12:15:37Z</dcterms:modified>
  <cp:revision>8</cp:revision>
  <dc:subject/>
  <dc:title>Cómo enfrentar procesos de compra poco competitivos</dc:title>
</cp:coreProperties>
</file>