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051-7FD6-4B34-9DE3-313D34FB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D9B-B388-40C0-9889-9751568B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85C-51C7-4C86-B239-57C84685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614-91C0-4C9B-88A5-9F81C159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3C61-77FC-40C9-A0A5-68CADE0B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429D-D3DF-4896-8034-D9057977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952E-FE3D-4111-8E63-06941CF3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E99B-42BA-40A4-8E8F-0863E437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F120-9157-41CE-B3A1-55E172C3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7B78-1A01-4B7B-A4F1-46B50AEE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34A2-0232-45BE-A0AA-B8D3E0ED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5FF-AC7D-47DF-932D-1F56FE41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51FE-033C-4120-AEAB-478162D0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B5E4-EF25-4814-83AD-3F9E81C0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242A-6FE8-42F8-9B4D-A2F28274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3AB9-D295-4FFD-9C08-6010E423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6917-4E38-46FA-8D1D-E5C61BCB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50B-C38D-423E-8533-1218EE18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D85-561A-4CBF-99EA-DB60C5B5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6FC-2B32-4F7D-AA47-28ED2793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705-3F6D-4A4B-9A87-E5C7201F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70A-BC65-4C93-BF8D-461871B5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3E2-B71D-4412-ABA4-B867A122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A2E-9AC3-49CA-A77E-28D2825C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D4D4-1E31-47E1-AA8A-1C58A424E47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1C7D-AA5A-477E-996B-F976DEDEA30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FI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quest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canismo que se usa durante los estudios pre-licitatorios, para realizar consultas públicas y abiertas a los posibles proveedores de un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os de la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er nuevas soluciones que está ofreciendo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 espacio a los proveedores para que propongan modelo de negocios, que den eficiencia a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ar la redacción de las bases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plataforma Chile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ruta 5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l Registro Nacional de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sistema clínico y financiero Integra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cribir los requerimientos en función de los resultados que se quieren obtener y no de la forma de obtener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alizar un análisis en profundidad de los requerimientos, que permita caracterizar los resultados dese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ar una estructuración del problema que asegure el cumplimiento de los objetivos anter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ferencias en la literatura téc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tatement of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vice level agre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54560" y="1916280"/>
            <a:ext cx="2303280" cy="8632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stánd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313992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resultados tienen que obtenerse para satisfacer los requerimien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3139920"/>
            <a:ext cx="223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objetivos deben cumplirse para evaluar satisfactoriamente cada uno de esos result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3139920"/>
            <a:ext cx="22320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ndicadores deben emplearse para evaluar el cumplimiento de los objetiv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es son los estándares para cada uno de estos indicado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tolerancia podemos acept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heck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buena oferta técnica?¿Están claramente especificados los resultados?¿Son realistas los objetivos y met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oferta económica adecuada? ¿Cuentan con los antecedentes para dimensionar la envergadura del proyecto y los costos asociad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stándares de calidad claramente especificados, de modo que todos los participantes puedan evaluar su performanc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Hay restricciones innecesari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claramente definidas las condiciones de entrega? (cantidad, oportunidad, mecanismos de coordinación, tiempos de respuest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 incluido toda la documentación de referencia necesari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tudiado e incorporado normas y estándares de calidad para la definición de las especificaciones del trabajo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pecificado claramente los requerimientos de información al proveedor, en una sección separada? ¿Se han eliminado o aclarado requerimientos de información extraños o ambigu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aluar en qué medida se están satisfaciendo las condiciones de la especificación del trabaj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evaluación de perform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fine la forma en que el personal de la institución evaluará y valorará la performance del proveedor o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 un documento dinámico, que debe ser revisado o modificado cuando las condiciones lo amerit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basado en la premisa que el proveedor o contratista es responsable por el control de calidad de los servicios entrega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ejecución de este plan nunca debe ser entregada al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control de cal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orientado a controlar en forma permanente que los servicios se estén entregando en forma adecua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 ser de responsabilidad del provee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alea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perió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álisis de tend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roalimentación de los cl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orías de c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, Contenidos del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s y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de eval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das correc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tificación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ficación de los reportes de discrepa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 de reclamos de clientes y plan de entren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3. Estrategia de licitació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lgunas definiciones en la estrategia de una licit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finición del produc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Transporte de minerales Chuquica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egmentación / Agreg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Zonificación oxíge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tegración / desintegración de la cade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Servicios de agencia de viajes DIREC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étodos de negoci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Gobierno del Estado de Sao Paulo, Bras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anejo político institucional de la licit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Plantas PSA en el Hospital Van Bu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anes de conting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ómo se va a enfrentar el caso en que la licitación quede desierta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cio razon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Hasta dónde estamos dispuestos a pagar por el servicio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licación: constancia del precio ante notari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delo de operación del contra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dimientos administrativ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sos logístic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lítica de garantías y mult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pectos 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ma de pa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o de reajus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mbios de regul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rategia: cómo enfrentar monopolios y oligopol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r más compet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Existen otros proveedores que puedan integrarse a la licitación? (nacionales/internac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ha impedido que participen de licitaciones anterio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Trampa de la mosca de la fruta - S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a factibilidad de desarrollar nuevos productores/o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Producción nacional de repuestos - CODEL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crementar el poder de negoci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gar de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gregar la caden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r métodos de negociación más agre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mitar cuidadosamente las reglas del ju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 de negoci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tá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bre cerrado primer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alificación técnica / competencia por 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taje ponderado técnico /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b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fijo de rondas (2 o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te a la inversa presencial (número indefinido de ron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te a la inversa virtual (precio dinámico limitado por tiem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rato marco / contrato de suminis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 de negociación I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ormas de evaluación y adjud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agregación de productos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otal glob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otal por produc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cial por producto / zo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modalidad de eval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cio (unitario / tota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untaje (polinomio de evaluación: precio, calidad,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icitación combinator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68280" indent="-289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. el menor precio posible en una lista de 200 prods., adjudicados a no más de 3 provee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8280" indent="-289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citación por zonas con adjudicación parcial, y restricciones inter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de riesg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en qué forma serán abordados los riesgos en el proceso de licitación y en la ejecución del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fuentes de ries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r sus posibles impactos/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medidas de miti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izar responsabi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da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ecer los requerimientos a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4. Especificar la necesida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9-02T12:15:37Z</dcterms:modified>
  <cp:revision>8</cp:revision>
  <dc:subject/>
  <dc:title>Cómo enfrentar procesos de compra poco competitivos</dc:title>
</cp:coreProperties>
</file>