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2DC-5FA4-4E0A-86D4-3FCACE0D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CF6D-6255-4F9D-AAA8-30851E2E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127-042E-461C-A230-F103BEF8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B56-ACA9-4F2C-8B3B-2A71EC9B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851A-B039-4A8C-81E0-3FAF9CDB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D6A-1EF7-4BF3-B051-15BB79B7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C4B4-09F4-4E12-B4A2-34C99BEB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5265-2A18-48D5-A693-99701B00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03B0-BE06-4631-9CF0-59365A84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35D7-22BD-414F-9B4E-FE97DAF9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D965-FA8E-4ADD-8A5F-E8DB3BD6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9E2-A27F-48FA-A5CF-8790ADED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1965-D58F-4E03-B2D5-4BF2EC5B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97B1-0C07-41C3-9A21-C40A8277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B276-9FD4-426E-858A-67CF49B8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D3D3-E61F-473F-8E7C-A3F562D7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4E9-FFC4-4F4B-8741-018CF860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6BE-76BE-4EE2-8648-A90667A1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AA3-273B-4A26-993B-1B828458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4CF-95EE-4C22-9C7B-7FDF6193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FFF-120A-4398-8EE6-87204F39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027-30C8-42BA-BC07-87196880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D99-8885-478E-8239-362735C1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F59-E625-4B2B-8558-4A30137E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371A-5751-435D-9BA8-8775E25CB42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5DD5-13BE-4B8E-AE1F-1C4D4A2B6AF3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 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ión del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organizacional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ional / Regional /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erta /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dades físicas / mone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diciones actuales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álisis de la logís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cnologías de producción alterna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costo-ef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agregación de la caden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reras de entrada / 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ntes alternativas de suminis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usu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proveed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ándo hacer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s de la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s de comenzar, el estudio de mercado sirve para detectar las alternativas de solución dispon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nte la preparación, sirve para revisar y mejorar la especificación del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ués de la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egura que los acuerdos alcanzados siguen siendo efectivos en términos de precio, oportunidad y calidad té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rmine qué información necesita y las preguntas que debe hacer para averiguar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que las fuentes de información disponibles (Internet, asociaciones gremiales, publicaciones especializadas, feria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enere otras fuentes de información a partir de brainstorming (puede necesitar más de una ses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iorice las fuentes de información, dejando las más relevantes y analizando en qué medida satisfacen sus requer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pare el cuestionario a realizar. Analice en qué medida contribuye a los objetivos del estu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e el cuestionario como referencia para conducir la entrevista. Complete un checklist para verificar la in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gistre las preguntas de los proveedores contact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estudios previos. Considere información de otras institu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olucre a todos los actores relevantes en el proceso de adqui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acte a los especialistas en la materia, tanto en el gobierno como en la industria. Analice estrategias y mejores práct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que directorios de industria (páginas amarillas, Internet, asociaciones gremiales, directorios comerci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qu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catálogos y publicaciones de los provee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stenga entrevist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téngase al día en sus áreas de especialización, suscribiéndose a revistas, asistiendo a seminario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 Equipo de proyect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riterios genera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dministración de una licitación compleja requiere de especialidades divers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formar equipos multidisciplinar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involucrar a todas las áreas de la organización que tengan alguna relevancia para 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evaluar cuáles de los conocimientos requeridos no están disponibles y buscarlos externamen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tación de asesores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omposición del equipo debe definirse en función del monto involucrado, de la complejidad del proceso y de la disponibilidad de competencias al interior de la 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osibles miemb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ador a cargo del proces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rios relevantes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presupuestari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jurídic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té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economía indust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gestión de oper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métodos de neg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de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en gestión de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2. Estudios prelicitatori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contacto con los prov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herramienta esencial para diseñar licitaciones efectivas y efic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ipos de conta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innovaciones y tendencias del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pre-licit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izar estrategias de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proceso de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tactos formales y públicos (según bas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la ejecución de un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miento continu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 qué restringe la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719360"/>
          <a:ext cx="8229600" cy="451620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dispon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industrial de la of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 minoritari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gente relacionada con la indust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licit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las operaciones de la industria proveedo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exp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rse en compradores infor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r a definir la estrategia de licitación y los temas que deberán ser abor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disponibilidad del bien o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reconocer las alternativas que ofrece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ga antecedentes para evaluar el monto d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especificar mejor las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para mantenerse al tanto de innovaciones y de las tendencias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estrategia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 interés en los proveedores por participar de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8T20:54:15Z</dcterms:modified>
  <cp:revision>6</cp:revision>
  <dc:subject/>
  <dc:title>Cómo enfrentar procesos de compra poco competitivos</dc:title>
</cp:coreProperties>
</file>