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7400-4689-4805-B8A5-A3DCF42E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E4DA-1056-411C-84CF-31B968CE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605-7D72-425A-BB60-A3EAA046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1455-EAC3-4880-85D8-E431D214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1973-E8F0-4C4A-8C31-2427E5DE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521E-7B90-4A9D-936C-929F9784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9BFC-2651-42A9-ADEE-462F916D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A353-598C-4963-85AC-1A1E24F0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FA84-2763-4880-8481-85F9ED86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CBF9-174D-4B32-A29E-FBC2E107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0F3C-CD51-4E73-8C54-F6FB3C52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5B3B-5B3B-48D8-86F4-B45F975A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ED5F-68AE-454B-94E2-D1D128A5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452A-2B1A-423F-9B87-6C72D1DD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8184-9123-4A67-8394-B63E6C43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6021-AE44-4A3A-988D-DC13975A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7184-2EB5-4F65-9924-50F54B95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FF6-8EC2-4F76-8DD7-43B77180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22C-F1FD-4FF3-A474-8EA9BFFC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A11C-7055-42D0-A3AF-70199930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0FD-B92C-4DA0-AD98-6B5EB9ED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BA5F-5DB9-4CA9-B7EF-32A6305D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7F1-BDD7-417B-A2AA-278E1FFA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7A21-4B61-46CC-8E5D-567D0845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F311-F57A-4B84-85F0-EC67F580096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A6EA-85AC-4B60-A621-E8B8BA552B2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Gestión estratégica de licitaciones (parte 1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 conteni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sión del merc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structura organizacional del merca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cional / Regional / Inter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erta / Dema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dades físicas / monet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diciones actuales del merca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álisis de la logíst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cnologías de producción alternativ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álisis de costo-efe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structura de cost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agregación de la cadena de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rreras de entrada / sa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uentes alternativas de suminist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álisis de factibilid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erspectiva de los usua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erspectiva de los proveedo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uándo hacer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s de la lici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es de comenzar, el estudio de mercado sirve para detectar las alternativas de solución dispon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ante la preparación, sirve para revisar y mejorar la especificación del tra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pués de la adjud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egura que los acuerdos alcanzados siguen siendo efectivos en términos de precio, oportunidad y calidad téc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os a consider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termine qué información necesita y las preguntas que debe hacer para averiguar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dentifique las fuentes de información disponibles (Internet, asociaciones gremiales, publicaciones especializadas, ferias, etc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Genere otras fuentes de información a partir de brainstorming (puede necesitar más de una sesió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iorice las fuentes de información, dejando las más relevantes y analizando en qué medida satisfacen sus requerimien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epare el cuestionario a realizar. Analice en qué medida contribuye a los objetivos del estudi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Use el cuestionario como referencia para conducir la entrevista. Complete un checklist para verificar la inform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gistre las preguntas de los proveedores contacta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omend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se estudios previos. Considere información de otras instituci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olucre a todos los actores relevantes en el proceso de adquisi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acte a los especialistas en la materia, tanto en el gobierno como en la industria. Analice estrategias y mejores práctic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sque directorios de industria (páginas amarillas, Internet, asociaciones gremiales, directorios comercial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ublique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se catálogos y publicaciones de los proveedor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stenga entrevist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téngase al día en sus áreas de especialización, suscribiéndose a revistas, asistiendo a seminarios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sistémico de gestión de licit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63640" y="1352520"/>
          <a:ext cx="561672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352520"/>
                    <a:ext cx="561672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1. Equipo de proyect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stitución equipo de proyecto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riterios general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administración de una licitación compleja requiere de especialidades divers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y que formar equipos multidisciplinar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y que involucrar a todas las áreas de la organización que tengan alguna relevancia para el proce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y que evaluar cuáles de los conocimientos requeridos no están disponibles y buscarlos externamen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ench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atación de asesores especial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composición del equipo debe definirse en función del monto involucrado, de la complejidad del proceso y de la disponibilidad de competencias al interior de la organiz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stitución equipo de proyecto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osibles miembr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rador a cargo del proceso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rios relevantes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presupuestario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jurídico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técn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en economía indust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en gestión de oper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en métodos de negoci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de ca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en gestión de ries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2. Estudios prelicitatorio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 contacto con los proveedo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a herramienta esencial para diseñar licitaciones efectivas y efici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ipos de conta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man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onocer innovaciones y tendencias del merc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udios pre-licitato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alizar estrategias de 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urante proceso de lici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ontactos formales y públicos (según bas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urante la ejecución de un contr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joramiento continu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alizar qué restringe la competenc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719360"/>
          <a:ext cx="8229600" cy="4516200"/>
        </p:xfrm>
        <a:graphic>
          <a:graphicData uri="http://schemas.openxmlformats.org/drawingml/2006/table">
            <a:tbl>
              <a:tblPr/>
              <a:tblGrid>
                <a:gridCol w="2746440"/>
                <a:gridCol w="548316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cnicas disponib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ón industrial de la ofer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udio de merc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s con proveedores minoritari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s con gente relacionada con la industr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de licit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de las operaciones de la industria proveedor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s con proveedo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 exper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chmar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irse en compradores inform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r a definir la estrategia de licitación y los temas que deberán ser abor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determinar la disponibilidad del bien o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reconocer las alternativas que ofrece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ga antecedentes para evaluar el monto del contr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especificar mejor las neces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ve para mantenerse al tanto de innovaciones y de las tendencias d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determinar la estrategia de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 interés en los proveedores por participar de la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9:55Z</dcterms:created>
  <dc:creator>Patricio Renner P.</dc:creator>
  <dc:description/>
  <dc:language>en-US</dc:language>
  <cp:lastModifiedBy>Patricio Renner P.</cp:lastModifiedBy>
  <dcterms:modified xsi:type="dcterms:W3CDTF">2004-08-18T20:54:15Z</dcterms:modified>
  <cp:revision>6</cp:revision>
  <dc:subject/>
  <dc:title>Cómo enfrentar procesos de compra poco competitivos</dc:title>
</cp:coreProperties>
</file>