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B290-ED44-4594-B6E1-46983C14C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E61C-C73A-4804-B59E-EB9593B1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FF4F-E249-4F82-9BBC-5D38A2D0D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ACEA-B6E5-4163-808C-B2CC2465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14FB-EF12-42E1-8FE5-74CEF9CA5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EC1F-8912-4C9E-B4E8-4B6C120F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C020-4BD3-4A29-AC57-F800C804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B9A6-575A-4D1E-9409-8EFFB2A5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CB70-A9F8-4C4E-9E09-6E5F7C99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004B-E906-41ED-AD1D-71071AFE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43D8-DCEE-4EFB-A77C-260C6ACF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8548-ED09-4C80-95DF-6132CAD6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B20E-8A4A-403A-8CFD-199F1764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D5EB-2269-45EC-A0ED-C54B1316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F097-8AD8-459F-AA71-9D7383EA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0CB2-4D86-49CB-8164-8631687B2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0504-4F39-4535-938C-55406B99A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2486-DBDB-4BD0-A6C9-71D85490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FF24-9B70-45CB-956E-A07638FA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41FA-B5EF-4B3F-B0D6-8306CB53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3BCC-FC14-469F-BC3A-11BFE10B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B55A-22CB-4ED4-BDA3-E6C76989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A57E-C1A0-4195-8315-2E674214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DC99-C24A-4A58-9160-9E73EDC7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F46F-0145-44F8-9F97-095D555E70A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238F-D1AB-451B-8077-01FF2510428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0" y="1238040"/>
            <a:ext cx="6551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0066"/>
                </a:solidFill>
                <a:latin typeface="Arial"/>
              </a:rPr>
              <a:t>Criterios estratégicos para comprar mejor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626920" y="3860280"/>
            <a:ext cx="446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5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stión de Abast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icio Re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patricio.renner@dyg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¿Qué significa comprar bien?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900" spc="-1" strike="noStrike">
                <a:solidFill>
                  <a:srgbClr val="330066"/>
                </a:solidFill>
                <a:latin typeface="Arial"/>
              </a:rPr>
              <a:t>Ver el bosque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43120" y="2490840"/>
            <a:ext cx="878040" cy="2933640"/>
          </a:xfrm>
          <a:prstGeom prst="upArrow">
            <a:avLst>
              <a:gd name="adj1" fmla="val 50000"/>
              <a:gd name="adj2" fmla="val 8352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97440" y="2492280"/>
            <a:ext cx="877680" cy="2933640"/>
          </a:xfrm>
          <a:prstGeom prst="downArrow">
            <a:avLst>
              <a:gd name="adj1" fmla="val 50000"/>
              <a:gd name="adj2" fmla="val 83562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09280" y="1752480"/>
            <a:ext cx="95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Pre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Uni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37320" y="1757520"/>
            <a:ext cx="103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Nivel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a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76360" y="2276640"/>
            <a:ext cx="4319640" cy="1293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36200" y="2732040"/>
            <a:ext cx="5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20000" y="503712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50360" y="27082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35240" y="5013360"/>
            <a:ext cx="5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03280" y="4365720"/>
            <a:ext cx="4319640" cy="15811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40360" y="2781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97120" y="2708280"/>
            <a:ext cx="1326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Mejor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negoci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867280" y="48704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98120" y="4797360"/>
            <a:ext cx="104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Agiliz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proce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317600" y="3283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040 h 1214280"/>
              <a:gd name="textAreaBottom" fmla="*/ 88020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3480" y="3284640"/>
            <a:ext cx="120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Consolid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dema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Focalizar estrategias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332000" y="2494080"/>
            <a:ext cx="4679640" cy="2879280"/>
            <a:chOff x="1332000" y="2494080"/>
            <a:chExt cx="4679640" cy="2879280"/>
          </a:xfrm>
        </p:grpSpPr>
        <p:sp>
          <p:nvSpPr>
            <p:cNvPr id="171" name=""/>
            <p:cNvSpPr/>
            <p:nvPr/>
          </p:nvSpPr>
          <p:spPr>
            <a:xfrm>
              <a:off x="1332000" y="2494080"/>
              <a:ext cx="2286360" cy="1392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Direct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32000" y="3980160"/>
              <a:ext cx="2286360" cy="13932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M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24920" y="3980160"/>
              <a:ext cx="2286720" cy="1393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Oper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24920" y="2494080"/>
              <a:ext cx="2286720" cy="1392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Invers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6012000" y="2852640"/>
            <a:ext cx="165564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quip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yec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068640"/>
            <a:ext cx="13320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sumos de p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12000" y="4365720"/>
            <a:ext cx="136656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ateriales y servicios de uso comú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4365720"/>
            <a:ext cx="133020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anten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pa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per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89400" y="1603440"/>
            <a:ext cx="41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Clasificación de las comp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Generar condiciones de competencia…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Buenas prácticas de licit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F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nversión en la gestión del proce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nteligencia de merca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nálisis experto de los mercados releva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dministración de conteni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scripciones claras de los requerimientos son esenci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Focalizar el control y agilizar las compras…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l dilema del “exceso” de contr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Fomentar una cultura de responsabilidad y autonomí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ncorporar TIC para facilitar los contro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gilizar los procesos para compras de menor mo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ntratos mar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mpra directa y cotización, cuando éstos no estén disponi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2T00:39:46Z</dcterms:created>
  <dc:creator>Patricio Renner P.</dc:creator>
  <dc:description/>
  <dc:language>en-US</dc:language>
  <cp:lastModifiedBy>Patricio Renner P.</cp:lastModifiedBy>
  <dcterms:modified xsi:type="dcterms:W3CDTF">2004-08-06T14:06:53Z</dcterms:modified>
  <cp:revision>10</cp:revision>
  <dc:subject/>
  <dc:title>Gestión estratégica del sistema de abastecimiento y compras públicas</dc:title>
</cp:coreProperties>
</file>