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4E6-4E4A-45D4-98BB-8BBF062B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400-6EDF-4FDC-B732-0293B2EB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826-582A-4819-97A9-E4638CB2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22A-E559-4CA3-ABB9-D1BD6E49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D738-006B-4BA3-A992-99620381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11A3-BC6C-4943-B610-F4FF38DA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49FA-F01C-4473-A827-A376CB8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665-7373-4E1D-A553-9CB26F8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89DF-B0C3-435C-9206-3DB30D3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CAAE-9EE2-4FD7-97E1-8040424E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1714-DF24-4C8E-92F0-D6AD5FBF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35B-9B90-4E3A-A194-DA438459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8133-FC85-46E5-8763-7FD4EBD2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C448-75CF-4F78-B216-94E9046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99CC-9218-421A-A562-89CA4499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D131-C49D-4CE9-8F70-E4731DD2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2642-D5C4-47FD-839A-6F8F5727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D34-A579-4D74-AD3C-165BCB1C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9A8-C8A5-4EBB-99AE-50F567DE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9EF-2EE5-42E4-8C6B-88054C40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E8F-2B6F-4550-994B-8EC94E7A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101-F2F8-498C-B58A-8699EAF0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6DE-3794-400A-AA63-97F166F5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CEB-6FB2-43C7-9F97-0F97AB65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ACE9-4DB4-4215-BF48-E898D1C008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2089-3C27-4DC7-BB33-C8BCC807FC7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riterios estratégicos para comprar mejo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¿Qué significa comprar bien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Ver el bosqu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43120" y="2490840"/>
            <a:ext cx="878040" cy="2933640"/>
          </a:xfrm>
          <a:prstGeom prst="upArrow">
            <a:avLst>
              <a:gd name="adj1" fmla="val 50000"/>
              <a:gd name="adj2" fmla="val 835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7440" y="2492280"/>
            <a:ext cx="877680" cy="2933640"/>
          </a:xfrm>
          <a:prstGeom prst="downArrow">
            <a:avLst>
              <a:gd name="adj1" fmla="val 50000"/>
              <a:gd name="adj2" fmla="val 835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09280" y="1752480"/>
            <a:ext cx="95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37320" y="17575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ive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4319640" cy="1293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6200" y="27320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0000" y="5037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0360" y="27082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5240" y="501336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4365720"/>
            <a:ext cx="4319640" cy="1581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97120" y="27082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870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8120" y="479736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gil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17600" y="3283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4280"/>
              <a:gd name="textAreaBottom" fmla="*/ 8802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480" y="328464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Consoli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Focalizar estrategia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32000" y="2494080"/>
            <a:ext cx="4679640" cy="2879280"/>
            <a:chOff x="1332000" y="2494080"/>
            <a:chExt cx="4679640" cy="2879280"/>
          </a:xfrm>
        </p:grpSpPr>
        <p:sp>
          <p:nvSpPr>
            <p:cNvPr id="171" name=""/>
            <p:cNvSpPr/>
            <p:nvPr/>
          </p:nvSpPr>
          <p:spPr>
            <a:xfrm>
              <a:off x="1332000" y="2494080"/>
              <a:ext cx="2286360" cy="139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rec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32000" y="3980160"/>
              <a:ext cx="2286360" cy="139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4920" y="3980160"/>
              <a:ext cx="2286720" cy="139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p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4920" y="2494080"/>
              <a:ext cx="2286720" cy="1392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2000" y="2852640"/>
            <a:ext cx="165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8640"/>
            <a:ext cx="1332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umos de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4365720"/>
            <a:ext cx="136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teriales y servicios de us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65720"/>
            <a:ext cx="13302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9400" y="16034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lasificación de las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Generar condiciones de competencia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enas prácticas de li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versión en la gestión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ligencia de merc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álisis experto de los mercados relev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dministración de conten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cripciones claras de los requerimientos son esen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Focalizar el control y agilizar las compra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dilema del “exceso” d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mentar una cultura de responsabilidad y aut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orporar TIC para facilitar los cont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gilizar los procesos para compras de menor mo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a directa y cotización, cuando éstos no estén dispon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8-06T14:06:53Z</dcterms:modified>
  <cp:revision>10</cp:revision>
  <dc:subject/>
  <dc:title>Gestión estratégica del sistema de abastecimiento y compras públicas</dc:title>
</cp:coreProperties>
</file>