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43C-D082-4F21-8555-6D66F4B1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BFEB-AA8B-492A-B4B6-140F264D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B8C7-73A2-41E0-BE30-B6C30B4E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A53-0360-4856-9D34-2725FCE1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F508-0165-44AA-9243-AF67307C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C0C7-3FC3-46B9-A87A-C702F5AB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B1E1-F610-4CF0-819A-834E6E78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3052-D518-40D2-805C-D040CEAF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4B18-B118-4D69-8224-7E9F1A09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39EC-370B-47C5-81B6-803461FA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B6A5-4768-400E-A4AD-9E904934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8D41-2B4F-4C46-8C86-F9820926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873B-3139-4D98-B84A-AC74586C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82C0-EA94-4E8E-A73C-C25C1F9E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5CB4-AB29-4CAD-9D5C-D4AEE8BF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035D-C3CC-4E91-8956-28BAA182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AEEF-B957-4A95-A9B5-040FE887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6B7-E967-47CB-B390-9365BA04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F431-C316-40E4-A3F2-015C3CF0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8B7C-DE39-4F9C-9016-60EFC97E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4A29-A5DF-4FB5-83ED-AB74F7D3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8BC9-9F8F-4CA1-B8A1-60E57596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DE38-B8B3-4080-A461-E949E2BD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6964-A7C1-4F2C-926B-F04A768F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FD3A-FFDB-4D95-9E17-ACC4452ACE3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BD46-9D75-4A75-A97E-D5EA7EAD0FC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Fundamentos de gestión de abastecimi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eni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visión del progra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undamentos de gestión de abasteci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l paradigma de las compras al paradigma del abaste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bjetivos del abaste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proceso de abaste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La función de compras/adquisicion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radicional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isponer de los bienes y servicios que son requeridos por las áreas usuarias en forma oportuna y al menor precio po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rientación al pre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Énfasis fuertemente oper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nfoque de corto-plaz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iderado por los usu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La función de abastecimient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ctu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inimizar el gasto en bienes y servicios requeridos por una institución para el cumplimiento de su mis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No sólo importan los precios, sino también la pertinencia, oportunidad y calidad de los requerimi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rácter estratég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foque de largo plaz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iderazgo desde el área de abastec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Objetivo del abastecimient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ficiencia en las comp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foque costo integ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uditabilidad y traz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isi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ducto – Servi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arrollo de provee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ptimización del uso de recur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nálisis de gas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porte a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Proceso de abastecimient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1080" y="1773360"/>
            <a:ext cx="2376360" cy="107928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81" y="0"/>
                </a:lnTo>
                <a:lnTo>
                  <a:pt x="21600" y="10800"/>
                </a:lnTo>
                <a:lnTo>
                  <a:pt x="18181" y="21600"/>
                </a:lnTo>
                <a:lnTo>
                  <a:pt x="0" y="21600"/>
                </a:lnTo>
                <a:lnTo>
                  <a:pt x="3419" y="10800"/>
                </a:lnTo>
                <a:close/>
              </a:path>
            </a:pathLst>
          </a:custGeom>
          <a:solidFill>
            <a:srgbClr val="66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PLAN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76360" y="1773360"/>
            <a:ext cx="2376720" cy="107928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81" y="0"/>
                </a:lnTo>
                <a:lnTo>
                  <a:pt x="21600" y="10800"/>
                </a:lnTo>
                <a:lnTo>
                  <a:pt x="18181" y="21600"/>
                </a:lnTo>
                <a:lnTo>
                  <a:pt x="0" y="21600"/>
                </a:lnTo>
                <a:lnTo>
                  <a:pt x="3419" y="10800"/>
                </a:lnTo>
                <a:close/>
              </a:path>
            </a:pathLst>
          </a:custGeom>
          <a:solidFill>
            <a:srgbClr val="669999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NEGOC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1773360"/>
            <a:ext cx="2376360" cy="107928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81" y="0"/>
                </a:lnTo>
                <a:lnTo>
                  <a:pt x="21600" y="10800"/>
                </a:lnTo>
                <a:lnTo>
                  <a:pt x="18181" y="21600"/>
                </a:lnTo>
                <a:lnTo>
                  <a:pt x="0" y="21600"/>
                </a:lnTo>
                <a:lnTo>
                  <a:pt x="3419" y="108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  </a:t>
            </a: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ENTRE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1080" y="301464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OPTIMIZACIÓN DE PROC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1080" y="374796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INTELIGENCIA DE 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1080" y="4481640"/>
            <a:ext cx="6767280" cy="57600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ADMINISTRACIÓN DE CONTEN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1080" y="521496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ANÁLISIS DE CONSU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1080" y="594828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GESTIÓN DE PROVE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139920"/>
            <a:ext cx="561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den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guimiento del 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trol de e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3084480"/>
            <a:ext cx="561636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úsqueda de productos/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lección de 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t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t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basta in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3068640"/>
            <a:ext cx="561636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 anual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cción de oport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finición de métodos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juste de la carga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gra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orde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ad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rmin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00:39:46Z</dcterms:created>
  <dc:creator>Patricio Renner P.</dc:creator>
  <dc:description/>
  <dc:language>en-US</dc:language>
  <cp:lastModifiedBy>Patricio Renner P.</cp:lastModifiedBy>
  <dcterms:modified xsi:type="dcterms:W3CDTF">2004-07-29T12:29:23Z</dcterms:modified>
  <cp:revision>7</cp:revision>
  <dc:subject/>
  <dc:title>Gestión estratégica del sistema de abastecimiento y compras públicas</dc:title>
</cp:coreProperties>
</file>