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EDE-3D48-49A3-8B42-DF74E6DC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17A-E270-45AB-B9D9-6B91981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275-8C95-4026-8A74-33E47B4D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B2C-ADD0-4BE4-B38C-3A73F84E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685-7586-4BA5-A509-7D7F6EE1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078-21C0-4401-8814-D3AF2DD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FB6-2B68-46AE-BBB2-BADC0287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19F-CC4D-4000-B8FE-217EB36D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E33-6ECD-49DA-B4D3-EFE685E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476-FC18-43EC-9868-71160BD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28B-D6A5-4260-83A1-740D5C5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32F-15DE-4628-AACE-5A1B764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651-3E5C-40B4-9E92-6D2AAF614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nca y competencia: la experiencia de los órganos de competenci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blo S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uncia Conade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no traspasa a usuarios, especialmente los más chicos, caída en T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 rentabilidad de la b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clientes escasa y poco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or transparencia de co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cionar a Asociación de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 Fiscal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direct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cedentes 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bancos, pero sólo 5 concentran 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bles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ingresan bancos asociados a grandes t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 de sociedades de apoyo a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económic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uniformidad de tasas entre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el 98 y el 2002 TPM baja 6,26 puntos porcentuales, la tasa agregada de colocación 4,36 y la de captación 4,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no ca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TPM es de corto plazo, mientras que agregadas incluyen operaciones de largo plazo y stock de colo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promedios no distinguen clientes grandes de pequeños, competencia de banca internacional y des-intermediación en los prim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dad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 usan datos mensuales con tasas de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tein y Flores datos 98-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es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similar a México y el 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noza-Vega y Reb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algo menor que en Canadá, Australia y los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s de largo plazo responden más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ía en la tasa de trasp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sación a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arjetas de créditos hay tres roles: emisor,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os y otras instituciones son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única empresa que cumple roles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es propiedad de bancos 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ros de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al comercio por  transacción y arriendo de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cuenta de emisores comisión (promedio 2,3%)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transacción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k devolvía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 2,4 por transacción a los emisores que son s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amen y Requerimiento F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abusa de su poder monopólico teniendo una rentabilidad de más de 50%, que disfraza a través de pagos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crimina en las comisiones cobradas a los establecimientos come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a de la denunci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ercado relevante son todos los medios de pago (efectivo, cheques, tarjetas de créditos de casas comerciales 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debe incluir tarjet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rcado con demanda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 haber competencia en emisión y abuso monopólico en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ores internalizan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llo del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ercado de servicios de tarjetas de crédito es de dos 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taforma comercial que presta servicios a dos tipos de clientes, tarjetahabientes y comerciantes en est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beneficios de un tipo de clientes aumentan con la participación del otro tip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Mercados de dos l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tradicional puede conducir a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sub-mercados deben analizarse en forma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s pueden cobrar sólo a un tipo de cl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vistas y periódicos que se entregan gratuitamente a los l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: arrendatarios y pú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dobe vende su producto Acrobat Exchange  y regala versión restringida que sólo permite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puede darse al interior de la plataforma como entre distintas platafo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 de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nal de Defensa de la Li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ía Nacional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 rol investigador del rol jurisdi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ía representa interés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nal no puede actuar de o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 en base al expediente (bilateralida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etencia en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egurar que no hay rentas monopólicas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transferencias entre Transbank y los emisores se realizan en función de las trans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competencia en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isores internalizan los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mento en la comisión que paga el comercio beneficiaría a a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lvo por el reparto de utilidades, los ingresos que reciben las instituciones financieras dependen directamente de las transac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Diferenciación de tarif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común ocurrencia en el caso de los mercados de 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neas aé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ferenciación de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s 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ser necesaria para el funcionamiento eficiente de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hay antecedentes que los descuentos por volumen que realiza Transbank estén fundado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ones a un mismo rubror fluctuaban entre 1% y 3,5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ciones: competencia en el sistema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ción pueden afec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ia (TB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positivo sobre ahorro 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 de la política mon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dad de traspaso aumenta con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ntos controvert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o de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ción entre concentración 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ncieros no banc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rcad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ntermediación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 (paquetes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 de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legales para preservar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a regulación permit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conjunta de activ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de cajeros automáticos, depósito de valores, operador de sistema de tarj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cambio (ventaja de entrar 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rciales (costo recabar información sobre clientes y crear repu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estudio de cas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ón bancos Santander y Santiago, Fallo Comisión Resolutiva (enero 0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adecus contra Asociación de Bancos, Fallo Tribunal (abril 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sación a Transbank, Fallo Tribunal (Septiembre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ntración Santander-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genera por fusión del BS y el BCH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 Bancos: fusiones requieren aprobación SBIF por tema sol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ción intenciones BSCH a la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unciaba a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ón de participación de mercado (2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F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independiente no era creí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ón en participación afect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ia internacional: concentración bancaria perjudic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ían barreras legales y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 ante Comisión Resol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r que operación era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zo de 18 meses para termina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fusión debía aprobarse por C.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BSCH y ban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bar fusión era atribución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do relevante incluye a mayoría del mercado de capitales en el que tiene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ia empírica no permite concluir que concentración afecte a l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a la entrada ir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ó puntos de prue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de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o de competencia en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ia internacional sobre relación entre competencia y concent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atribuciones para analizar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o relevante es más amplio que el de bancos e instituciones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s internacionales, des-intermediación financiera, casas comerciales, fondos mut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 está probado efecto negativo so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hazó requerimiento del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jó sin efecto compromiso de reducir participación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endó a la Fiscalía vigilar las tasas de interés en comunas donde ambos bancos representaban más del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5:10:26Z</dcterms:created>
  <dc:creator>dii</dc:creator>
  <dc:description/>
  <dc:language>en-US</dc:language>
  <cp:lastModifiedBy>Pablo Serra</cp:lastModifiedBy>
  <dcterms:modified xsi:type="dcterms:W3CDTF">2005-11-14T15:35:56Z</dcterms:modified>
  <cp:revision>15</cp:revision>
  <dc:subject/>
  <dc:title>Banca y competencia: la experiencia de los órganos de competencia en Chile</dc:title>
</cp:coreProperties>
</file>