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ECCC-118A-425C-9298-02328297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6D9-7327-4A5F-88BE-B634A340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07C-BC24-4EA7-A4FE-D63648BD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BE2-0927-400F-B14E-D40A03C5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F47D-4A17-4993-8D9E-CCDF3CD3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C1E-8654-4FF2-88A0-63E6B501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C5F1-F457-48FA-9476-BA2FB11D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E09-178F-478A-AAA0-3BF32256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1F0A-77AC-4695-BAD2-363BCD27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485-53BE-4ED8-ABB6-8642089B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9F11-F564-4A10-B642-BDED8F99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9EFE-9E6F-424E-BAF5-BFF01C49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1C58-FECF-430C-9C17-72F50A884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nca y competencia: la experiencia de los órganos de competencia en 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blo S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uncia Conade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ca no traspasa a usuarios, especialmente los más chicos, caída en T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a rentabilidad de la ba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ón a clientes escasa y poco transpa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ci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or transparencia de cob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cionar a Asociación de Ban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 Fiscal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hay evidencia directa de colu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cedentes econó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 bancos, pero sólo 5 concentran 7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bles barreras de ent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ólo ingresan bancos asociados a grandes t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 de sociedades de apoyo al g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hay evidencia económica de colu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hay uniformidad de tasas entre ba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o Tribu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 el 98 y el 2002 TPM baja 6,26 puntos porcentuales, la tasa agregada de colocación 4,36 y la de captación 4,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 no ca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a TPM es de corto plazo, mientras que agregadas incluyen operaciones de largo plazo y stock de colo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as promedios no distinguen clientes grandes de pequeños, competencia de banca internacional y des-intermediación en los primer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locidad de trans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udios usan datos mensuales con tasas de perí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stein y Flores datos 98-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es 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 de traspaso similar a México y el 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inoza-Vega y Rebu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 de traspaso algo menor que en Canadá, Australia y los EE.U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s de largo plazo responden más l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etría en la tasa de trasp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usación a Transb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tarjetas de créditos hay tres roles: emisor, operador y adqui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cos y otras instituciones son emi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bank única empresa que cumple roles operador y adqui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bank es propiedad de bancos e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bros de Transb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nk cobra al comercio por  transacción y arriendo de term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nk cobra por cuenta de emisores comisión (promedio 2,3%) al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nk cobra por transacción a los emi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k devolvía 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¢ 2,4 por transacción a los emisores que son so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ctamen y Requerimiento F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nk abusa de su poder monopólico teniendo una rentabilidad de más de 50%, que disfraza a través de pagos a los emi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scrimina en las comisiones cobradas a los establecimientos comerci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nsa de la denunci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mercado relevante son todos los medios de pago (efectivo, cheques, tarjetas de créditos de casas comerciales 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 menos debe incluir tarjeta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ercado con demanda bilat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puede haber competencia en emisión y abuso monopólico en adqui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misores internalizan ingresos por adqui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allo del Tribu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ercado de servicios de tarjetas de crédito es de dos 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lataforma comercial que presta servicios a dos tipos de clientes, tarjetahabientes y comerciantes en este ca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beneficios de un tipo de clientes aumentan con la participación del otro tipo de usu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Times New Roman"/>
              </a:rPr>
              <a:t>Mercados de dos lad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nálisis tradicional puede conducir a err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sub-mercados deben analizarse en forma conju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s pueden cobrar sólo a un tipo de cl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vistas y periódicos que se entregan gratuitamente a los lecto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os comerciales: arrendatarios y públ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dobe vende su producto Acrobat Exchange  y regala versión restringida que sólo permite le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etencia puede darse al interior de la plataforma como entre distintas plataform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itucionalidad de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bunal de Defensa de la Libre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calía Nacional Econó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 rol investigador del rol jurisdic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calía representa interés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bunal no puede actuar de of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a en base al expediente (bilateralida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etencia en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egurar que no hay rentas monopólicas 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transferencias entre Transbank y los emisores se realizan en función de las transac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 competencia en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misores internalizan los ingresos por adqui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umento en la comisión que paga el comercio beneficiaría a a los consum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lvo por el reparto de utilidades, los ingresos que reciben las instituciones financieras dependen directamente de las transacciones rea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imes New Roman"/>
              </a:rPr>
              <a:t>Diferenciación de tarif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común ocurrencia en el caso de los mercados de dos 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o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íneas aére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diferenciación de precios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er s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 es  anti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uede ser necesaria para el funcionamiento eficiente de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 hay antecedentes que los descuentos por volumen que realiza Transbank estén fundados en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isiones a un mismo rubror fluctuaban entre 1% y 3,5%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cciones: competencia en el sistema financi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ntración pueden afec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ncia (TBT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o positivo sobre ahorro e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ctividad de la política mone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locidad de traspaso aumenta con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untos controverti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ción de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rreras de entrada en la ban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do de competencia en la indust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ción entre concentración y compe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finición mercado releva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s financieros no banc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rcado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intermediación financi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 (paquetes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po de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reras de entrada en la ban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reras legales para preservar est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ena regulación permite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iedad conjunta de activos esen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 de cajeros automáticos, depósito de valores, operador de sistema de tarj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de cambio (ventaja de entrar an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rciales (costo recabar información sobre clientes y crear repu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(estudio de cas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sión bancos Santander y Santiago, Fallo Comisión Resolutiva (enero 0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adecus contra Asociación de Bancos, Fallo Tribunal (abril 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sación a Transbank, Fallo Tribunal (Septiembre 20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entración Santander-Santia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genera por fusión del BS y el BCH en Espa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y de Bancos: fusiones requieren aprobación SBIF por tema solv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ación intenciones BSCH a la SB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unciaba a f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ón independ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ción de participación de mercado (28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ción F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ejo independiente no era creí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ción en participación afect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idencia internacional: concentración bancaria perjudica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ían barreras legales y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 ante Comisión Resolu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ar que operación era anti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zo de 18 meses para terminar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ual fusión debía aprobarse por C. Preven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ción BSCH y ban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obar fusión era atribución SB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cado relevante incluye a mayoría del mercado de capitales en el que tiene 1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ia empírica no permite concluir que concentración afecte a la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reras a la entrada irrelev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isión Resolu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jó puntos de prue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ción mercado relev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cia de barreras de ent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o de competencia en 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idencia internacional sobre relación entre competencia y concentr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o Comisión Resolu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ne atribuciones para analizar f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cado relevante es más amplio que el de bancos e instituciones financi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cos internacionales, des-intermediación financiera, casas comerciales, fondos mut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o está probado efecto negativo sobre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hazó requerimiento del fis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jó sin efecto compromiso de reducir participación de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mendó a la Fiscalía vigilar las tasas de interés en comunas donde ambos bancos representaban más del 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05:10:26Z</dcterms:created>
  <dc:creator>dii</dc:creator>
  <dc:description/>
  <dc:language>en-US</dc:language>
  <cp:lastModifiedBy>Pablo Serra</cp:lastModifiedBy>
  <dcterms:modified xsi:type="dcterms:W3CDTF">2005-11-14T15:35:56Z</dcterms:modified>
  <cp:revision>15</cp:revision>
  <dc:subject/>
  <dc:title>Banca y competencia: la experiencia de los órganos de competencia en Chile</dc:title>
</cp:coreProperties>
</file>