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71D3-FCAA-42F5-A8D2-4843C257B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AFE7-C3AD-46D2-82D9-F263E9DF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34B9-3844-4350-9725-0885CE429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636D-8EF5-4432-828B-00A60B281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FBFB-EEEA-443A-BA75-244E7AFA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1779-63CD-4046-B07A-E99A8F61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9643-F3BC-45BE-AFCF-81884C71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6D23-BCC1-4367-A5CE-F3A76090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29DC-6122-44E0-B96A-AD9E81EC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A8A3-37D1-421B-8749-B5ACCEEA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A88C-C0C4-4274-9F51-A1C6E2FC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4736-BB79-48ED-82F7-935C0A6D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78E2-3357-4721-B3A0-173BAF194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610320"/>
            <a:ext cx="914400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ente: Basado en Transparencias Curso de Ronald Fisc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so Economía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A-D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igop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trand y Cour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es de Concen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os diferenci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u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en pocas empresas en el mercado que tienen poder monopól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 interesa su interacción estraté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cial de colu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rtr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11280" y="1698480"/>
            <a:ext cx="7561080" cy="41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rtr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2405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44280" y="4503600"/>
            <a:ext cx="5529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ones en las que no se da este resulta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os disti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enes diferenci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ricciones de capa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aciones intertempo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n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985080" cy="2778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114560" y="4292640"/>
            <a:ext cx="691344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ces de Concent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74680" y="1979640"/>
            <a:ext cx="876132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Estados U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C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02:33:52Z</dcterms:created>
  <dc:creator>safp</dc:creator>
  <dc:description/>
  <dc:language>en-US</dc:language>
  <cp:lastModifiedBy>safp</cp:lastModifiedBy>
  <dcterms:modified xsi:type="dcterms:W3CDTF">2005-10-17T10:04:34Z</dcterms:modified>
  <cp:revision>9</cp:revision>
  <dc:subject/>
  <dc:title>Curso Economía Industrial</dc:title>
</cp:coreProperties>
</file>