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F928D-144B-49E6-86F9-86FFC9C5F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C2D06-D7C9-4A2E-B778-DF98B8E69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EDB9A-7BB8-4E24-AD26-47D9C8A2A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B9E96-9A05-4B62-A073-880BA98DA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C680D-764F-456E-81F0-AF9663AA9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8CFCB-3584-43E7-A1D5-3606D8CC3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22777-14B8-4F39-8F19-1188C796B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3A0DF-FC78-4E62-B91C-5F94D9E9B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2CC75-4AAC-42D2-AF73-4BDAF6785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6FBE5-842B-467B-9645-70658D9F1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3E4C3-3DB1-4B72-B20C-F7193E844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30C99-6234-4EC7-A345-057D7440B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EEACB-4216-4E20-85C3-417B219AA7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6610320"/>
            <a:ext cx="9144000" cy="27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uente: Basado en Transparencias Curso de Ronald Fisc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urso Economía Industri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A-D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versidad de Ch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igopol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roduc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rtrand y Courn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ices de Concentr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ductos diferencia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us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roduc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isten pocas empresas en el mercado que tienen poder monopól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s interesa su interacción estratég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tencial de colus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rtr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11280" y="1698480"/>
            <a:ext cx="7561080" cy="413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rtr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24051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944280" y="4503600"/>
            <a:ext cx="55299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tuaciones en las que no se da este resultad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stos distin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enes diferenci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tricciones de capac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ideraciones intertempor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urno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116000" y="1413000"/>
            <a:ext cx="6985080" cy="27781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1114560" y="4292640"/>
            <a:ext cx="691344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dices de Concentr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74680" y="1979640"/>
            <a:ext cx="8761320" cy="296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 Estados Unid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37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 Chi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32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5T02:33:52Z</dcterms:created>
  <dc:creator>safp</dc:creator>
  <dc:description/>
  <dc:language>en-US</dc:language>
  <cp:lastModifiedBy>safp</cp:lastModifiedBy>
  <dcterms:modified xsi:type="dcterms:W3CDTF">2005-10-17T10:04:34Z</dcterms:modified>
  <cp:revision>9</cp:revision>
  <dc:subject/>
  <dc:title>Curso Economía Industrial</dc:title>
</cp:coreProperties>
</file>