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C48-85F5-4DA8-A379-178D8B04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9CC-5ACB-41B4-81DD-32F7F92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EBA-276D-44CD-9097-A6CA41A5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283-683E-4865-961F-5A9A89DF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340-E9F3-4304-A47E-94277C80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40F-6D5A-4544-A3F0-39BEEF0C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E11-5182-4E55-A9A8-8E90FBCE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2E1-DCEF-4607-BD0D-5AC2AA0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19A-578C-477D-B684-276C1D5D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FBE-5DDD-4E1A-A51C-1AE43B3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C4C-2FD7-4A3D-A860-E4B88DCB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0BD-FA7E-4C56-A4EF-0609BF2B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E4D-3A73-423E-B36A-5D826495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10320"/>
            <a:ext cx="9144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Basado en Transparencias Curso de Ronald Fis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o Economía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A-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trand y Cour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 pocas empresas en el mercado que tienen poder monop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interesa su intera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al de co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698480"/>
            <a:ext cx="756108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0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44280" y="4503600"/>
            <a:ext cx="5529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ones en las que no se da este result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diferen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ciones intertemp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277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4560" y="4292640"/>
            <a:ext cx="6913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680" y="1979640"/>
            <a:ext cx="87613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dos U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33:52Z</dcterms:created>
  <dc:creator>safp</dc:creator>
  <dc:description/>
  <dc:language>en-US</dc:language>
  <cp:lastModifiedBy>safp</cp:lastModifiedBy>
  <dcterms:modified xsi:type="dcterms:W3CDTF">2005-10-17T10:04:34Z</dcterms:modified>
  <cp:revision>9</cp:revision>
  <dc:subject/>
  <dc:title>Curso Economía Industrial</dc:title>
</cp:coreProperties>
</file>