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0320"/>
            <a:ext cx="9144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Basado en Transparencias Curso de Ronald Fis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 Economía Industrial: Regul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-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239920"/>
            <a:ext cx="389880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41800" y="3213000"/>
            <a:ext cx="479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decidir regular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conside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stos y 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imetría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Reg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eo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o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ción: Precio igual a costo margi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eva forma de reg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229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33:52Z</dcterms:created>
  <dc:creator>safp</dc:creator>
  <dc:description/>
  <dc:language>en-US</dc:language>
  <cp:lastModifiedBy>safp</cp:lastModifiedBy>
  <dcterms:modified xsi:type="dcterms:W3CDTF">2005-09-27T23:55:54Z</dcterms:modified>
  <cp:revision>38</cp:revision>
  <dc:subject/>
  <dc:title>Curso Economía Industrial</dc:title>
</cp:coreProperties>
</file>