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0320"/>
            <a:ext cx="9144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Basado en Transparencias Curso de Ronald Fis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o Economía Industrial: Discriminación de Pre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A-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19320" y="1341360"/>
            <a:ext cx="4829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criminación de segundo g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1640" y="5229360"/>
            <a:ext cx="7848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viendo el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imizando Benef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 discrimi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66720" y="2043000"/>
            <a:ext cx="6010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iminando perfec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iminación a través de tarifa en dos pa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se apl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3040200"/>
            <a:ext cx="771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os de discrimin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imer Grado o discriminación perf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gundo Grado o por blo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cer Grado o por tipo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1582560"/>
            <a:ext cx="7993080" cy="1125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6280" y="5367240"/>
            <a:ext cx="6796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a discriminación puede ser en precio o en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tarifa no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7427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7067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93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criminación de primer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criminación de tercer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criminación de tercer grado: Bien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criminación de tercer grado: Bien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criminación de tercer grado: Bien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33:52Z</dcterms:created>
  <dc:creator>safp</dc:creator>
  <dc:description/>
  <dc:language>en-US</dc:language>
  <cp:lastModifiedBy>safp</cp:lastModifiedBy>
  <dcterms:modified xsi:type="dcterms:W3CDTF">2005-09-27T23:38:36Z</dcterms:modified>
  <cp:revision>37</cp:revision>
  <dc:subject/>
  <dc:title>Curso Economía Industrial</dc:title>
</cp:coreProperties>
</file>