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EA1-6B3A-4334-A865-E4AB5FD9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912E-8D08-4071-90FA-EA693531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A50-F3AA-46F1-8094-5C300D02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2AA-E4E7-4CC9-B5B8-98F5CFD3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36C5-1D98-477C-AA57-8DFFDAA2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4622-ED8E-4BFD-85DD-F96BB715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ABED-56FF-40F1-B8A6-131C713F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D5B5-19C0-494D-B87A-4FDA18F5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FBB2-7382-4B8B-81FE-3CB6AC4F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E679-000F-460F-A533-D2DA7CA1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CED7-5649-493E-A114-778F1A49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E40F-1060-433C-8FBB-5ACD5E4A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8734-C5BC-443F-9007-6F328584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9725-8385-48F5-9B21-FB59C7F9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FF16-A384-425A-9DE7-A661235C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D626-CCE3-482C-890C-A4C4E8F8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BCF0-7D20-415C-9F9C-5FD12DB7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D50-1493-4CC5-BDD3-189D413C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1F85-F462-4696-90CE-EB6DF061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F69B-C5D1-4789-8A4D-7B2AD9EF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EDAC-F1B2-4F69-BD4D-5185554F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BFF0-FC5B-4CA6-9EC9-6A3B101D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794-2FF9-4ED1-8016-7703B475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C791-22BF-4CCE-AEA4-D5452DAF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A651-432C-42B5-8229-7C689E1FC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3B21-C5A7-4BBA-898B-C750410B5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1771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Significado de Sigl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62560" y="3573360"/>
            <a:ext cx="288144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tegran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ecilia Guíñ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iggitte J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avio Lob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grid Valenzue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76360" y="580536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6246720"/>
            <a:ext cx="6624720" cy="5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ÉCNICAS MODERNAS EN MANUFACTURA – IN5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 de agosto del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4724280"/>
            <a:ext cx="280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rofeso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rancisco Tubino 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Arial"/>
              </a:rPr>
              <a:t>Sigl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CM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Class Manufactur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Q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otal Quality Managemen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QC (Total Quality Contr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PM (Total Productive Maintenanc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 (Computer Aided Desi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 (Computer Aided Manufactu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M (Computer Integrated Manufactur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WCM (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orld Class Manufacturing)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CM es la agrupación de estrategias como Control Total de Calidad (TQC), Sistemas de Producción Justo a Tiempo (JIT), Mantenimiento Productivo Total (TPM)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 objetivo es lograr que las empresas logren los mejores resultados inicialmente en tiempo de respuesta, productos y servicios de gran calidad y costes competitiv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5480" y="6310440"/>
            <a:ext cx="42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ceroaverias.com/archivo%2030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TQM (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otal Quality Management)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 filosofía de la Calidad Total proporciona una concepción global que fomenta la Mejora Continua en la organización y la involucración de todos sus miembros, centrándose en la satisfacción tanto del cliente interno como del ext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960" y="6310440"/>
            <a:ext cx="747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http://www.gestiopolis.com/recursos2/documentos/fulldocs/ger/caltotalmemo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3366"/>
                </a:solidFill>
                <a:latin typeface="Arial"/>
              </a:rPr>
              <a:t>TQC (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Total Quality Control)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55760" y="6310440"/>
            <a:ext cx="71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www.amte.org.mx/article102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stema que integ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o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enimiento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olvid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ar importancia al cliente y evaluación en su conjunto (procesos, depto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8172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TPM (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otal Productive Maintenance)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557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¿Por qué TOT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ficacia total de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lan para vida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volucra al Total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liminar pér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ducir par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arantizar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sminuir co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ducir accidentes labo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67280" y="6310440"/>
            <a:ext cx="47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www.solomantenimiento.com/m_ptm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8172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AD (Computer Aided Design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7770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iste en usar las computadoras para diseñar produ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odelos tridimensionales "sólidos" con características físicas como peso, volumen y centro de grav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ueden rotarse y observarse desde cualquier ángu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computador puede evaluar el desempeño estructural de cualquier parte el mode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iende a ser económico, rápido y más preciso que las técnicas de diseño manu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demás facilita las alteraciones del diseño para cumplir con los objetivos del proyecto.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2680" y="6310440"/>
            <a:ext cx="72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www.mailxmail.com/curso/informatica/componentespcs/capitulo38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8172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Arial"/>
              </a:rPr>
              <a:t>CAM (Computer Aided Manufacturing)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7011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a vez completado el diseño del producto, se alimentan las cifras a un programa que controla la fabricación de las piez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os sistemas CAM se utilizan para automatizar el proceso de fabricación, incluyendo la planificación y control del proceso, así como del control de máquinas y herramien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uso de sistemas CAM está más extendido en procesos de fabricación en cadena, en los que se realizan gran número de tareas mecánicas susceptibles de ser automatiz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63680" y="631044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imes New Roman"/>
              </a:rPr>
              <a:t>Fuente: http://www.ilustrados.com/publicaciones/EpZpklAuVEpMXEkEuc.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817236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CIM (Computer Integrated Manufacturing)</a:t>
            </a:r>
            <a:endParaRPr b="0" lang="en-US" sz="3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la combinación de CAD y C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IM incluye todas las actividades desde la percepción de la necesidad de un producto; la concepción, el diseño y el desarrollo del producto; también la producción, marketing y soporte del producto en uso. Toda acción envuelta en estas actividades usa datos, ya sean textuales, gráficos o numéri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20:45:52Z</dcterms:created>
  <dc:creator>IBM_User</dc:creator>
  <dc:description/>
  <dc:language>en-US</dc:language>
  <cp:lastModifiedBy>Francisco Tubino</cp:lastModifiedBy>
  <dcterms:modified xsi:type="dcterms:W3CDTF">2005-08-25T22:00:52Z</dcterms:modified>
  <cp:revision>10</cp:revision>
  <dc:subject/>
  <dc:title>Significado de Algunas Siglas</dc:title>
</cp:coreProperties>
</file>