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224-155D-4F48-A3CD-16EE31FE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091-F4FF-4EB2-B591-0D672B83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D02-B6B2-475D-BD94-DF421AF9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AF6-B456-4AA5-AD0D-165AD85B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41E9-BCDC-47CF-BB9E-8FCE35D4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7FE6-7007-483A-B304-7732CC0B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E17E-5613-45AB-92BF-6047E20C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DD3D-FF06-42A0-95F7-584DBED1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5304-52AD-499D-BD37-278AA674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AC79-1C76-479E-BBD9-545AA22F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F441-A231-41CB-9B92-640582E4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262B-FD17-4E5A-8669-28C801EF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2E30-FB2C-4B98-B967-48E89484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6309-2E8F-4D14-A5BF-FF3DD562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CFF2-5DDA-498C-A71F-0C6F5977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6130-6447-44EF-BCCC-EAFA3172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3317-17F9-41A5-A7C0-B2FF7027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52C-E600-48D2-A227-5D4E31F6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037-7A8F-4AE9-B762-6696E003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BED2-58A5-4D86-AB69-EBE50655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540-A5C4-45ED-9E8B-5225559B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BD0B-1245-4157-A324-75352AE1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D216-954F-4F23-86B0-10DDB0D1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8C7-D2CD-48F8-83D8-DB1F9F12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AE2B-E08C-481E-AE67-650B9A90E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B49A-F217-4603-8F5B-F6B2E50BE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1771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Significado de Sigl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62560" y="3573360"/>
            <a:ext cx="288144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tegran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ecilia Guíñ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ggitte J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avio Lob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grid Valenzue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76360" y="580536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6246720"/>
            <a:ext cx="6624720" cy="5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ÉCNICAS MODERNAS EN MANUFACTURA – IN5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 de agosto del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4724280"/>
            <a:ext cx="280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rofeso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rancisco Tubino 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Arial"/>
              </a:rPr>
              <a:t>Sigl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CM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Class Manufactur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Q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otal Quality Manageme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QC (Total Quality Contr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PM (Total Productive Maintenanc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 (Computer Aided Desi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 (Computer Aided Manufactu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M (Computer Integrated Manufactur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WCM (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orld Class Manufacturing)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CM es la agrupación de estrategias como Control Total de Calidad (TQC), Sistemas de Producción Justo a Tiempo (JIT), Mantenimiento Productivo Total (TPM)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 objetivo es lograr que las empresas logren los mejores resultados inicialmente en tiempo de respuesta, productos y servicios de gran calidad y costes competitiv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5480" y="6310440"/>
            <a:ext cx="42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ceroaverias.com/archivo%2030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TQM (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otal Quality Management)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 filosofía de la Calidad Total proporciona una concepción global que fomenta la Mejora Continua en la organización y la involucración de todos sus miembros, centrándose en la satisfacción tanto del cliente interno como del ext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960" y="6310440"/>
            <a:ext cx="747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http://www.gestiopolis.com/recursos2/documentos/fulldocs/ger/caltotalmemo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3366"/>
                </a:solidFill>
                <a:latin typeface="Arial"/>
              </a:rPr>
              <a:t>TQC (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Total Quality Control)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55760" y="6310440"/>
            <a:ext cx="71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www.amte.org.mx/article102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stema que integ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o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enimiento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olvid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ar importancia al cliente y evaluación en su conjunto (procesos, depto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8172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TPM (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otal Productive Maintenance)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¿Por qué TOT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ficacia total de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lan para vida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volucra al Total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liminar pér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ducir par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arantizar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sminuir co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ducir accidentes labo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67280" y="6310440"/>
            <a:ext cx="47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www.solomantenimiento.com/m_ptm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8172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AD (Computer Aided Design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7770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iste en usar las computadoras para diseñar produ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delos tridimensionales "sólidos" con características físicas como peso, volumen y centro de grav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ueden rotarse y observarse desde cualquier ángu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computador puede evaluar el desempeño estructural de cualquier parte el mode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iende a ser económico, rápido y más preciso que las técnicas de diseño manu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demás facilita las alteraciones del diseño para cumplir con los objetivos del proyecto.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2680" y="6310440"/>
            <a:ext cx="72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www.mailxmail.com/curso/informatica/componentespcs/capitulo38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8172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Arial"/>
              </a:rPr>
              <a:t>CAM (Computer Aided Manufacturing)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7011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a vez completado el diseño del producto, se alimentan las cifras a un programa que controla la fabricación de las piez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sistemas CAM se utilizan para automatizar el proceso de fabricación, incluyendo la planificación y control del proceso, así como del control de máquinas y herramien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uso de sistemas CAM está más extendido en procesos de fabricación en cadena, en los que se realizan gran número de tareas mecánicas susceptibles de ser automatiz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63680" y="631044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www.ilustrados.com/publicaciones/EpZpklAuVEpMXEkEuc.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8172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CIM (Computer Integrated Manufacturing)</a:t>
            </a:r>
            <a:endParaRPr b="0" lang="en-US" sz="3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la combinación de CAD y C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IM incluye todas las actividades desde la percepción de la necesidad de un producto; la concepción, el diseño y el desarrollo del producto; también la producción, marketing y soporte del producto en uso. Toda acción envuelta en estas actividades usa datos, ya sean textuales, gráficos o numéri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20:45:52Z</dcterms:created>
  <dc:creator>IBM_User</dc:creator>
  <dc:description/>
  <dc:language>en-US</dc:language>
  <cp:lastModifiedBy>Francisco Tubino</cp:lastModifiedBy>
  <dcterms:modified xsi:type="dcterms:W3CDTF">2005-08-25T22:00:52Z</dcterms:modified>
  <cp:revision>10</cp:revision>
  <dc:subject/>
  <dc:title>Significado de Algunas Siglas</dc:title>
</cp:coreProperties>
</file>