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6E9-1DF0-45C5-B4A6-1C58FF3A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4AD-1BA6-4EDB-9AC1-56FD17EE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2D0-C0AD-45B4-B76E-0885A951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68E-0AB5-44DF-B959-4AF7D1F9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90FC-FFA4-4A95-A6B2-7336394F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1E8C-8CD3-4299-B64A-043FDE4C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134B-9882-4527-9EC1-57216AD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2AAB-5A5A-4B98-A2FB-7E3DA58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A6A4-34E5-4750-9913-76AA496E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8662-E728-4DE4-A075-71C6DCC0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65CB-8DE7-4411-BF9D-E94CDEFA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0BB-DC6A-498B-A791-A1D48951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3E1F-0281-400E-8BD3-D3D0E99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197F-F7C9-40E3-BF5F-29267E8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19BE-2B18-43B5-B8FC-0CC609E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8EB3-AB21-4F95-A2F3-4DE26647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794B-7FB2-410E-BC2A-011C5130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15F-62D9-4E59-BF7A-DA0BF989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43E-DF2A-4578-876A-A5042116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816-138A-4487-85C9-50694C10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681-25C6-4144-9375-3001E6A4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A90-9AFF-4FEB-B262-A13D8A4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D65-3921-4BC3-A2DD-E6EFC1C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CA7-407B-4611-ADA2-A0CD8ACE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322-0DE9-4E0E-BF6F-706209BA1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2701-CFEB-43BE-88B1-527B1BCB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771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Significado de Sigl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62560" y="3573360"/>
            <a:ext cx="2881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ecilia Guíñ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ggitte J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avio Lob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rid Valenz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5805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6246720"/>
            <a:ext cx="662472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ÉCNICAS MODERNAS EN MANUFACTURA – IN5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 de agosto del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724280"/>
            <a:ext cx="28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ancisco Tubino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"/>
              </a:rPr>
              <a:t>Sigl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CM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Class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Q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tal Quality Manage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C (Total Quality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M (Total Productive Maintena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 (Computer Aided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 (Computer Aided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M (Computer Integrat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WC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orld Class Manufacturing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CM es la agrupación de estrategias como Control Total de Calidad (TQC), Sistemas de Producción Justo a Tiempo (JIT), Mantenimiento Productivo Total (TPM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 objetivo es lograr que las empresas logren los mejores resultados inicialmente en tiempo de respuesta, productos y servicios de gran calidad y costes competi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480" y="631044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ceroaverias.com/archivo%2030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Q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Quality Manageme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ilosofía de la Calidad Total proporciona una concepción global que fomenta la Mejora Continua en la organización y la involucración de todos sus miembros, centrándose en la satisfacción tanto del cliente interno como del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960" y="6310440"/>
            <a:ext cx="74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http://www.gestiopolis.com/recursos2/documentos/fulldocs/ger/caltotalmem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3366"/>
                </a:solidFill>
                <a:latin typeface="Arial"/>
              </a:rPr>
              <a:t>TQC (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otal Quality Control)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55760" y="6310440"/>
            <a:ext cx="71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amte.org.mx/article10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stema que integ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mient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lvid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ar importancia al cliente y evaluación en su conjunto (procesos, dept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P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Productive Maintenance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Por qué TO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ficacia total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n para vid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volucra al Total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iminar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arantiza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minuir c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accidentes labo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67280" y="631044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solomantenimiento.com/m_ptm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D (Computer Aided Design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7770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ste en usar las computadoras para diseñar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delos tridimensionales "sólidos" con características físicas como peso, volumen y centro de grav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ueden rotarse y observarse desde cualquier á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computador puede evaluar el desempeño estructural de cualquier parte el mode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iende a ser económico, rápido y más preciso que las técnicas de diseño man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demás facilita las alteraciones del diseño para cumplir con los objetivos del proyecto.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2680" y="6310440"/>
            <a:ext cx="72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mailxmail.com/curso/informatica/componentespcs/capitulo38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CAM (Computer Aided Manufacturing)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 vez completado el diseño del producto, se alimentan las cifras a un programa que controla la fabricación de las piez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sistemas CAM se utilizan para automatizar el proceso de fabricación, incluyendo la planificación y control del proceso, así como del control de máquinas y herramien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uso de sistemas CAM está más extendido en procesos de fabricación en cadena, en los que se realizan gran número de tareas mecánicas susceptibles de ser automat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3680" y="63104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ilustrados.com/publicaciones/EpZpklAuVEpMXEkEuc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CIM (Computer Integrated Manufacturing)</a:t>
            </a:r>
            <a:endParaRPr b="0" lang="en-US" sz="3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la combinación de CAD 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M incluye todas las actividades desde la percepción de la necesidad de un producto; la concepción, el diseño y el desarrollo del producto; también la producción, marketing y soporte del producto en uso. Toda acción envuelta en estas actividades usa datos, ya sean textuales, gráficos o numér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0:45:52Z</dcterms:created>
  <dc:creator>IBM_User</dc:creator>
  <dc:description/>
  <dc:language>en-US</dc:language>
  <cp:lastModifiedBy>Francisco Tubino</cp:lastModifiedBy>
  <dcterms:modified xsi:type="dcterms:W3CDTF">2005-08-25T22:00:52Z</dcterms:modified>
  <cp:revision>10</cp:revision>
  <dc:subject/>
  <dc:title>Significado de Algunas Siglas</dc:title>
</cp:coreProperties>
</file>