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67D-F26C-4FB5-B256-685752ED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9DD-915F-4084-8E2D-C487AB7C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D79-1ED4-468E-81B8-A93E05D7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2D0-6BD5-47F7-83A4-8D6C2F6F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1BB-7C68-43C9-BCA2-0A3843B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A6E-2163-46B3-BDEE-712C87E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605-1770-4F3C-9364-7B47DFC2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423-D0B1-4DB5-A467-2E24322F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5640-E28C-4AB0-B508-75AC609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F13F-089E-42E4-AC14-7F5770B2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DC1F-4342-4E89-B820-3C94C29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DF6-2DDF-4339-8591-94F07FEE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8CF1-EBD2-45B9-98C7-B75EE755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D94-D81F-4327-9AD7-790BA5C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20D8-971A-4686-BFBD-47083811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7D69-E50C-4886-8C76-073F6341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DECD-4B6E-4B37-9DF2-C08A92BF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8BD-B3E5-4D58-AF0B-374D319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758-4368-4554-83AC-A697BC1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D10-957B-471D-A82C-946088F7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6E1-C754-49C6-9CEA-3833FC43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E0D-005B-4990-88F5-A67A970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0A4-CBBC-4C58-A72E-750EA39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F68-4FE9-4474-B1CA-302467D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9713-9338-4F2C-871C-8FEEC3A0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9C70-E913-4BD2-BCB6-005C9EBD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77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ignificado de Sigl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62560" y="3573360"/>
            <a:ext cx="2881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ecilia Guíñ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gitte J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avio Lob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id Valenz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805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6246720"/>
            <a:ext cx="66247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ÉCNICAS MODERNAS EN MANUFACTURA – IN5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 de agosto de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sco Tubino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"/>
              </a:rPr>
              <a:t>Sig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C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lass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Q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tal Quality Mana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C (Total Quality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M (Total Productive Mainte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(Computer Aided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 (Computer Aided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M (Computer Integrat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WC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ld Class Manufacturing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CM es la agrupación de estrategias como Control Total de Calidad (TQC), Sistemas de Producción Justo a Tiempo (JIT), Mantenimiento Productivo Total (TPM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 objetivo es lograr que las empresas logren los mejores resultados inicialmente en tiempo de respuesta, productos y servicios de gran calidad y costes competi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480" y="631044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ceroaverias.com/archivo%2030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Q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Quality Manageme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ilosofía de la Calidad Total proporciona una concepción global que fomenta la Mejora Continua en la organización y la involucración de todos sus miembros, centrándose en la satisfacción tanto del cliente interno como del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960" y="6310440"/>
            <a:ext cx="74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http://www.gestiopolis.com/recursos2/documentos/fulldocs/ger/caltotalmem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3366"/>
                </a:solidFill>
                <a:latin typeface="Arial"/>
              </a:rPr>
              <a:t>TQC (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otal Quality Control)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55760" y="6310440"/>
            <a:ext cx="71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amte.org.mx/article10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stema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mient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lvi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r importancia al cliente y evaluación en su conjunto (procesos, dept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P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Productive Maintenance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Por qué TO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ficacia total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 para vid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volucra al Total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iminar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arantiza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minuir c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accidentes lab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67280" y="63104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solomantenimiento.com/m_ptm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D (Computer Aided Desig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ste en usar las computadoras para diseñar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los tridimensionales "sólidos" con características físicas como peso, volumen y centro de grav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ueden rotarse y observarse desde cualquier 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computador puede evaluar el desempeño estructural de cualquier parte el 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iende a ser económico, rápido y más preciso que las técnicas de diseño man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demás facilita las alteraciones del diseño para cumplir con los objetivos del proyecto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2680" y="6310440"/>
            <a:ext cx="72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mailxmail.com/curso/informatica/componentespcs/capitulo38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AM (Computer Aided Manufacturing)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vez completado el diseño del producto, se alimentan las cifras a un programa que controla la fabricación de las pi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sistemas CAM se utilizan para automatizar el proceso de fabricación, incluyendo la planificación y control del proceso, así como del control de máquinas y herramien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uso de sistemas CAM está más extendido en procesos de fabricación en cadena, en los que se realizan gran número de tareas mecánicas susceptibles de ser automat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3680" y="63104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ilustrados.com/publicaciones/EpZpklAuVEpMXEkEuc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CIM (Computer Integrated Manufacturing)</a:t>
            </a:r>
            <a:endParaRPr b="0" lang="en-US" sz="3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la combinación de CAD 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M incluye todas las actividades desde la percepción de la necesidad de un producto; la concepción, el diseño y el desarrollo del producto; también la producción, marketing y soporte del producto en uso. Toda acción envuelta en estas actividades usa datos, ya sean textuales, gráficos o numér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0:45:52Z</dcterms:created>
  <dc:creator>IBM_User</dc:creator>
  <dc:description/>
  <dc:language>en-US</dc:language>
  <cp:lastModifiedBy>Francisco Tubino</cp:lastModifiedBy>
  <dcterms:modified xsi:type="dcterms:W3CDTF">2005-08-25T22:00:52Z</dcterms:modified>
  <cp:revision>10</cp:revision>
  <dc:subject/>
  <dc:title>Significado de Algunas Siglas</dc:title>
</cp:coreProperties>
</file>