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973-D88A-4DDB-A438-138BB596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0F5-11F0-4A58-BD52-D51E42B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990-87BC-4533-AD63-8F18FAC9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395-2374-4625-9C8E-6FDF176D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D5D-B357-435A-873B-69C7E140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51A7-AABE-4C92-8039-30102A2A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653-D7E0-44A0-8C6F-3B55CDB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6E02-97FA-4B5B-A2EA-8FDBD542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8F41-0301-47A8-9F75-4E88E12F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8F6-0938-47F4-9A5C-F20567B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C2EC-CE45-4A02-B184-390DFF1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FD3-EDB2-44CB-8BB2-1B3BB2A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130-0196-4E66-8065-331F5B0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8B3-4317-4F64-956B-C2EF18D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459-C2CF-48C2-BE63-5DC191D9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1AAF-3C51-4A6D-BE4D-437CF0A4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1DE-81D1-4A98-BF5D-463ACECF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E40-60DB-4924-90E6-AAA8A1A3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67C-6EF0-4EF7-86D0-DBEC5E5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FB4-B10E-4FFA-8337-9D68935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4D4-AC3B-4B9D-ADAC-78BB81E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F1E-8DEF-4CC9-A6E7-2982CBC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EDE-AC6B-47CE-979A-7558E06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6E5-8F1D-41ED-B756-E51A5DA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0A2A-236D-4A77-A849-93EF1B90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797-44E5-432E-9A19-291651DE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77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ignificado de Sigl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62560" y="3573360"/>
            <a:ext cx="2881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ecilia Guíñ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gitte J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avio Lob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id Valenz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805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6246720"/>
            <a:ext cx="66247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ÉCNICAS MODERNAS EN MANUFACTURA – IN5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 de agosto de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sco Tubino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"/>
              </a:rPr>
              <a:t>Sig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C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lass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Q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tal Quality Mana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C (Total Quality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M (Total Productive Mainte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(Computer Aided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 (Computer Aided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M (Computer Integrat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WC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ld Class Manufacturing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CM es la agrupación de estrategias como Control Total de Calidad (TQC), Sistemas de Producción Justo a Tiempo (JIT), Mantenimiento Productivo Total (TPM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 objetivo es lograr que las empresas logren los mejores resultados inicialmente en tiempo de respuesta, productos y servicios de gran calidad y costes competi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480" y="631044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ceroaverias.com/archivo%2030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Q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Quality Manageme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ilosofía de la Calidad Total proporciona una concepción global que fomenta la Mejora Continua en la organización y la involucración de todos sus miembros, centrándose en la satisfacción tanto del cliente interno como del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960" y="6310440"/>
            <a:ext cx="74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http://www.gestiopolis.com/recursos2/documentos/fulldocs/ger/caltotalmem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3366"/>
                </a:solidFill>
                <a:latin typeface="Arial"/>
              </a:rPr>
              <a:t>TQC (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otal Quality Control)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55760" y="6310440"/>
            <a:ext cx="71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amte.org.mx/article10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stema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mient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lvi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r importancia al cliente y evaluación en su conjunto (procesos, dept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P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Productive Maintenance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Por qué TO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ficacia total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 para vid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volucra al Total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iminar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arantiza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minuir c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accidentes lab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67280" y="63104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solomantenimiento.com/m_ptm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D (Computer Aided Desig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ste en usar las computadoras para diseñar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los tridimensionales "sólidos" con características físicas como peso, volumen y centro de grav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ueden rotarse y observarse desde cualquier 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computador puede evaluar el desempeño estructural de cualquier parte el 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iende a ser económico, rápido y más preciso que las técnicas de diseño man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demás facilita las alteraciones del diseño para cumplir con los objetivos del proyecto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2680" y="6310440"/>
            <a:ext cx="72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mailxmail.com/curso/informatica/componentespcs/capitulo38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AM (Computer Aided Manufacturing)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vez completado el diseño del producto, se alimentan las cifras a un programa que controla la fabricación de las pi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sistemas CAM se utilizan para automatizar el proceso de fabricación, incluyendo la planificación y control del proceso, así como del control de máquinas y herramien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uso de sistemas CAM está más extendido en procesos de fabricación en cadena, en los que se realizan gran número de tareas mecánicas susceptibles de ser automat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3680" y="63104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ilustrados.com/publicaciones/EpZpklAuVEpMXEkEuc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CIM (Computer Integrated Manufacturing)</a:t>
            </a:r>
            <a:endParaRPr b="0" lang="en-US" sz="3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la combinación de CAD 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M incluye todas las actividades desde la percepción de la necesidad de un producto; la concepción, el diseño y el desarrollo del producto; también la producción, marketing y soporte del producto en uso. Toda acción envuelta en estas actividades usa datos, ya sean textuales, gráficos o numér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0:45:52Z</dcterms:created>
  <dc:creator>IBM_User</dc:creator>
  <dc:description/>
  <dc:language>en-US</dc:language>
  <cp:lastModifiedBy>Francisco Tubino</cp:lastModifiedBy>
  <dcterms:modified xsi:type="dcterms:W3CDTF">2005-08-25T22:00:52Z</dcterms:modified>
  <cp:revision>10</cp:revision>
  <dc:subject/>
  <dc:title>Significado de Algunas Siglas</dc:title>
</cp:coreProperties>
</file>