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B67-1185-4B7D-9709-833516ED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420-8457-402D-924C-58BB6815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DD6-5503-4D31-9772-65DC055C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E11-704E-45F8-A45B-B1D6813B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349-2039-4DF1-9C38-99C411AE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52F-E870-4AC9-A98D-FA10DDC5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557-9E49-4006-9958-017C556D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32B-4F1F-492B-92B1-4A77E5A6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C34-CA42-49A1-ADF0-41FF26CB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39F-65B2-4777-98F8-69BADCE9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95E-3500-4C5E-9C6D-119CD2B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888-111E-4000-A64D-1CFC72D7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DF29-F1DE-45F0-9239-FC94CF318A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istema de costeo intenta responder a preguntas tal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a fábrica de pintura producir una lata de pintu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anto le cuesta a una empresa auditora auditar a un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uánto le cuesta a un supermercado vender un pack de seis bebid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preguntas se formulan con múltiples propósitos, diseñar estrategias, tomar decisiones de fijación de precios y administración de costos, y cumplir con los requisitos de presentación de informes exter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*300 + 10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2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200 + 10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7.143 + 166.667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223.81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28.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5,76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umen de costos del produc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P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*300 + 5*1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6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*200 + 50*4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 + 83.33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26.19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.1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11,19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iendo que no hay inventarios de productos en proceso, determine el valor del producto a la salida del primer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60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Costeo por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00.000 + 300.0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Conversión Uni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.000 / 3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or del Producto al salir del primer proce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40 + $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 $/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Conve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iv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gnar todos los costos indirectos incurridos en el período a los productos fabricados. Para ello se debe seleccionar un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Base de Asign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 Asignación: es un método sistemático de relacionar un determinado costo o grupo de costos con un objetivo de costos. La selección de la base de asignación debe ser gui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pósito perseg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sto o esfuerzo necesario para la 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bases de asignación más utilizada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de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 mano de obr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materia prima o costo pr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 o espaci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na fábrica exis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Produ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emás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 de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conveniente departamentalizar los CI, puesto que un determin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to no necesariamente requiere de la participación de todos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15328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dad que realiza una función específica, que es responsabl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terminados costos y que ocupa un espacio físic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a Departamen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565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Secund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CI de los Departamentos de Producción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de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6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un conjunto de registros, procedimientos y equipos utilizados para recopilar, en forma rutinaria, la información de los cost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cumulan costos para facilitar decisiones. Nos centraremos en particular en las decisiones relacionadas con el costeo de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esa medir los costos por objeto de costos (no en un saco). Típicamente, departamentos o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33360"/>
            <a:ext cx="8534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333360"/>
            <a:ext cx="86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413000"/>
            <a:ext cx="8534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10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534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765000"/>
            <a:ext cx="861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6922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steo básicos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dos sistemas de costeo básico para asignar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a productos o servi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Órde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Ordene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a unidad individual, un lote o un servicio individual denominado trabajo. Orde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que producen a pedido o cuando hay centros de producción que fabrican muchos productos (ej: imprentas, constructora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hoja de costos acompaña al lote de producción, y en ella se registran los costos incurridos en cada departamento (MPD, MOD, 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sto Unitario Lote i: MPDi + MODi + CIi / Tamaño Lo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eo por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Objeto del Cost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proceso, que fabrican un sólo producto en grandes cant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n empresas con producción en grandes cantidades y en forma continua   (Ej.: Productos químicos, textiles, acero, minerí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ada proceso se miden los costos de MPD, MOD, CI incurridos en un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ego se determina el costo promedio de pasar una unidad de producto a través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Proceso i: MPD + MOD + CI / Nº de unidades proc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260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 de Costeo por Órdenes de Traba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fábrica recibe durante un determinado período dos órdenes de trabajo, para fabricar 5.000 unidades del producto X y 1.000 unidades del producto Y, respecti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hojas de costos muestran la siguiente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10 kg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rden de Fabricación Producto 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 kg de PVC (3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0 hrs (2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to. B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 Prim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5 kg de látex (1.000$/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 de Obra Direct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0 hrs (400$/h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, los costos indirectos de los departamentos A y B son de $200 mil y $250 mi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ide determinar el costo unitario de los productos X e 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distribuir los costos indirectos usaremos como base de asignación las horas de mano de o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.000 / 7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2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57.1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85,71*5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2.8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5341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ribución de los Costos Indirectos del Depto.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s de MOD utiliz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ota de Costos Indirec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/ Base   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50.000 / 1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 $/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1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66.6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 asignados a 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66,7*5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83.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.alvarez</cp:lastModifiedBy>
  <dcterms:modified xsi:type="dcterms:W3CDTF">2005-10-18T14:06:26Z</dcterms:modified>
  <cp:revision>18</cp:revision>
  <dc:subject/>
  <dc:title>Diapositiva 1</dc:title>
</cp:coreProperties>
</file>