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E68-4AB2-4401-B4F4-953F21EC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3C2-08E9-4AED-A640-D7400C19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958-4C21-4B72-97F1-3C4C8687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476-244E-440A-9678-EC3DE368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A2D-30FF-4909-BE6D-A990F421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46A-4D2D-4229-86A4-2F5FC39F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37D-FCD0-4E7C-B8AE-69CAE710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0A8-496D-4324-9952-8086F0B9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9D6-1EA0-45B6-ADC6-D6F8E3AE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1E2-6B9C-4C2E-81BD-0878F8F4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039-2AF8-4F48-BDB1-E5FD131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F61-AF4E-4325-840B-4D9B95D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FC7B96-F2CE-4804-85CD-FCA973818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vi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cia entre el resultado real y el proyectado (puede ser favorable o desfavorab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24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de gran utilidad para saber si los responsables están cumpliendo o no con los objetivos espec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- 14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4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 ejemplo en archivo Excel: “Presupuesto Flexible” adj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Presupuesto Flexible”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51" name="_s68616"/>
            <p:cNvCxnSpPr>
              <a:stCxn id="52" idx="0"/>
              <a:endCxn id="53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68617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68618"/>
            <p:cNvCxnSpPr>
              <a:stCxn id="57" idx="0"/>
              <a:endCxn id="58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8619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98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ivan.alvarez</cp:lastModifiedBy>
  <cp:lastPrinted>1999-04-29T23:00:42Z</cp:lastPrinted>
  <dcterms:modified xsi:type="dcterms:W3CDTF">2005-11-10T22:30:54Z</dcterms:modified>
  <cp:revision>28</cp:revision>
  <dc:subject/>
  <dc:title>Sin título de diapositiva</dc:title>
</cp:coreProperties>
</file>