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194D-E48C-47E8-9D82-E6F4A3F3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2CC-70E8-4B6A-A49E-AB3C8895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16C4-FFCF-497C-BD6B-D51068EF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715-6099-4980-BFB7-721A8251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EEA-FBAA-4386-81B3-45172A3F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C59-3598-43C2-9E6F-EBFC885C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3BE-7F5A-4AC0-A4CD-CCAA70D9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E5B3-DF95-47F2-BCAD-DD0F9010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1DFB-47F9-4336-865C-9F37D81D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44C-ABFC-40FB-BB2A-F14FA008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6DF6-49DD-4274-A898-36A00AB6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3BF6-0B09-416A-9226-C7CD56C7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68E111-5328-49A6-8176-8494DB2DC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Presupuestario y Análisis de Desvi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rol presupuest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sviació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erencia entre el resultado real y el proyectado (puede ser favorable o desfavorabl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7989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6858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500x800 – 550x800) x 6 = 24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1342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l análisis de las desviaciones es importante por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indicadores de gran utilidad para saber si los responsables están cumpliendo o no con los objetivos espec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5 x 800 x 40 – 26,25 x 800 x 45 = 800.000 – 945.000 = - 145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25x800 – 26,25x800) x 40 = 4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40 - 45) x 26,25 x 800 = - 105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supuesto Estát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supuesto Flexibl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se desarrolla considerando los precios y costos variables presupuestados y el nivel de producción re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r ejemplo en archivo Excel: “Presupuesto Flexible” adju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26000" y="121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men del Análisis de Variaciones </a:t>
            </a:r>
            <a:br>
              <a:rPr sz="28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Ver archivo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Presupuesto Flexible”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95280" y="1706400"/>
            <a:ext cx="8365320" cy="3958560"/>
            <a:chOff x="395280" y="1706400"/>
            <a:chExt cx="8365320" cy="3958560"/>
          </a:xfrm>
        </p:grpSpPr>
        <p:cxnSp>
          <p:nvCxnSpPr>
            <p:cNvPr id="51" name="_s68616"/>
            <p:cNvCxnSpPr>
              <a:stCxn id="52" idx="0"/>
              <a:endCxn id="53" idx="2"/>
            </p:cNvCxnSpPr>
            <p:nvPr/>
          </p:nvCxnSpPr>
          <p:spPr>
            <a:xfrm flipV="1" rot="16200000">
              <a:off x="4238640" y="3462840"/>
              <a:ext cx="222840" cy="1678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68617"/>
            <p:cNvCxnSpPr>
              <a:stCxn id="55" idx="0"/>
              <a:endCxn id="53" idx="2"/>
            </p:cNvCxnSpPr>
            <p:nvPr/>
          </p:nvCxnSpPr>
          <p:spPr>
            <a:xfrm flipH="1" flipV="1" rot="5400000">
              <a:off x="2561400" y="3463200"/>
              <a:ext cx="222840" cy="1678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68618"/>
            <p:cNvCxnSpPr>
              <a:stCxn id="57" idx="0"/>
              <a:endCxn id="58" idx="2"/>
            </p:cNvCxnSpPr>
            <p:nvPr/>
          </p:nvCxnSpPr>
          <p:spPr>
            <a:xfrm flipV="1" rot="16200000">
              <a:off x="5760360" y="1534320"/>
              <a:ext cx="222840" cy="2592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68619"/>
            <p:cNvCxnSpPr>
              <a:stCxn id="53" idx="0"/>
              <a:endCxn id="58" idx="2"/>
            </p:cNvCxnSpPr>
            <p:nvPr/>
          </p:nvCxnSpPr>
          <p:spPr>
            <a:xfrm flipH="1" flipV="1" rot="5400000">
              <a:off x="3932280" y="2297880"/>
              <a:ext cx="222840" cy="1065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" name="_s68620"/>
            <p:cNvSpPr/>
            <p:nvPr/>
          </p:nvSpPr>
          <p:spPr>
            <a:xfrm>
              <a:off x="2846520" y="1706400"/>
              <a:ext cx="3460320" cy="1013400"/>
            </a:xfrm>
            <a:prstGeom prst="roundRect">
              <a:avLst>
                <a:gd name="adj" fmla="val 16667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ariación del Presupuesto Estát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teriales Directos $ 98,000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no de Obra Directa 6,000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otal Costos Directos 92,400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_s68621"/>
            <p:cNvSpPr/>
            <p:nvPr/>
          </p:nvSpPr>
          <p:spPr>
            <a:xfrm>
              <a:off x="1919160" y="2941920"/>
              <a:ext cx="3184560" cy="1249200"/>
            </a:xfrm>
            <a:prstGeom prst="roundRect">
              <a:avLst>
                <a:gd name="adj" fmla="val 16667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ariación del Presupuesto Flexi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teriales Directos $ 21,600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no de Obra Directa 38,000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otal Costos Directos 59,600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68622"/>
            <p:cNvSpPr/>
            <p:nvPr/>
          </p:nvSpPr>
          <p:spPr>
            <a:xfrm>
              <a:off x="5576040" y="2941920"/>
              <a:ext cx="3184560" cy="1249200"/>
            </a:xfrm>
            <a:prstGeom prst="roundRect">
              <a:avLst>
                <a:gd name="adj" fmla="val 16667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ariación del Volumen de Vent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teriales Directos $ 120,000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no de Obra Directa 32,000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otal Costos Directos 152,000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68623"/>
            <p:cNvSpPr/>
            <p:nvPr/>
          </p:nvSpPr>
          <p:spPr>
            <a:xfrm>
              <a:off x="395280" y="4413960"/>
              <a:ext cx="2880720" cy="1251000"/>
            </a:xfrm>
            <a:prstGeom prst="roundRect">
              <a:avLst>
                <a:gd name="adj" fmla="val 16667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ariación en Pre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teriales Directos $ 44,400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no de Obra Directa 18,000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otal Costos Directos 26,400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68624"/>
            <p:cNvSpPr/>
            <p:nvPr/>
          </p:nvSpPr>
          <p:spPr>
            <a:xfrm>
              <a:off x="3747960" y="4413960"/>
              <a:ext cx="2880000" cy="1251000"/>
            </a:xfrm>
            <a:prstGeom prst="roundRect">
              <a:avLst>
                <a:gd name="adj" fmla="val 16667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ariación en Eficienc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teriales Directos $ 66,000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no de Obra Directa 20,000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otal Costos Directos 86,000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écnica de la contabilidad de costos que compara el costo considerado normal de cada producto, servicio o elemento con su costo real. Es una herramienta del control presupuest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n costos preestablecidos, se calculan antes de comenzar las oper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igual que con los costos históricos, se pueden con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pos de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dc:language>en-US</dc:language>
  <cp:lastModifiedBy>ivan.alvarez</cp:lastModifiedBy>
  <cp:lastPrinted>1999-04-29T23:00:42Z</cp:lastPrinted>
  <dcterms:modified xsi:type="dcterms:W3CDTF">2005-11-10T22:30:54Z</dcterms:modified>
  <cp:revision>28</cp:revision>
  <dc:subject/>
  <dc:title>Sin título de diapositiva</dc:title>
</cp:coreProperties>
</file>