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837-6D53-44E6-94B5-F10D954F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F33-7EB4-4ED6-B81E-7006E9CF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AC8-D151-43B2-81CE-73BB2CFE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7E6-AF07-41DA-898D-2ECB2861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7DB-79B7-4E1B-89EC-F73611D3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DBE-B106-438B-A9F4-DB709662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528-8143-47D4-925D-38218936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1EF-CDF0-439F-9E0D-A979C85F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BDE-739D-4ADB-967A-15419693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03F-C17D-4650-9889-F8C15C2B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6E8-7A69-47FD-95A9-E50E135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816-AACD-4926-B9C0-9FD0926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2DD6AF-43FB-410D-8202-AD34E7735A9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rol Presupuestario y 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nfersa a determinado que para producir 9.200 computadores requerirá los siguientes recur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responsable del almacén de Anfersa SA, ha estimado mantener siempre un stock de seguridad que le permitan atender la producción de 850 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523880"/>
            <a:ext cx="8591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upuesto y Ciclo Presupues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resupuesto es la expresión en términos monetarios de los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acción que una empresa tiene previsto llevar a cabo a lo largo de un período determin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el proceso por el cual una empresa elab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esupuesto para un determinado período. En él se definen tres concep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es de acción y sus respectivos pro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ultados previstos de los planes de a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estancado: se efectúa una vez al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progresivo: una vez transcurrido un subperíodo (mes, trimestre o cuatrimestre) se agrega el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único: se mantiene pase lo que p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revisado: se actualiza, para reflejar los cambios en las condiciones que sirvieron de base para su elab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flexible: se ajusta o se rehace con los valores reales de cantidades vendidas y produc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esupuestos Maestros (1 añ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upuesto Maest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495680"/>
            <a:ext cx="7199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 Financie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4479840"/>
            <a:ext cx="1828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868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jemplo: La empresa Anfersa SA planea vender 9.500 computadores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próximo año. Su presupuesto de ventas es el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54756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 Deben presentar información en términos cuanti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15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jemplo: Para poder alcanzar las ventas deseadas, Anfersa deberá incurrir en los siguientes gastos de ven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ivan.alvarez</cp:lastModifiedBy>
  <cp:lastPrinted>1999-04-29T23:00:42Z</cp:lastPrinted>
  <dcterms:modified xsi:type="dcterms:W3CDTF">2005-11-10T22:26:30Z</dcterms:modified>
  <cp:revision>25</cp:revision>
  <dc:subject/>
  <dc:title>Sin título de diapositiva</dc:title>
</cp:coreProperties>
</file>