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B617-DCFC-4489-93A4-5B5C694A8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EA21-A9D4-43C9-8824-99065BFF4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0996-DCA7-4A02-8703-BFB55933C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8002-6157-46AB-B9E6-7B0707911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A025-61C5-47B3-92ED-3C906C481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64FF-FEA0-42C9-8C55-A0640B68D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C5C9-4D0D-4705-AE33-C654BD0DB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1D79-D755-4D14-9C97-ECF15CBE2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2817-06C3-4A99-AF69-336A26737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B79A-98D1-4461-B83E-5D6CE5F45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B8DE-F57A-4155-B996-14B899DFD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47F9-D59C-41D6-8ADF-FEBC66C69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0772C02-96FB-4594-85F8-4CF46A625B71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758880"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Control Presupuestario y Costos Estánd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758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3.1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Formulación de Presupues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758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3.2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nálisis de Desvi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758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3.3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stos Estánd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as diferentes variables o conceptos que lo componen deben venir desagregadas por centros de responsabilidad. Esto facilita la evaluación en base a los objetivos asignados a cada unidad de la organización (control de gestión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3640" y="228240"/>
            <a:ext cx="8134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758880"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e)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Presupuestos parciales e integración presupuesta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as distintas actividades llevadas a cabo dentro de la organización dará lugar a la necesidad de elaborar presupuesto en cada centro de responsabilidad, que se conocen como presupuestos parciales. Por ejemplo: presupuesto de ventas, presupuestos de fabricación, presupuestos de compras, presupuestos financieros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in embargo, la empresa debe ser vista como un todo unitario, coordinado y coherente, en busca de un objetivo comú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a integración de los presupuestos parciales dará lugar al Presupuesto Maest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380880" y="533520"/>
            <a:ext cx="8382240" cy="58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Normalmente se usa el método de integración sucesiva, en donde 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unto de partida es el presupuesto de venta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a secuencia de la integración sucesiva es la siguien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resupuesto de ventas y gastos de ven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resupuesto de existencias de productos en proceso y productos terminad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CL" sz="2000" spc="-1" strike="noStrike">
                <a:solidFill>
                  <a:srgbClr val="000000"/>
                </a:solidFill>
                <a:latin typeface="Arial"/>
              </a:rPr>
              <a:t>La empresa Anfersa tiene un stock de 1.200 computadores valorados en $60 millones. Desea mantener un stock de seguridad de 900 unidades. Luego, necesitará producir 9.200 computadores el próximo añ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395280" y="533160"/>
            <a:ext cx="8291520" cy="210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resupuestos de costos de producción por departamentos o centros de actividad. Con la información anterior es posible planificar la producción, señalando los recursos necesari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CL" sz="2000" spc="-1" strike="noStrike">
                <a:solidFill>
                  <a:srgbClr val="000000"/>
                </a:solidFill>
                <a:latin typeface="Arial"/>
              </a:rPr>
              <a:t>Anfersa a determinado que para producir 9.200 computadores requerirá los siguientes recurs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971640" y="3141720"/>
            <a:ext cx="6913440" cy="26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324000" y="609120"/>
            <a:ext cx="836280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resupuesto de existencias de materias primas. En función del inventario actual y de las necesidades de producción, el responsable del almacén deberá determinar el volumen de existencias a mantener a lo largo del perío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CL" sz="2000" spc="-1" strike="noStrike">
                <a:solidFill>
                  <a:srgbClr val="000000"/>
                </a:solidFill>
                <a:latin typeface="Arial"/>
              </a:rPr>
              <a:t>El responsable del almacén de Anfersa SA, ha estimado mantener siempre un stock de seguridad que le permitan atender la producción de 850 unidad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250560" y="457200"/>
            <a:ext cx="843588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resupuestos de compras y gastos de compras. Con la información del punto anterior, el responsable de las compras determinará los volúmenes que deberá solicitar mensualmente a los proveedores, así como los precios, las fechas de pago y los demás costos asociados a las compr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187280" y="2565360"/>
            <a:ext cx="6400800" cy="27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323640" y="228600"/>
            <a:ext cx="8134200" cy="247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resupuesto de inversiones. Paralelamente, los ingenieros de producción determinarán las necesidades de nuevos equipos, para llevar a cabo la fabricación previs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7. 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resupuesto de gastos de administración. El responsable de administración calculará las necesidades de la empresa en estas funcion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403280" y="3213000"/>
            <a:ext cx="6400800" cy="30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250560" y="609480"/>
            <a:ext cx="8435880" cy="181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8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resupuesto de caja y de gastos financiero. El centro de administración financiera estimará los recursos líquidos necesarios para hacer frente a todos los pagos y las necesidades de financiamiento. Además, deberá presupuestar los costos del propio centr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900000" y="2997360"/>
            <a:ext cx="7086600" cy="27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jemplo: Elaboración de Presupues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610480" cy="244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78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5888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Una empresa comercial se encuentra en el proceso de elaboración 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8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5888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esupuesto Maestro para los primeros cuatro meses de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2006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, para 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8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5888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ual dispone de la siguiente informació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8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5888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88400" indent="-78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romanUcPeriod"/>
              <a:tabLst>
                <a:tab algn="l" pos="75888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Oper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788400" indent="-788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75888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ronóstico de venta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e proyecta vender las sigui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8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5888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antidades de mercaderí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28600" y="3933720"/>
            <a:ext cx="8915400" cy="892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324000" y="4842000"/>
            <a:ext cx="8515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s ventas en diciembre pasado alcanzaron a las 4.000 unida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precio de venta es de $10 por unidad y se espera que no cambie en el futuro. Las ventas se efectúan 60% al contado y el resto pagadero al mes sigui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8686800" cy="632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sto de ventas y niveles de existenc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empresa vende con un Margen de Explotación del 30%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e desea mantener existencias de $20.000 como base más un 80% del costo de venta del mes sigui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s mercaderías se compran pagando un 50% al contado y el resto al mes sigui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1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mulación de Presupues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23640" y="1523880"/>
            <a:ext cx="8591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supuesto y Ciclo Presupuest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 presupuesto es la expresión en términos monetarios de los pla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 acción que una empresa tiene previsto llevar a cabo a lo largo de un período determina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iclo Presupuestari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s el proceso por el cual una empresa elabo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 presupuesto para un determinado período. En él se definen tres concept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67012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67012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lanes de acción y sus respectivos progra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67012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sultados previstos de los planes de ac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95280" y="549360"/>
            <a:ext cx="8424720" cy="43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Gastos de Administración y Ven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Remuneracione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 pagan cada 15 días, en el período sigu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l que son ganadas, ascendiendo a $2.500 por m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omisiones sobre venta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scienden al 15% de las ventas y 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agan de la misma forma que las remuneraciones fij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Otros gastos variables: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lcanzan al 5% de las ventas y se pagan 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nta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Otros gastos de administración y ventas fijo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ebe pagar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$2.000 al mes por concepto de arriendo, se consumen seguros por $200 y la depreciación se calcula en $400 al m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80520" y="457200"/>
            <a:ext cx="8458200" cy="601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12880" indent="-812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romanUcPeriod" startAt="2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nvers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-812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e proyecta realizar una inversión de $3.000, al contado, durante el primer mes, en un vehículo que se destinará al transporte de mercadería. Este se deprecia en 30 mes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-812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romanUcPeriod" startAt="3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aja y financi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-812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e desea mantener, por motivos de seguridad, un saldo de caja mínimo de $10.000 a fines de cada m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-812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 casos de déficit de caja, la empresa dispone de una línea de crédito, cuya tasa de interés es del 2% mensual. Las amortizaciones y el pago de intereses pueden efectuarse cuando la empresa lo dese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24000" y="533520"/>
            <a:ext cx="83628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IV.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Balance general al 31 de diciembre de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2005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79280" y="1557360"/>
            <a:ext cx="881244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765000"/>
            <a:ext cx="8893080" cy="50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692280"/>
            <a:ext cx="891540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865980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52280" y="139680"/>
            <a:ext cx="8686800" cy="64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5905440" cy="47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28600" y="404640"/>
            <a:ext cx="8736120" cy="39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Otros tipos de presupues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 acuerdo al período temporal que comprende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resupuesto estancado: se efectúa una vez al añ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resupuesto progresivo: una vez transcurrido un subperíodo (mes, trimestre o cuatrimestre) se agrega el sigui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 acuerdo a la posibilidad de introducir modificacion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resupuesto único: se mantiene pase lo que p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resupuesto revisado: se actualiza, para reflejar los cambios en las condiciones que sirvieron de base para su elabor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 acuerdo a la adaptación de los valores presupuestados a los volúmenes realmente alcanzad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resupuesto fij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resupuesto flexible: se ajusta o se rehace con los valores reales de cantidades vendidas y producid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entajas del Proceso Presupuesta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62120" y="12189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liga a los ejecutivos o administradores a pensar en forma estructurada sobre el futur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mite establecer metas que posibiliten la evaluación del desempeñ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 obtiene una mayor coordinación y coherencia en el trabajo de las distintas unidades o centros de responsabilida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rve como motiv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mite comunicar los objetivos de la alta dirección a las divisiones operativ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ipos de Presupues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520" y="1773000"/>
            <a:ext cx="8153640" cy="401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pendiendo del horizonte de planificació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resupuestos Maestros (1 año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upuesto Operac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upuesto Financie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Presupuesto de Capital (más de 1 año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supuesto Maestr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)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upuesto Operaciona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upuesto de Vent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upuesto de Produc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upuesto de MP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upuesto de MO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upuesto de Gastos de Fabric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upuesto de Existenc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4495680"/>
            <a:ext cx="719928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)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upuestos Financier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upuesto de Caj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.G. presupuesta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ERR presupuesta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683600" y="4941720"/>
            <a:ext cx="505080" cy="10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Symbol"/>
                <a:ea typeface="Symbol"/>
              </a:rPr>
              <a:t>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219640" y="5229360"/>
            <a:ext cx="24544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stado Financiero Profor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505320" y="3657600"/>
            <a:ext cx="198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492360" y="3657600"/>
            <a:ext cx="12960" cy="2940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486400" y="3657600"/>
            <a:ext cx="22320" cy="2940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3733920"/>
            <a:ext cx="1828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supues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vers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505320" y="4419720"/>
            <a:ext cx="198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581280" y="4479840"/>
            <a:ext cx="1828800" cy="21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96920" indent="-19692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ueva Tecnolog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novación-A.F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uevas Instala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umento capac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3492360" y="6597720"/>
            <a:ext cx="1981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38080" y="304920"/>
            <a:ext cx="1981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38080" y="304920"/>
            <a:ext cx="0" cy="2819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38080" y="3124080"/>
            <a:ext cx="1981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304920"/>
            <a:ext cx="0" cy="2819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14400" y="380880"/>
            <a:ext cx="1828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anific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tratég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38080" y="1066680"/>
            <a:ext cx="1981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14400" y="1432080"/>
            <a:ext cx="1981080" cy="15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96920" indent="-196920">
              <a:lnSpc>
                <a:spcPct val="10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s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10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álisis interno y exter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10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strategi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10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nes de A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2200" y="228600"/>
            <a:ext cx="198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72200" y="228600"/>
            <a:ext cx="0" cy="2895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172200" y="3124080"/>
            <a:ext cx="198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153280" y="228600"/>
            <a:ext cx="0" cy="2895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48520" y="304920"/>
            <a:ext cx="1828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supues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ancie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172200" y="990720"/>
            <a:ext cx="198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248520" y="1295280"/>
            <a:ext cx="182880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96920" indent="-196920">
              <a:lnSpc>
                <a:spcPct val="10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.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10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ER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10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supuesto de Caj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505320" y="304920"/>
            <a:ext cx="198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505320" y="304920"/>
            <a:ext cx="0" cy="2819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486400" y="304920"/>
            <a:ext cx="0" cy="2819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581280" y="380880"/>
            <a:ext cx="1828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supues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c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505320" y="1066680"/>
            <a:ext cx="198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581280" y="1127160"/>
            <a:ext cx="1981440" cy="19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96920" indent="-19692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n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du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p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ers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astos Administrativ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3504960" y="3124080"/>
            <a:ext cx="198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819520" y="167652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486400" y="167652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828800" y="312408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828800" y="4267080"/>
            <a:ext cx="1676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486400" y="4343400"/>
            <a:ext cx="1676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7162920" y="3123720"/>
            <a:ext cx="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0560" y="3805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758880"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d)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Características de los presupuestos operacion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ben comprender todas y cada una de las funciones que se desarrollan en la empresa, en situación de normalidad. Entonces habrán presupuestos de ventas, de compras, de remuneraciones, de producción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presentan la actuación futura de la organización, por lo que la información que contienen se refiere a proyecciones y no a hechos históric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uelen comprender el horizonte temporal correspondiente al ejercicio contable, generalmente un añ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250920" y="1341360"/>
            <a:ext cx="8686800" cy="93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Arial"/>
              </a:rPr>
              <a:t>Ejemplo: La empresa Anfersa SA planea vender 9.500 computadores 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Arial"/>
              </a:rPr>
              <a:t>próximo año. Su presupuesto de ventas es el siguien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835280" y="2276640"/>
            <a:ext cx="4752720" cy="39607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95280" y="547560"/>
            <a:ext cx="842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4. Deben presentar información en términos cuantita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305920" cy="151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ben especificar tanto los objetivos concretos que se quieren alcanzar como los medios necesarios para conseguirl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CL" sz="2000" spc="-1" strike="noStrike">
                <a:solidFill>
                  <a:srgbClr val="000000"/>
                </a:solidFill>
                <a:latin typeface="Arial"/>
              </a:rPr>
              <a:t>Ejemplo: Para poder alcanzar las ventas deseadas, Anfersa deberá incurrir en los siguientes gastos de vent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258920" y="2421000"/>
            <a:ext cx="525780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2-10T16:31:30Z</dcterms:created>
  <dc:creator>mmv</dc:creator>
  <dc:description/>
  <dc:language>en-US</dc:language>
  <cp:lastModifiedBy>ivan.alvarez</cp:lastModifiedBy>
  <cp:lastPrinted>1999-04-29T23:00:42Z</cp:lastPrinted>
  <dcterms:modified xsi:type="dcterms:W3CDTF">2005-11-10T22:26:30Z</dcterms:modified>
  <cp:revision>25</cp:revision>
  <dc:subject/>
  <dc:title>Sin título de diapositiva</dc:title>
</cp:coreProperties>
</file>