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E57-ABF1-43ED-8DDF-7CCC24AB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4E89-F2EA-4B38-980C-38EDB0A1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690E-94C1-40C5-BE8F-B4049FA5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B3A-50E9-4B76-A7FD-7DD67BF4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612-A062-467D-991A-38BA7AF3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8CC8-2C28-47CC-B816-8B07F6A0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3A8D-CE34-4B3F-A97B-95E60DDF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4430-2DE2-4CED-9B0F-05E708D6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CC8-A77A-46C7-8D0F-C1C36D2C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2FB6-147C-416A-AA45-8E353E09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5C6-7DE5-4816-B3A4-864882F9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3A4-5A58-4B40-9959-7A078A7F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E337E35-B41F-422C-A5EE-77B23816CC5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ntrol Presupuestario y 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58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ormulación de 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stos Están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Presupuestos parciales e integración presupues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distintas actividades llevadas a cabo dentro de la organización dará lugar a la necesidad de elaborar presupuesto en cada centro de responsabilidad, que se conocen como presupuestos parciales. Por ejemplo: presupuesto de ventas, presupuestos de fabricación, presupuestos de compras, presupuestos financiero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n embargo, la empresa debe ser vista como un todo unitario, coordinado y coherente, en busca de un objetivo comú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integración de los presupuestos parciales dará lugar al Presupuesto Maes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rmalmente se usa el método de integración sucesiva, en donde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nto de partida es el presupuesto de vent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secuencia de la integración sucesiva es la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de ventas y gastos de ven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de existencias de productos en proceso y productos termin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La empresa Anfersa tiene un stock de 1.200 computadores valorados en $60 millones. Desea mantener un stock de seguridad de 900 unidades. Luego, necesitará producir 9.200 computadores el próximo a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533160"/>
            <a:ext cx="829152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Anfersa a determinado que para producir 9.200 computadores requerirá los siguientes recurs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6913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609120"/>
            <a:ext cx="83628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l responsable del almacén de Anfersa SA, ha estimado mantener siempre un stock de seguridad que le permitan atender la producción de 850 un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560" y="457200"/>
            <a:ext cx="8435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3640" y="228600"/>
            <a:ext cx="8134200" cy="24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de gastos de administración. El responsable de administración calculará las necesidades de la empresa en estas fun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609480"/>
            <a:ext cx="8435880" cy="18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0866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: Elaboración de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comercial se encuentra en el proceso de elaboración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upuesto Maestro para los primeros cuatro meses de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para 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l dispone de la siguiente inform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8400" indent="-78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7588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88400" indent="-78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7588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nóstico de vent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royecta vender las sigu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ntidades de mercaderí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3933720"/>
            <a:ext cx="8915400" cy="892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4842000"/>
            <a:ext cx="85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ventas en diciembre pasado alcanzaron a las 4.000 unida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ecio de venta es de $10 por unidad y se espera que no cambie en el futuro. Las ventas se efectúan 60% al contado y el resto pagadero al mes sigu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sto de ventas y niveles de ex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mpresa vende con un Margen de Explotación del 3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desea mantener existencias de $20.000 como base más un 80% del costo de venta del mes sigu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mercaderías se compran pagando un 50% al contado y el resto al mes sigu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ulación de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1523880"/>
            <a:ext cx="8591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upuesto y Ciclo Presupues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presupuesto es la expresión en términos monetarios de los p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acción que una empresa tiene previsto llevar a cabo a lo largo de un período determin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clo Presupuesta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el proceso por el cual una empresa elab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resupuesto para un determinado período. En él se definen tres concep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701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701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nes de acción y sus respectivos progra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701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sultados previstos de los planes de a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549360"/>
            <a:ext cx="842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stos de Administración y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muneracion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 pagan cada 15 días, en el período sigu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 que son ganadas, ascendiendo a $2.500 por 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isiones sobre vent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cienden al 15% de las ventas y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gan de la misma forma que las remuneraciones fij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os gastos variabl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canzan al 5% de las ventas y se pagan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tros gastos de administración y ventas fij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be paga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$2.000 al mes por concepto de arriendo, se consumen seguros por $200 y la depreciación se calcula en $400 al 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 startAt="2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 startAt="3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ja y financ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desea mantener, por motivos de seguridad, un saldo de caja mínimo de $10.000 a fines de cada 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533520"/>
            <a:ext cx="8362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V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alance general al 31 de diciembre de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1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8893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8915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5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5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36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Otros tipos de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acuerdo al período temporal que compren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estancado: se efectúa una vez al a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progresivo: una vez transcurrido un subperíodo (mes, trimestre o cuatrimestre) se agrega el sigu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acuerdo a la posibilidad de introducir modific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único: se mantiene pase lo que p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revisado: se actualiza, para reflejar los cambios en las condiciones que sirvieron de base para su elab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acuerdo a la adaptación de los valores presupuestados a los volúmenes realmente alcanz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supuesto flexible: se ajusta o se rehace con los valores reales de cantidades vendidas y produci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ntajas del Proceso Presupues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 a los ejecutivos o administradores a pensar en forma estructurada sobre el futu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establecer metas que posibiliten la evaluación del desempe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obtiene una mayor coordinación y coherencia en el trabajo de las distintas unidades o centros de responsabi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ve como motiv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municar los objetivos de la alta dirección a las divisiones opera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pos de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15364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endiendo del horizonte de planific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esupuestos Maestros (1 añ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Presupuesto de Capital (más de 1 añ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upuesto Maest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Operacion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de Ven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de Prod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de MP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de M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de Gastos de Fabr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de Exist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495680"/>
            <a:ext cx="71992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s Financier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upuesto de Ca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G. presupu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RR presupu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0" y="494172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5229360"/>
            <a:ext cx="245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tado Financiero Pro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492360" y="3657600"/>
            <a:ext cx="12960" cy="294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3657600"/>
            <a:ext cx="22320" cy="294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33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4479840"/>
            <a:ext cx="182880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 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ovación-A.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s 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mento capa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92360" y="65977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432080"/>
            <a:ext cx="19810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interno y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s de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48520" y="304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1295280"/>
            <a:ext cx="1828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R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upuesto de C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128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1127160"/>
            <a:ext cx="19814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tos Administ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42670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aracterísticas de los presupuestos oper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n comprender todas y cada una de las funciones que se desarrollan en la empresa, en situación de normalidad. Entonces habrán presupuestos de ventas, de compras, de remuneraciones, de producción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presentan la actuación futura de la organización, por lo que la información que contienen se refiere a proyecciones y no a hechos histó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elen comprender el horizonte temporal correspondiente al ejercicio contable, generalmente un a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68680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jemplo: La empresa Anfersa SA planea vender 9.500 computadores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próximo año. Su presupuesto de ventas es el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4752720" cy="3960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547560"/>
            <a:ext cx="84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4. Deben presentar información en términos cuantit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15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n especificar tanto los objetivos concretos que se quieren alcanzar como los medios necesarios para conseguir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Ejemplo: Para poder alcanzar las ventas deseadas, Anfersa deberá incurrir en los siguientes gastos de ven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dc:language>en-US</dc:language>
  <cp:lastModifiedBy>ivan.alvarez</cp:lastModifiedBy>
  <cp:lastPrinted>1999-04-29T23:00:42Z</cp:lastPrinted>
  <dcterms:modified xsi:type="dcterms:W3CDTF">2005-11-10T22:26:30Z</dcterms:modified>
  <cp:revision>25</cp:revision>
  <dc:subject/>
  <dc:title>Sin título de diapositiva</dc:title>
</cp:coreProperties>
</file>