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F02E3-5C23-4642-9101-E80985290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110B0-1B24-467A-B9EA-75D1B0822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0E416-1775-4900-9B9A-E65A7F209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3274D-F73B-4ACA-99F5-08FB756A4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0EB25-1875-46F7-87CB-8101752E5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64445-B28D-4D83-8FEE-34BB15316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0DEE1-E87B-4479-B327-CC2396263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E76FF-4A85-41C8-8C98-34B767A2F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653F7-EACC-43D7-B43B-1C699D2C3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A331D-F078-4A89-B870-CAE22AC13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4AA20-41F3-49BD-A240-63ED29C3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3643-2798-4CC8-A59F-86D609042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9E8C07-F772-4502-817D-C70550226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Costos y Decisiones de Operación</a:t>
            </a:r>
            <a:endParaRPr b="0" lang="en-US" sz="28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Relación Costo - Volumen - Utilida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2</a:t>
            </a:r>
            <a:r>
              <a:rPr b="0" lang="en-US" sz="2000" spc="-1" strike="noStrike">
                <a:solidFill>
                  <a:srgbClr val="000000"/>
                </a:solidFill>
                <a:latin typeface="Arial"/>
              </a:rPr>
              <a:t>	</a:t>
            </a:r>
            <a:r>
              <a:rPr b="0" lang="en-US" sz="2000" spc="-1" strike="noStrike">
                <a:solidFill>
                  <a:srgbClr val="000000"/>
                </a:solidFill>
                <a:latin typeface="Arial"/>
              </a:rPr>
              <a:t>Decisiones de Corto Plazo</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IVAN ALVAREZ VALDES</cp:lastModifiedBy>
  <cp:lastPrinted>1999-04-29T23:00:25Z</cp:lastPrinted>
  <dcterms:modified xsi:type="dcterms:W3CDTF">2005-10-21T03:25:03Z</dcterms:modified>
  <cp:revision>12</cp:revision>
  <dc:subject/>
  <dc:title>2. Costos y Decisiones de Operación</dc:title>
</cp:coreProperties>
</file>