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087AB-4262-450A-8C94-70B805AC7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6B6CC-ECDA-46E7-91EA-B4E3E1BD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69A40-3C13-4EA5-A4CD-DE81AB49B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BACFC-EAA9-435D-93C3-48DF0D4A7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189B4-D13A-4FF1-9CDB-E2AB3151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FEAF-8B1A-4E0A-B7D9-A6DDB33F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8A4E-4FA3-45FB-B76C-78542A1F8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2862-7C45-4D21-843A-734F0C1A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4615-142C-460F-9FC5-4C241D30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8C22-F192-4410-A408-E84E57B64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587C9-81D2-4C56-9D0F-92601832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FE403-457C-4B1B-AC67-CDB251B3C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182E99D-C41E-4A2C-A4B6-B4AB0BA76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Costos y Decisiones de Operación</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Relación Costo - Volumen - Utilida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Decisiones de Corto Plaz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IVAN ALVAREZ VALDES</cp:lastModifiedBy>
  <cp:lastPrinted>1999-04-29T23:00:25Z</cp:lastPrinted>
  <dcterms:modified xsi:type="dcterms:W3CDTF">2005-10-21T03:25:03Z</dcterms:modified>
  <cp:revision>12</cp:revision>
  <dc:subject/>
  <dc:title>2. Costos y Decisiones de Operación</dc:title>
</cp:coreProperties>
</file>