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14EA4-F0CA-4A94-8E8E-F9D1297CC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A43A5-AC4D-45F1-B1C1-2C1B6524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058E6-2773-4D3D-A804-0ACDE1E59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611D9-8203-4591-B6B3-455D93D6C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2B98B-321E-42B0-B394-6B965EE0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E2EA-DE16-4817-808F-06DCD639D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9685-0DC4-4F35-89B4-4F07D408C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3B6D5-41B8-4FFB-BF3E-C91DD79DB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7845-46BD-4393-8BE9-E9EEB25D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4A0A-5A80-41AE-A17E-E2AD761B4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1F28F-335B-45BF-A1F9-D2FEDEF1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DD158-6BAD-4904-BF94-CFF311922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499BF2-F53C-4538-8CA2-6BF847707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Costos y Decisiones de Operación</a:t>
            </a:r>
            <a:endParaRPr b="0" lang="en-US" sz="28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Relación Costo - Volumen - Utilida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Arial"/>
              </a:rPr>
              <a:t>Decisiones de Corto Plaz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IVAN ALVAREZ VALDES</cp:lastModifiedBy>
  <cp:lastPrinted>1999-04-29T23:00:25Z</cp:lastPrinted>
  <dcterms:modified xsi:type="dcterms:W3CDTF">2005-10-21T03:25:03Z</dcterms:modified>
  <cp:revision>12</cp:revision>
  <dc:subject/>
  <dc:title>2. Costos y Decisiones de Operación</dc:title>
</cp:coreProperties>
</file>