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7AD25-8A34-47B8-93D4-57930DB84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CC6A1-A810-4AE5-93E0-F2A8151DC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2057C-0DF4-42F2-A83F-AF44D7CB8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BBF88-CC13-4287-B6BA-E894194CF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37178-DB77-4748-ADB6-95D2DF6EC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A333C-C0F9-4EE9-B5E2-D395CE135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9B726-48CB-411A-BCD3-0B0B08CBC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78C9A-8B6A-42A4-AAFD-5DDD287B9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AE713-6976-4FD9-A206-1267FFD72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02782-DF04-4E7F-9C2F-A7C1EDF2C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4A885-C371-44C6-A6BB-F2E082D67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60C93-A138-4F23-AE59-04E2C4089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C313438-9326-4B45-B00B-CD1C4D91E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Costos y Decisiones de Operación</a:t>
            </a:r>
            <a:endParaRPr b="0" lang="en-US" sz="28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Relación Costo - Volumen - Utilida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2</a:t>
            </a:r>
            <a:r>
              <a:rPr b="0" lang="en-US" sz="2000" spc="-1" strike="noStrike">
                <a:solidFill>
                  <a:srgbClr val="000000"/>
                </a:solidFill>
                <a:latin typeface="Arial"/>
              </a:rPr>
              <a:t>	</a:t>
            </a:r>
            <a:r>
              <a:rPr b="0" lang="en-US" sz="2000" spc="-1" strike="noStrike">
                <a:solidFill>
                  <a:srgbClr val="000000"/>
                </a:solidFill>
                <a:latin typeface="Arial"/>
              </a:rPr>
              <a:t>Decisiones de Corto Plazo</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IVAN ALVAREZ VALDES</cp:lastModifiedBy>
  <cp:lastPrinted>1999-04-29T23:00:25Z</cp:lastPrinted>
  <dcterms:modified xsi:type="dcterms:W3CDTF">2005-10-21T03:25:03Z</dcterms:modified>
  <cp:revision>12</cp:revision>
  <dc:subject/>
  <dc:title>2. Costos y Decisiones de Operación</dc:title>
</cp:coreProperties>
</file>