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A40-B827-444A-88A4-A35CB891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08F-72EE-4764-90DF-D99C96BF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DDB-6D12-4BD8-BCCA-EE70515D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F39-FD83-4C7A-83F9-023EB8B1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86C-5EBF-4910-BF2A-E3CF7FED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838-9EC2-41DE-BCB2-0476A86F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EDF-C4E7-429E-A02F-24556984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5DE-250A-4668-B8CA-5403DB8B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21F-9616-4AC0-BA2E-B797CF79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1F7-BB66-4028-A0DF-A1F15B4B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458-0A26-4710-842F-0680DE8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B6C-DF25-48AA-AFC8-6A7571D5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DE89-0B6E-46AE-BAB1-3E9857491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ABC (Activity-Based Co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916280"/>
          <a:ext cx="6243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6243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ses y Etapas del Proceso de Asignación 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633400"/>
            <a:ext cx="175248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as actividades de cada cen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659840"/>
            <a:ext cx="175248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) Asignación de los costos indirectos a los c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) Identificación de las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) Reclasificación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n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ión de órdenes de comp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órdenes cur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e inter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te de materia pri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stas a punto de las máquin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puestas a p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s de ingenier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s empl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aje de part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= Costo actividad / número de gen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7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actividad * N° de generadores de cada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fabrica dos productos, X e Y, para los cuales se tien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la producción la empresa cuenta con cuatro departamento, para los que se conoc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BC)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 nuevo enfoque de los costos de la empresa, que toma la información financiera y operacional existente y la visualiza a través de un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modelo de actividad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permitiendo así analizar múltiples visiones del negocio, según las decisiones que la empresa debe to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a metodología que mide los costos y el desempeño de actividades, recursos y objetos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asigna  recursos a las actividades y actividades al objeto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desplaza el foco sobre los costos, sus usos y sus causas poniendo atención sobre los procesos y actividades, a diferencia del enfoque tradicional que se enfoca sobre lo funcional y departa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steo de las Activ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 maquinar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ped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s to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.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hora entonces corresponde elegir para cada actividad el generador (driver) de actividades, para luego asignar el costo de las actividades a los produc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resumen, los costos de cada producto son los sigu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BC perfeccionan los sistemas de costeo al concentrarse en actividades individuales como objetos de costo fund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: es un acontecimiento, tarea, o unidad de trabajo con un propósito específ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calculan los costos de actividades individuales y asignan los costos a objetos del costo, tales como productos y servicios, sobre la base de las actividades realizadas para producir cada producto o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se concentran en los costos indirectos, dado que los costos directos se identifican con relativa facilidad con los producto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aración de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88000" y="2133720"/>
          <a:ext cx="357192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2133720"/>
          <a:ext cx="3571920" cy="254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s claves del ABC - Cos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oductos no consumen costos, sino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son las que consume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adecuada gestión de costos debe actuar sobre las actividades (Mejora continua; Activity Based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ayor consumo de actividades por parte de un producto mayor asignación de costos indir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trabajo realizado al interior de un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j.: Emisión de facturas, preparar pedidos, mantención de equip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uso de recurs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 de recur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cantidad de recursos utilizados (consumidos) por una activida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7560" y="304704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actividad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s de activ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intensidad y frecuencia de la demand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por parte de los objetos de costos. Es utilizad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los costos de las actividades a los objet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n una relación de causa-efecto entr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8880" y="3818520"/>
            <a:ext cx="46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Planificación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 VALDES</cp:lastModifiedBy>
  <dcterms:modified xsi:type="dcterms:W3CDTF">2005-10-21T03:19:50Z</dcterms:modified>
  <cp:revision>25</cp:revision>
  <dc:subject/>
  <dc:title>Diapositiva 1</dc:title>
</cp:coreProperties>
</file>