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B78-B437-48C7-81CA-86699D74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062-49E0-4147-9D5E-EF4A771B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DC7-C321-4ECE-ACD8-14CEBD6E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5D4-8423-4464-95E8-5266743C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B5D-3CEE-4D9B-8DBC-FA035E2F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F4B-1FF9-48D9-BEFF-6E57F928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EED-C8B8-44B3-B78C-2C02C626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86A-9879-4E33-8736-7E1DEBD4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148-316E-420E-98BD-3EF70735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474-135E-4AD5-871E-9451E436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DB1-B868-4C0D-9480-9EC593C8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496-A407-4EEF-B5C9-B8F5622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1BC8-28A8-46F2-BCD9-4C37F1DF6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ABC (Activity-Based Co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916280"/>
          <a:ext cx="6243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6243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ses y Etapas del Proceso de Asignación 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633400"/>
            <a:ext cx="175248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as actividades de cada cen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659840"/>
            <a:ext cx="17524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Asignación de los costos indirectos a los c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 Identificación de las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) Reclasificación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n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ión de órdenes de comp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órdenes cur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e inter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te de materia pri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stas a punto de las máqui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puestas a p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s de ingenier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aje de part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= Costo actividad / número de gen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7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actividad * N° de generadores de cada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fabrica dos productos, X e Y, para los cuales se tien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la producción la empresa cuenta con cuatro departamento, para los que se conoc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BC)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 nuevo enfoque de los costos de la empresa, que toma la información financiera y operacional existente y la visualiza a través de un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modelo de activida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permitiendo así analizar múltiples visiones del negocio, según las decisiones que la empresa debe to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a metodología que mide los costos y el desempeño de actividades, recursos y objetos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asigna  recursos a las actividades y actividades al objeto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desplaza el foco sobre los costos, sus usos y sus causas poniendo atención sobre los procesos y actividades, a diferencia del enfoque tradicional que se enfoca sobre lo funcional y departa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steo de las Activ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 maquin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ped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s to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.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hora entonces corresponde elegir para cada actividad el generador (driver) de actividades, para luego asignar el costo de las actividades a los produc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esumen, los costos de cada producto son los sigu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BC perfeccionan los sistemas de costeo al concentrarse en actividades individuales como objetos de costo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: es un acontecimiento, tarea, o unidad de trabajo con un propósito específ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calculan los costos de actividades individuales y asignan los costos a objetos del costo, tales como productos y servicios, sobre la base de las actividades realizadas para producir cada producto o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se concentran en los costos indirectos, dado que los costos directos se identifican con relativa facilidad con los producto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aración de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88000" y="2133720"/>
          <a:ext cx="357192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2133720"/>
          <a:ext cx="3571920" cy="254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s claves del ABC - Cos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oductos no consumen costos, sino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son las que consume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decuada gestión de costos debe actuar sobre las actividades (Mejora continua; Activity Based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ayor consumo de actividades por parte de un producto mayor asignación de costos indir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rabajo realizado al interior de un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j.: Emisión de facturas, preparar pedidos, mantención de equip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uso de recurs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 de recur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cantidad de recursos utilizados (consumidos) por una act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7560" y="304704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actividad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s de activ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intensidad y frecuencia de la demand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por parte de los objetos de costos. Es utilizad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los costos de las actividades a los objet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n una relación de causa-efecto entr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8880" y="3818520"/>
            <a:ext cx="46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lanificación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 VALDES</cp:lastModifiedBy>
  <dcterms:modified xsi:type="dcterms:W3CDTF">2005-10-21T03:19:50Z</dcterms:modified>
  <cp:revision>25</cp:revision>
  <dc:subject/>
  <dc:title>Diapositiva 1</dc:title>
</cp:coreProperties>
</file>