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648-94FF-4393-BDDD-5CB0E39E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A9A-0C88-484A-967D-318051ED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D10-C18B-422C-A527-FDF8E33E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DDF-A19C-4A2E-AA5F-FE9B5CC4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BCF-F43A-41BD-AD44-44C587CE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D77-CEA3-42B8-9CD6-DFE80A0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99F-0ABA-4370-A21F-AA638E73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8F3-7FAE-4405-A792-75FB10F1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4D3-5754-49EF-A1B4-4DF8A8B1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C90-3734-4552-BD84-85AA03DA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63C-CF74-4C47-9A4D-E3654B03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997-8904-4FFC-A609-9F8C96F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EA84-F4FB-4FFA-9141-958D71ED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ABC (Activity-Based Co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916280"/>
          <a:ext cx="6243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6243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s y Etapas del Proceso de Asignación 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33400"/>
            <a:ext cx="175248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as actividades de cada cen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659840"/>
            <a:ext cx="17524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Asignación de los costos indirectos a los c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 Identificación de las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) Reclasificación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n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ión de órdenes de comp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órdenes cur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inter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e de materia pri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as a punto de las máqui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puestas a p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s de ingenier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aje de part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= Costo actividad / número de gen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7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actividad * N° de generadores de cada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fabrica dos productos, X e Y, para los cuales se tien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la producción la empresa cuenta con cuatro departamento, para los que se conoc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 nuevo enfoque de los costos de la empresa, que toma la información financiera y operacional existente y la visualiza a través de un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odelo de activ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ermitiendo así analizar múltiples visiones del negocio, según las decisiones que la empresa debe to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a metodología que mide los costos y el desempeño de actividades, recursos y objetos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asigna  recursos a las actividades y actividades al objeto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desplaza el foco sobre los costos, sus usos y sus causas poniendo atención sobre los procesos y actividades, a diferencia del enfoque tradicional que se enfoca sobre lo funcional y depart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steo de las Activ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 maquin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ped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s to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hora entonces corresponde elegir para cada actividad el generador (driver) de actividades, para luego asignar el costo de las actividades a los produ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esumen, los costos de cada producto son los sigu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BC perfeccionan los sistemas de costeo al concentrarse en actividades individuales como objetos de costo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: es un acontecimiento, tarea, o unidad de trabajo con un propósito específ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calculan los costos de actividades individuales y asignan los costos a objetos del costo, tales como productos y servicios, sobre la base de las actividades realizadas para producir cada producto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se concentran en los costos indirectos, dado que los costos directos se identifican con relativa facilidad con los producto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ración de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88000" y="2133720"/>
          <a:ext cx="357192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2133720"/>
          <a:ext cx="3571920" cy="254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s claves del ABC - Cos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ductos no consumen costos, sino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son las que consume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decuada gestión de costos debe actuar sobre las actividades (Mejora continua; Activity Based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ayor consumo de actividades por parte de un producto mayor asignación de costos indir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rabajo realizado al interior de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j.: Emisión de facturas, preparar pedidos, mantención de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uso de recurs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 de recur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cantidad de recursos utilizados (consumidos) por una a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7560" y="304704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actividad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s de ac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intensidad y frecuencia de la demand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por parte de los objetos de costos. Es utilizad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los costos de las actividades a los objet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n una relación de causa-efecto entr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8880" y="381852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lanificación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 VALDES</cp:lastModifiedBy>
  <dcterms:modified xsi:type="dcterms:W3CDTF">2005-10-21T03:19:50Z</dcterms:modified>
  <cp:revision>25</cp:revision>
  <dc:subject/>
  <dc:title>Diapositiva 1</dc:title>
</cp:coreProperties>
</file>