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F1F6-C0CA-4AFD-A1D9-6D0CCFAC8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C431-0767-4373-B494-0D38D5C54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BA4B-AD8C-4DCB-8700-7E9074D34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29F0-FFF5-40F2-BD34-B4D311713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1143-0B5F-49D3-A6D8-5E9664614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B4E27-5168-4022-8E1E-54EEA5034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F827-9D67-4F2E-AE00-786F8C02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19E3-E626-42FE-A770-069D66B1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A0BA0-3CB0-486A-BE93-223E3407E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00A98-EEE0-4E02-8849-10DA338EB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7CB9-359C-4CC6-A683-9A9E681FC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5EC3-7870-4C2A-9DFD-6B3C9C8B6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BDAFC-1AC4-40CB-80DD-0EB3BC85F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62.xml"/><Relationship Id="rId2" Type="http://schemas.openxmlformats.org/officeDocument/2006/relationships/slide" Target="slide63.xml"/><Relationship Id="rId3" Type="http://schemas.openxmlformats.org/officeDocument/2006/relationships/slide" Target="slide1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signación de Costos Indirectos: Método ABC (Activity-Based Cost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332000" y="1916280"/>
          <a:ext cx="6243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0" y="1916280"/>
                    <a:ext cx="6243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Fases y Etapas del Proceso de Asignación 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3520" y="1751400"/>
            <a:ext cx="17524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3520" y="2633400"/>
            <a:ext cx="1752480" cy="14655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as actividades de cada centr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33520" y="4659840"/>
            <a:ext cx="1752480" cy="1739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Determinación del costo de los produc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819520" y="1757520"/>
            <a:ext cx="59436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tap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743200" y="24436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1" action="ppaction://hlinksldjump"/>
              </a:rPr>
              <a:t>1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signación de los costos indirectos a los cen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743200" y="2900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2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dent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43200" y="33580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3° Elección de los generadores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389160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4° Asignación de los costos a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442476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3" action="ppaction://hlinksldjump"/>
              </a:rPr>
              <a:t>5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lección de los 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43200" y="49582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4" action="ppaction://hlinksldjump"/>
              </a:rPr>
              <a:t>6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Reclasificación de las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36000" y="5415480"/>
            <a:ext cx="6072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9999"/>
                </a:solidFill>
                <a:uFillTx/>
                <a:latin typeface="Times New Roman"/>
                <a:hlinkClick r:id="rId5" action="ppaction://hlinksldjump"/>
              </a:rPr>
              <a:t>7° 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álculo del costo unitario del generador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5640" y="5872680"/>
            <a:ext cx="6081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8° Asignación del costo de las actividade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6329880"/>
            <a:ext cx="601992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9° Asignación de los costos directos a los produc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25909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124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86000" y="5181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286000" y="56386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286000" y="60958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0" y="64771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286000" y="35812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0" y="41148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4648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10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1) Asignación de los costos indirectos a los cen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8040" y="2294280"/>
            <a:ext cx="563868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253200" y="2294280"/>
            <a:ext cx="212220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stos Dir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8040" y="3589200"/>
            <a:ext cx="17524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mp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360520" y="3589200"/>
            <a:ext cx="167652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Cort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037040" y="3589200"/>
            <a:ext cx="2209680" cy="8254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entro de Mont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351240" y="274644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12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1522440" y="31273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5224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512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180040" y="3127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2) Identificación de las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380880" y="2362320"/>
          <a:ext cx="8763120" cy="320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362320"/>
                    <a:ext cx="87631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3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95804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3911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62120" y="3437280"/>
            <a:ext cx="289548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4729320"/>
            <a:ext cx="28954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62120" y="5744160"/>
            <a:ext cx="28954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57600" y="195804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23911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teria prima consum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ano de obra directa (h/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52920" y="3405600"/>
            <a:ext cx="4749840" cy="1313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s de puestas a punto de las máqu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Ordenes de comp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ovimientos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úmero de órdenes de ven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57600" y="4729320"/>
            <a:ext cx="4724280" cy="100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Tiempos empleados en cambios de ingenier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pecificaciones requeridas por el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57600" y="5720400"/>
            <a:ext cx="472428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No se usan o se asignan arbitrari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4) Elección de los generadores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6680" y="1982880"/>
            <a:ext cx="8010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Centr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099600" y="1982880"/>
            <a:ext cx="1113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671440" y="1982880"/>
            <a:ext cx="29253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</a:rPr>
              <a:t>Generadores de activida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3680" y="20480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87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3880" y="20480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36724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373720" y="20480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672400" y="20480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87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367240" y="2054160"/>
            <a:ext cx="6480" cy="309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8672400" y="1978200"/>
            <a:ext cx="6480" cy="309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61240" y="2300400"/>
            <a:ext cx="965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mpra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899000" y="2300400"/>
            <a:ext cx="3300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Emisión de órdenes de compr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895760" y="2610000"/>
            <a:ext cx="19987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479200" y="2300400"/>
            <a:ext cx="29786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órdenes cursa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78120" y="261000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63680" y="228744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87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93880" y="228744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7240" y="236376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373720" y="228744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672400" y="2287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720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87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367240" y="237024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672400" y="2293920"/>
            <a:ext cx="6480" cy="61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0520" y="2924280"/>
            <a:ext cx="863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ad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895040" y="2924280"/>
            <a:ext cx="27349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orte de la materia prim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896120" y="323388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95400" y="354348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4680" y="3851280"/>
            <a:ext cx="241020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Cambios de ingenierí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475960" y="292428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77760" y="323388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478120" y="354348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75240" y="3851280"/>
            <a:ext cx="2148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iempos empleado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3680" y="2989440"/>
            <a:ext cx="132372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87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3880" y="2989440"/>
            <a:ext cx="35733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6724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73720" y="2989440"/>
            <a:ext cx="32986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8672400" y="2989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87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67240" y="2995560"/>
            <a:ext cx="6480" cy="123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672400" y="2919240"/>
            <a:ext cx="6480" cy="12369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58720" y="4167360"/>
            <a:ext cx="8938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892880" y="4167360"/>
            <a:ext cx="19195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Montaje de pa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896120" y="4476600"/>
            <a:ext cx="35182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Puestas a punto de la maquinar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95400" y="4784760"/>
            <a:ext cx="198504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475960" y="4167360"/>
            <a:ext cx="164808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Horas-máquin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477760" y="4476600"/>
            <a:ext cx="291456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puestas a punto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478120" y="4784760"/>
            <a:ext cx="2436120" cy="3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Times New Roman"/>
              </a:rPr>
              <a:t>Número de transport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63680" y="423072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87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3880" y="423072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36724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73720" y="423072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672400" y="42307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5720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5720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63680" y="5087880"/>
            <a:ext cx="132372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87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87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3880" y="5087880"/>
            <a:ext cx="35733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367240" y="423720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367240" y="516420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373720" y="5087880"/>
            <a:ext cx="32986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672400" y="4160880"/>
            <a:ext cx="6480" cy="927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672400" y="508788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45720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5410080" y="1980720"/>
            <a:ext cx="0" cy="3124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57200" y="19810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228600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289548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" y="4191120"/>
            <a:ext cx="8229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5) Reclasificación de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Activ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Gene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misión de órdenes de compr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órdenes cursad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ransporte interno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transpo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rte de materia prim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-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uestas a punto de las máquina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úmero de puestas a pu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mbios de ingeniería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Tiempos emple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taje de part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oras máqu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6) Cálculo del costo unitario del generador de Activida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Unitario = Costo actividad / número de genera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7) Asignación del costo de las actividades a los produc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sto de la actividad * N° de generadores de cada produc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Ejemplo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ntecedentes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a empresa fabrica dos productos, X e Y, para los cuales se tien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914400" y="2813040"/>
            <a:ext cx="7543800" cy="15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380520" y="38088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 la producción la empresa cuenta con cuatro departamento, para los que se conocen los siguientes da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219320" y="1295280"/>
            <a:ext cx="6933960" cy="2595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457200" y="41911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nsumo unitario de horas de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mano de obra direc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981080" y="4987800"/>
            <a:ext cx="5334120" cy="110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ctividades por depart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838080" y="1181160"/>
            <a:ext cx="7239240" cy="163044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914400" y="4114800"/>
            <a:ext cx="7162920" cy="1916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838080" y="32767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Otros anteced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costeo basado en actividades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ABC)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 nuevo enfoque de los costos de la empresa, que toma la información financiera y operacional existente y la visualiza a través de un </a:t>
            </a:r>
            <a:r>
              <a:rPr b="0" i="1" lang="es-MX" sz="1800" spc="-1" strike="noStrike">
                <a:solidFill>
                  <a:srgbClr val="000000"/>
                </a:solidFill>
                <a:latin typeface="Arial"/>
              </a:rPr>
              <a:t>modelo de actividades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, permitiendo así analizar múltiples visiones del negocio, según las decisiones que la empresa debe toma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s una metodología que mide los costos y el desempeño de actividades, recursos y objetos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asigna  recursos a las actividades y actividades al objeto de cos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ABC desplaza el foco sobre los costos, sus usos y sus causas poniendo atención sobre los procesos y actividades, a diferencia del enfoque tradicional que se enfoca sobre lo funcional y departament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0769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Supongamos que la empresa realizó la primera etapa, es decir, eligió los drivers de recursos y asignó los costos indirectos a las actividades, llegando a los siguientes costos por activ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osteo de las Actividad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ctividades de maquinar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6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pedid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3.5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Gestión de Cl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.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Otro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 3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stos total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6.4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830592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hora entonces corresponde elegir para cada actividad el generador (driver) de actividades, para luego asignar el costo de las actividades a los product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04920" y="2868480"/>
            <a:ext cx="853416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304920" y="1935000"/>
            <a:ext cx="8610480" cy="27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609480" y="1965240"/>
            <a:ext cx="7848720" cy="28972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457200" y="762120"/>
            <a:ext cx="8305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 resumen, los costos de cada producto son los sigu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de costeo ABC perfeccionan los sistemas de costeo al concentrarse en actividades individuales como objetos de costo fund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: es un acontecimiento, tarea, o unidad de trabajo con un propósito específic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calculan los costos de actividades individuales y asignan los costos a objetos del costo, tales como productos y servicios, sobre la base de las actividades realizadas para producir cada producto o servi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sistemas ABC se concentran en los costos indirectos, dado que los costos directos se identifican con relativa facilidad con los productos o servic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mparación de Enfoq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788000" y="2133720"/>
          <a:ext cx="357192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8800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39640" y="2133720"/>
          <a:ext cx="3571920" cy="2543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9640" y="2133720"/>
                    <a:ext cx="357192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stema de Costeo A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as claves del ABC - Cost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productos no consumen costos, sino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actividades son las que consumen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secuenci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adecuada gestión de costos debe actuar sobre las actividades (Mejora continua; Activity Based Managem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 mayor consumo de actividades por parte de un producto mayor asignación de costos indirec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BC - Cos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44080" y="2743200"/>
            <a:ext cx="1299240" cy="4597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09520" y="2743200"/>
            <a:ext cx="16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ctiv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43000" y="2590920"/>
            <a:ext cx="12952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733920" y="2590920"/>
            <a:ext cx="182880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42160" y="2556000"/>
            <a:ext cx="138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Objeto de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0" y="2590920"/>
            <a:ext cx="1523880" cy="76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438280" y="297180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29718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962520"/>
            <a:ext cx="190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uso de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38680" y="3962520"/>
            <a:ext cx="1676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Generadores de 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981080" y="3886200"/>
            <a:ext cx="213372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334120" y="3886200"/>
            <a:ext cx="2057400" cy="990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297180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6324480" y="304812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Activ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ualquier trabajo realizado al interior de una organizació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Ej.: Emisión de facturas, preparar pedidos, mantención de equipo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uni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o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lí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a nivel de empre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uso de recursos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 de recurs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5800" y="1981080"/>
            <a:ext cx="77724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cantidad de recursos utilizados (consumidos) por una actividad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7560" y="3047040"/>
            <a:ext cx="515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jemplo: Almacén de materia pri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480" y="3655800"/>
            <a:ext cx="126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curs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Sal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18440" y="3655800"/>
            <a:ext cx="172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% de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018120" y="3654360"/>
            <a:ext cx="2445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Recep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Manip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ransporte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bic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espa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r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8320" y="4648320"/>
            <a:ext cx="1066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15000" y="4267080"/>
            <a:ext cx="0" cy="22100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15000" y="42670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15000" y="46483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15000" y="50292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15000" y="5334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715000" y="571500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15000" y="60958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715000" y="647712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eneradores de actividad 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(Drivers de activid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medida de la intensidad y frecuencia de la demanda 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ctividades por parte de los objetos de costos. Es utilizada pa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signar los costos de las actividades a los objetos de cost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Identifican una relación de causa-efecto entre amb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8880" y="3818520"/>
            <a:ext cx="46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jemplo: Planificación de la prod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2800" y="4645800"/>
            <a:ext cx="239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Actividade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gram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nzamiento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63240" y="4645800"/>
            <a:ext cx="1742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Drivers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O.F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N° de car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2360" y="4645800"/>
            <a:ext cx="2181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Objeto de cost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ducto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6386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095880" y="55627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95880" y="55627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5880" y="63244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15000" y="6400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248520" y="571464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57150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248520" y="6400800"/>
            <a:ext cx="3045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3T23:42:58Z</dcterms:created>
  <dc:creator>ivan.alvarez</dc:creator>
  <dc:description/>
  <dc:language>en-US</dc:language>
  <cp:lastModifiedBy>IVAN ALVAREZ VALDES</cp:lastModifiedBy>
  <dcterms:modified xsi:type="dcterms:W3CDTF">2005-10-21T03:19:50Z</dcterms:modified>
  <cp:revision>25</cp:revision>
  <dc:subject/>
  <dc:title>Diapositiva 1</dc:title>
</cp:coreProperties>
</file>