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DA4-8CB5-4E72-AACC-A1E2D8BB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6AD-5001-4C3B-B056-51B374A5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0EA-C8C8-4AA0-8E03-61C7D8BC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B3A-9800-4665-A3C8-B155624A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0CD-1426-4ABB-87C3-D7B74D6E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773-6D02-4E4D-ABF0-E0D53349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4BC-8498-48BF-B878-9AC41A2B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898-7BE9-4A56-B5A3-6A7E7047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FB9-DB60-48B1-911E-E69D9347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3E0-8C4A-4C4E-A77C-2F45EBA3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AF9-76E9-4E8E-A9CA-3153A84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2C4-C6A9-4ED7-B4DE-A4083E90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48CC-8027-41AA-806C-B62F22660D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s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istema de costeo intenta responder a preguntas tal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to le cuesta a una fábrica de pintura producir una lata de pintu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anto le cuesta a una empresa auditora auditar a un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to le cuesta a un supermercado vender un pack de seis bebida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preguntas se formulan con múltiples propósitos, diseñar estrategias, tomar decisiones de fijación de precios y administración de costos, y cumplir con los requisitos de presentación de informes exter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men de costos del produc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*300 + 10*1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2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*200 + 100*4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8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7.143 + 166.667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223.81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28.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5,76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men de costos del produc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*300 + 5*1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6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0*200 + 50*4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2.857 + 83.33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26.19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11.1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11,19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niendo que no hay inventarios de productos en proceso, determine el valor del producto a la salida del primer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60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Costeo por Proc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Convers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00.000 + 300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Conversión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.000 / 3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0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lor del Producto al salir del primer proce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40 + $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0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Conve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iv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ignar todos los costos indirectos incurridos en el período a los productos fabricados. Para ello se debe seleccionar una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Base de Asign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 Asignación: es un método sistemático de relacionar un determinado costo o grupo de costos con un objetivo de costos. La selección de la base de asignación debe ser gui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pósito perseg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sto o esfuerzo necesario para la 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bases de asignación más utilizada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de mano de obr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 mano de obr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materia prima o costo pr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 o espacio uti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una fábrica exis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 Produ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emás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Departamentos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Departamen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conveniente departamentalizar los CI, puesto que un determin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 no necesariamente requiere de la participación de todos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41300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dad que realiza una función específica, que es responsabl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terminados costos y que ocupa un espacio físic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CI a Departamen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565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Secund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CI de los Departamentos de Producción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ntro de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631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s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 conjunto de registros, procedimientos y equipos utilizados para recopilar, en forma rutinaria, la información de los cost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cumulan costos para facilitar decisiones. Nos centraremos en particular en las decisiones relacionadas con el costeo de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esa medir los costos por objeto de costos (no en un saco). Típicamente, departamentos o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33360"/>
            <a:ext cx="8534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33360"/>
            <a:ext cx="86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13000"/>
            <a:ext cx="8534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10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765000"/>
            <a:ext cx="8534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765000"/>
            <a:ext cx="861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6922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steo básicos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dos sistemas de costeo básico para asignar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a productos o servi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eo por Órde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eo por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eo por Ordene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a unidad individual, un lote o un servicio individual denominado trabajo. Orde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n empresas que producen a pedido o cuando hay centros de producción que fabrican muchos productos (ej: imprentas, constructora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hoja de costos acompaña al lote de producción, y en ella se registran los costos incurridos en cada departamento (MPD, MOD, 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sto Unitario Lote i: MPDi + MODi + CIi / Tamaño Lo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eo por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proceso, que fabrican un sólo producto en grandes cant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n empresas con producción en grandes cantidades y en forma continua   (Ej.: Productos químicos, textiles, acero, minerí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cada proceso se miden los costos de MPD, MOD, CI incurridos en un perí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ego se determina el costo promedio de pasar una unidad de producto a través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Proceso i: MPD + MOD + CI / Nº de unidades proc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260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 de Costeo por Órdenes de Traba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fábrica recibe durante un determinado período dos órdenes de trabajo, para fabricar 5.000 unidades del producto X y 1.000 unidades del producto Y, respecti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hojas de costos muestran la siguiente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rden de Fabricación Producto 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A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50 kg de PVC (3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 hrs (2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B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10 kg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átex (1.0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0 hrs (4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rden de Fabricación Producto 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 kg de PVC (3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0 hrs (2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B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5 kg de látex (1.0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 hrs (4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, los costos indirectos de los departamentos A y B son de $200 mil y $250 mil,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ide determinar el costo unitario de los productos X e 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distribuir los costos indirectos usaremos como base de asignación las horas de mano de o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ribución de los Costos Indirectos del Depto.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ota de Costos Indirec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.000 / 7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 $/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*2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57.1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*5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2.8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ribución de los Costos Indirectos del Depto.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ota de Costos Indirec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50.000 / 15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 $/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*1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66.6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*5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83.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.alvarez</cp:lastModifiedBy>
  <dcterms:modified xsi:type="dcterms:W3CDTF">2005-10-18T14:06:26Z</dcterms:modified>
  <cp:revision>18</cp:revision>
  <dc:subject/>
  <dc:title>Diapositiva 1</dc:title>
</cp:coreProperties>
</file>