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53B-9C22-44A0-B777-542A25E1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526-59C2-4962-8F7F-61BF0374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C9B-0C24-4244-BD4C-3454B5CA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F9D-5103-4F82-B178-8BFA25D7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F50-BA98-455F-9219-B6BCDC5A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CD3-0713-4F00-9180-8D1D34D1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429-5501-4754-BCA7-86F89B11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5FA-6427-475F-B371-64ADEFD9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1D8-6702-40F2-B5C2-29020399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99E-3856-4A31-A3E1-E3B4B830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85B-5AF9-4178-8DE5-7A2A5FB9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364-D44F-4E0E-9B1A-1B094449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C401-08D7-432F-913F-5B9DE4837D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s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istema de costeo intenta responder a preguntas tales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ánto le cuesta a una fábrica de pintura producir una lata de pintu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anto le cuesta a una empresa auditora auditar a un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ánto le cuesta a un supermercado vender un pack de seis bebida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s preguntas se formulan con múltiples propósitos, diseñar estrategias, tomar decisiones de fijación de precios y administración de costos, y cumplir con los requisitos de presentación de informes exter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umen de costos del producto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*300 + 10*1.0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2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*200 + 100*4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8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7.143 + 166.667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223.81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28.8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5,76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umen de costos del produc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*300 + 5*1.0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6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0*200 + 50*4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2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42.857 + 83.33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26.19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11.1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11,19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niendo que no hay inventarios de productos en proceso, determine el valor del producto a la salida del primer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602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Costeo por Proce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de Convers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00.000 + 300.0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de Conversión Uni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.000 / 3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0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lor del Producto al salir del primer proces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40 + $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70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ignación de Costos Indirectos: Método Conve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Objetiv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signar todos los costos indirectos incurridos en el período a los productos fabricados. Para ello se debe seleccionar una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Base de Asign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de Asignación: es un método sistemático de relacionar un determinado costo o grupo de costos con un objetivo de costos. La selección de la base de asignación debe ser guiad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pósito perseg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sto o esfuerzo necesario para la 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bases de asignación más utilizada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de mano de obr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 mano de obr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materia prima o costo pr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 o espacio uti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una fábrica exis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amentos Produ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amentos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emás se 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 de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 de Departamentos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 de Departament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conveniente departamentalizar los CI, puesto que un determin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to no necesariamente requiere de la participación de todos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413000"/>
            <a:ext cx="8153280" cy="51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dad que realiza una función específica, que es responsabl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terminados costos y que ocupa un espacio físico 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CI a Departament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tribución Pri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565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tribución Secund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CI de los Departamentos de Producción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ntro de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631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 de Cos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 conjunto de registros, procedimientos y equipos utilizados para recopilar, en forma rutinaria, la información de los costos de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de costeo acumulan costos para facilitar decisiones. Nos centraremos en particular en las decisiones relacionadas con el costeo de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esa medir los costos por objeto de costos (no en un saco). Típicamente, departamentos o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333360"/>
            <a:ext cx="8534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333360"/>
            <a:ext cx="8610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413000"/>
            <a:ext cx="8534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07920"/>
            <a:ext cx="86104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765000"/>
            <a:ext cx="8534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765000"/>
            <a:ext cx="8610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692280"/>
            <a:ext cx="87631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steo básicos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 dos sistemas de costeo básico para asignar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s a productos o servic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eo por Órden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eo por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eo por Ordenes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una unidad individual, un lote o un servicio individual denominado trabajo. Orde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n empresas que producen a pedido o cuando hay centros de producción que fabrican muchos productos (ej: imprentas, constructora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hoja de costos acompaña al lote de producción, y en ella se registran los costos incurridos en cada departamento (MPD, MOD, 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sto Unitario Lote i: MPDi + MODi + CIi / Tamaño Lo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eo por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l proceso, que fabrican un sólo producto en grandes cant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n empresas con producción en grandes cantidades y en forma continua   (Ej.: Productos químicos, textiles, acero, minerí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cada proceso se miden los costos de MPD, MOD, CI incurridos en un perí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uego se determina el costo promedio de pasar una unidad de producto a través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Unitario Proceso i: MPD + MOD + CI / Nº de unidades proce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260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 de Costeo por Órdenes de Trabaj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fábrica recibe durante un determinado período dos órdenes de trabajo, para fabricar 5.000 unidades del producto X y 1.000 unidades del producto Y, respectiv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hojas de costos muestran la siguiente 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rden de Fabricación Producto 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A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50 kg de PVC (3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 hrs (2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B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10 kg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átex (1.0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0 hrs (4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rden de Fabricación Producto 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 kg de PVC (3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0 hrs (2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B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5 kg de látex (1.0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 hrs (4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emás, los costos indirectos de los departamentos A y B son de $200 mil y $250 mil, respec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pide determinar el costo unitario de los productos X e 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distribuir los costos indirectos usaremos como base de asignación las horas de mano de o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ribución de los Costos Indirectos del Depto.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ota de Costos Indirec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/ Base   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.000 / 7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85,71 $/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85,71*2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57.1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85,71*5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42.8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ribución de los Costos Indirectos del Depto.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ota de Costos Indirec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/ Base   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50.000 / 15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66,7 $/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66,7*1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66.6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66,7*5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83.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.alvarez</cp:lastModifiedBy>
  <dcterms:modified xsi:type="dcterms:W3CDTF">2005-10-18T14:06:26Z</dcterms:modified>
  <cp:revision>18</cp:revision>
  <dc:subject/>
  <dc:title>Diapositiva 1</dc:title>
</cp:coreProperties>
</file>