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505-864C-4B95-B722-4892587E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44C-C812-459A-B147-D2C2DF69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A51-FC04-4CB2-BC25-75919941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3B8-86A2-43E3-B6A4-6E63E8C9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4CD-C035-4EFD-AE8D-52F465D4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EC4-959A-435A-9390-BDB7056A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416-EDF1-471A-82AD-02872974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65F-AFE6-4C07-94DC-067586AF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920-F7BF-433A-ADA1-F64EF560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212-9EC9-40A9-9F1D-0B061D1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781-0330-4273-96F3-83C7BB44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E92-7558-4B62-A874-3BD738D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6645-CCE1-4290-A313-774D6EF9EF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dos sistemas de costeo básico para asignar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a productos o servi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que producen a pedido o cuando hay centros de producción que fabrican muchos productos (ej: imprentas, constructora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260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 de Costeo por Órdenes de Traba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.000 / 7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50.000 / 1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.alvarez</cp:lastModifiedBy>
  <dcterms:modified xsi:type="dcterms:W3CDTF">2005-10-18T14:06:26Z</dcterms:modified>
  <cp:revision>18</cp:revision>
  <dc:subject/>
  <dc:title>Diapositiva 1</dc:title>
</cp:coreProperties>
</file>