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693FEE-934B-489B-A25B-9688EC1B0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73C4B-78BD-4799-AAC2-A3CFD2841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8D4056-EBA9-41B4-929C-7DEA09B4D1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89728-D9B2-4C27-9FD2-4C2B813C1B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B0F22-58F7-44EC-A814-6877F532E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3439E-BF70-4A80-9C1B-0277B7B42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16BD1-E846-4459-BDA4-1663292CB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96419-7298-4C94-ADAF-F638F7692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64CEE-EC32-4626-A960-B2FB3B881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13AE1-99BD-4743-AE6D-9A90BF61F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E1F1A-59FB-4E8F-B803-B267CD47D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75D85-EE06-413D-8B90-C43DACF997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78512-9E94-41A1-A229-E8908D6524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étodos de Costeo: Variable y Absorbente</a:t>
            </a:r>
            <a:endParaRPr b="0" lang="en-US" sz="32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métodos de costeo responden a la pregunt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é costos se deben incluir como costos del product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steo Variable (o directo o contribuciona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steo Absorbente (o completo o funciona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mbos métodos difieren en la forma de tratar los costos indirectos fij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eo Variable</a:t>
            </a:r>
            <a:endParaRPr b="0" lang="en-US" sz="32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un sistema de valoración de inventarios en el cual se incluyen todos los costos de producción variables como costos inventariables. </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excluyen (no son inventariables) los costos fijos de producción, los que se tratan como costos (gastos) del periodo en el que se incurren, al igual que los costos no productivos (Marketing, I&amp;D).</a:t>
            </a:r>
            <a:r>
              <a:rPr b="0" lang="es-ES" sz="2400" spc="-1" strike="noStrike">
                <a:solidFill>
                  <a:srgbClr val="000000"/>
                </a:solidFill>
                <a:latin typeface="Arial"/>
              </a:rPr>
              <a:t> </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undamento: Los costos indirectos fijos se relacionan con la capacidad de producción, que es función de un período determinado.</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e método es de uso interno y presta mucha utilidad a la toma de decisiones</a:t>
            </a:r>
            <a:endParaRPr b="0" lang="en-US" sz="2400" spc="-1" strike="noStrike">
              <a:solidFill>
                <a:srgbClr val="000000"/>
              </a:solidFill>
              <a:latin typeface="Arial"/>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eo Absorbente</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un sistema de valoración de inventarios en el cual se incluyen tanto los costos variables como los costos fijos de producción, es decir el inventario “absorbe” todo el costo de producció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producto absorbe la totalidad de los costos de producción (fijos y variables), en tanto los costos no  productivos se consideran gastos del períod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undamento: tanto los costos variables como los fijos son necesarios para producir bien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el único método aceptado para fines externo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paración Costeo</a:t>
            </a:r>
            <a:br>
              <a:rPr sz="3200"/>
            </a:br>
            <a:r>
              <a:rPr b="0" lang="es-CL" sz="3200" spc="-1" strike="noStrike">
                <a:solidFill>
                  <a:srgbClr val="000000"/>
                </a:solidFill>
                <a:latin typeface="Arial"/>
              </a:rPr>
              <a:t>Absorbente vs. Variable</a:t>
            </a:r>
            <a:endParaRPr b="0" lang="en-US" sz="32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mbos sistemas de costeo difieren sólo en un aspecto conceptual, si los costos fijos de producción son inventariable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ambos sistemas, todos los costos no relacionados con la producción (ej. I&amp;D, Marketing) tanto variables como fijos, se registran como gastos cuando se incurre en ell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quema del Estado de Resultados con ambos métodos:</a:t>
            </a:r>
            <a:endParaRPr b="0" lang="en-US" sz="3200" spc="-1" strike="noStrike">
              <a:solidFill>
                <a:srgbClr val="000000"/>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gresos por Vent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s Variabl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C. de Producció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C. de Adm. y Vent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Margen de Contribució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s Fij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C. de Producció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C. de Adm. y Vent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gresos por Vent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 de Vent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Margen de Vent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de Adm. y Vent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93720" y="395280"/>
            <a:ext cx="7839000" cy="6067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jemplo: Costeo absorbente vs. Variab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stos unitarios de producción ($/un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PD</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1.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D</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1.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I Variables</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I Fijos</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u="sng">
                <a:solidFill>
                  <a:srgbClr val="000000"/>
                </a:solidFill>
                <a:uFillTx/>
                <a:latin typeface="Arial"/>
              </a:rPr>
              <a:t>2.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 Tot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ducción</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6.000 uni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000 uni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ecio de Venta</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7.500 $/un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to Variable de Adm. y Ventas</a:t>
            </a:r>
            <a:r>
              <a:rPr b="0" lang="es-ES_tradnl" sz="2400" spc="-1" strike="noStrike">
                <a:solidFill>
                  <a:srgbClr val="000000"/>
                </a:solidFill>
                <a:latin typeface="Arial"/>
              </a:rPr>
              <a:t>	</a:t>
            </a:r>
            <a:r>
              <a:rPr b="0" lang="es-ES_tradnl" sz="2400" spc="-1" strike="noStrike">
                <a:solidFill>
                  <a:srgbClr val="000000"/>
                </a:solidFill>
                <a:latin typeface="Arial"/>
              </a:rPr>
              <a:t>     $ 1.7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to Fijo de Adm. y Ventas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 4.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hay inventario inici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95280" y="1065960"/>
            <a:ext cx="842472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Por Costeo Variable</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 (5000*75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s variabl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 de Producción (3000*50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5.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1.7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Margen de Contribución</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20.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Fijos de Producción (2500*6000)</a:t>
            </a:r>
            <a:r>
              <a:rPr b="0" lang="es-ES_tradnl" sz="2400" spc="-1" strike="noStrike">
                <a:solidFill>
                  <a:srgbClr val="000000"/>
                </a:solidFill>
                <a:latin typeface="Arial"/>
              </a:rPr>
              <a:t>	</a:t>
            </a:r>
            <a:r>
              <a:rPr b="0" lang="es-ES_tradnl" sz="2400" spc="-1" strike="noStrike">
                <a:solidFill>
                  <a:srgbClr val="000000"/>
                </a:solidFill>
                <a:latin typeface="Arial"/>
              </a:rPr>
              <a:t>15.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Fijos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4.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1.0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15880" y="1121400"/>
            <a:ext cx="811224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Por Costeo Absorbente</a:t>
            </a:r>
            <a:r>
              <a:rPr b="1"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 (5000*75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ntario Inici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 Producción (6000*5500)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3.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Inventario Final (1000*5500)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5.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 de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2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rgen de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0.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Gastos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6.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3.5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840" y="1299600"/>
            <a:ext cx="707364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lor de los inventarios fin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costeo absorbente: 1.000 * 5.500 =  5.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costeo variable:       1.000 * 3.000 =  3.0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4T13:48:01Z</dcterms:created>
  <dc:creator>ivan.alvarez</dc:creator>
  <dc:description/>
  <dc:language>en-US</dc:language>
  <cp:lastModifiedBy>ivan.alvarez</cp:lastModifiedBy>
  <dcterms:modified xsi:type="dcterms:W3CDTF">2005-10-14T13:48:40Z</dcterms:modified>
  <cp:revision>1</cp:revision>
  <dc:subject/>
  <dc:title>Métodos de Costeo: Variable y Absorbente</dc:title>
</cp:coreProperties>
</file>