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566-B6BB-4C8D-97CF-99DBD0E8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1C5-D51F-4AC1-A579-844FFAA7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B0E-35E1-4F30-9F2A-5203F414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EE4-5066-4478-9D9F-7E24C428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F050-44F5-45C1-A8CD-5FEF114F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A74A-B6E6-413A-8B2A-2B8A5D4F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5B53-8834-4CF2-A374-B7655FD4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9943-C962-4AC7-BAD0-52837F08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D549-2D97-4C1C-9B41-7CE5D463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A644-6203-439A-9B2D-E4E20F3A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4ACC-8099-4FF9-986B-0860F9DC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F96-B4C4-4289-B177-BF5F2DF4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A0A6-0EE9-4F77-BB86-2ABE0EAA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E5FD-7D35-4314-85DE-EA6F6471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6841-4EB4-4DB1-8CB0-EA60B3C0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25D0-6573-4678-B702-CFE214C1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5082-4400-4523-B1EF-84DFA4A0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3BB-181B-46A0-B9DC-0566BED6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190-2F12-4589-8ABE-8F7A7835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2E54-8692-4E06-9C1A-A940148D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161-4F12-4196-A2C9-6B1DBDA3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F5C-2844-40CF-AA31-8286FB62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CC6-23C7-4F3A-B2F6-35D90A18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044-4918-42DE-AC19-7BD601EE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B518-7488-4886-B670-D2A840D2A2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68D1-960F-43C8-8D4B-5574858AD4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a8"/>
                </a:solidFill>
                <a:latin typeface="Verdana"/>
              </a:rPr>
              <a:t>SIMU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68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a8"/>
                </a:solidFill>
                <a:latin typeface="Verdana"/>
              </a:rPr>
              <a:t>Curso: IN44A Investigación Oper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a8"/>
                </a:solidFill>
                <a:latin typeface="Verdana"/>
              </a:rPr>
              <a:t>Profesores: Pablo Rey, Patricio Hernánd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a8"/>
                </a:solidFill>
                <a:latin typeface="Verdana"/>
              </a:rPr>
              <a:t>Auxiliares:M. Guajardo, D.Yung M.Pereira</a:t>
            </a: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333399"/>
                </a:solidFill>
                <a:latin typeface="Tahoma"/>
              </a:rPr>
              <a:t>¿Qué hacemos en el caso de régimen transient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Se utiliza el Método de las Corr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Recordemos que: Al simular se hace un experimento probabilístico en el que las entidades realizan las actividades definidas y nos entregan una observación de las variables relevante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En este método se realizan N corridas de simulación independientes con diferentes secuencias de las variables aleatorias involucradas, con las mismas condiciones ini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a8"/>
                </a:solidFill>
                <a:latin typeface="Arial"/>
              </a:rPr>
              <a:t>PROBLEMA : Determinar el número de corridas necesarias para construir intervalos de confianza para el indicador bajo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étodos de las Corri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62864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Definir el error relativo para la estimación (precisión): 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</a:t>
            </a: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 y el nivel de significancia para el intervalo de confianza: 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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ea x</a:t>
            </a:r>
            <a:r>
              <a:rPr b="0" lang="es-ES_tradnl" sz="20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 = valor del indicador en la corrida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Bajo el supuesto de normalidad x</a:t>
            </a:r>
            <a:r>
              <a:rPr b="0" lang="es-ES_tradnl" sz="2000" spc="-1" strike="noStrike" baseline="-25000">
                <a:solidFill>
                  <a:srgbClr val="333399"/>
                </a:solidFill>
                <a:latin typeface="Tahoma"/>
              </a:rPr>
              <a:t>i </a:t>
            </a:r>
            <a:r>
              <a:rPr b="0" lang="es-ES_tradnl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 N(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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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y     x</a:t>
            </a:r>
            <a:r>
              <a:rPr b="0" lang="es-ES_tradnl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 N(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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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TLC, podemos construir un intervalo de confianza de ni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1-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2895480"/>
            <a:ext cx="152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52480" y="5715000"/>
            <a:ext cx="5764320" cy="866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87280" y="4267080"/>
            <a:ext cx="8856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1557360"/>
            <a:ext cx="8153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Pero, ¿Cuánto debe valer 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Depende del error relativo que se de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i se busca un precisión de 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e deben hacer tantas corridas para que se cumpl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19640" y="2924280"/>
                <a:ext cx="19238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μ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403848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Interpretación del intervalo de Confian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El error porcentual que se comete con el estimador es inferior a </a:t>
            </a:r>
            <a:r>
              <a:rPr b="0" lang="es-MX" sz="2000" spc="-1" strike="noStrike">
                <a:solidFill>
                  <a:srgbClr val="333399"/>
                </a:solidFill>
                <a:latin typeface="Symbol"/>
                <a:ea typeface="Symbol"/>
              </a:rPr>
              <a:t>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 con una probabilidad igual o superior a 1 - </a:t>
            </a:r>
            <a:r>
              <a:rPr b="0" lang="el-GR" sz="2000" spc="-1" strike="noStrike">
                <a:solidFill>
                  <a:srgbClr val="333399"/>
                </a:solidFill>
                <a:latin typeface="Tahoma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étodos de las Corri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ea                                el largo medio de un intervalo de nivel (1-</a:t>
            </a:r>
            <a:r>
              <a:rPr b="0" lang="es-CL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Luego el algoritmo es el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(0)   Hacer N=n corr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Calcular los estimadores de la desviación estandar y de la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Comprobar si se cu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Si se cumple tenemos una estimación para el indicador. Si no incrementar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étodos de las Corrid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87280" y="1197000"/>
                <a:ext cx="21607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788000" y="3933720"/>
                <a:ext cx="21589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a8"/>
                </a:solidFill>
                <a:latin typeface="Arial"/>
              </a:rPr>
              <a:t>Layout del Siste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Empezando la Tare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1295280"/>
            <a:ext cx="3809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e tienen 8 procesos bás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Crear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acar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Proceso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Decidir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B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epa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Asig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Gra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90480" y="1371600"/>
            <a:ext cx="379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a8"/>
                </a:solidFill>
                <a:latin typeface="Arial"/>
              </a:rPr>
              <a:t>¿Quienes participan es estos proceso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Entidades. Son quienes se mueven a través del sistema. Pueden ser autos, personas, carros de comida, av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Recursos: Son quienes participan en los procesos. Pueden ser cajeros, gomas, empleados en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Conjuntos de recursos. Son conjuntos de emple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Cada participante y proceso presentará comportamientos particulares que se detallan a cont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Creando entidad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a8"/>
                </a:solidFill>
                <a:latin typeface="Arial"/>
              </a:rPr>
              <a:t>En esta estapa se crean las entidades que llegan al sistema. Se les da un nombre, sus tasas de llegada, número de entidades por llegada y capacidad máxim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79480" y="2021040"/>
            <a:ext cx="39686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Decis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1066680"/>
            <a:ext cx="3809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En caso de sacar del sistema sólo se le debe hacer alusión por medio de una lí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En las decisiones se da un porcentaje de valor, al cual responderá el verdad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Se asigna que tipo de entidad estará en el proceso dec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2362320" cy="1320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1066680" y="1905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50532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4267080" cy="2676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28600" y="5410080"/>
            <a:ext cx="47242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Proces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1447920"/>
            <a:ext cx="3809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A los procesos se les da un nombre, una acción a ejecutar, los recursos que posee y la distribución del tiempo de retra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a8"/>
                </a:solidFill>
                <a:latin typeface="Arial"/>
              </a:rPr>
              <a:t>Notar que en este caso se le pide que sus recursos sean un “se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670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l proceso en general consiste en construir un modelo artificial que represente un proceso 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Dicho modelo es menos costoso y más fácil de implemen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Busca representar una situación real en base a modelos matemá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s una técnica que permite estimar medidas de desempeño de un sistema real estim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 forma de reunir información sobre su comportamiento, es a través de la medición de variables aleatorias (V.A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os datos recopilados se usan para evaluar distintas configuraciones (medición por escenari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NO es una técnica de optimización, por lo general, se encuentran mínimos lo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Recurs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a8"/>
                </a:solidFill>
                <a:latin typeface="Arial"/>
              </a:rPr>
              <a:t>Al crear un conjunto, se debe crear el ícono “set” y describir el conjunto y cada uno de sus componentes como se muestra en la figura. Notar que a cada recurso se le podría asignar una distint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4191120" cy="2666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13716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Considerac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s simulaciones cada vez entregan datos diferentes, por lo que usualmente se corren los programas un cierto número de veces y se promedian los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Se debe revisar que las entradas y salidas estén acordes a las tasas de llegada y atención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 versión estudiante sólo permite una simulación de 150 entidades. Es por eso que se debe correr el programa para tiempos mas cortos y extrapolar los val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xiste un comando de ayuda super claro, en el cual se pueden hacer consultas de tod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El informe debe ser detallado preciso y sól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a segunda simulación que se debe hacer, sólo representa un cambio en las tasas de lleg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Lo más importante es el análisis y la forma a enfrentar los puntos que se p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a8"/>
                </a:solidFill>
                <a:latin typeface="Arial"/>
              </a:rPr>
              <a:t>Atachar al informe, como Anexo, la simulación desarroll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JUSTIFIC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Es altamente costoso “simular” una situación con un sistema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Varios e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ecisiones estraté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Los modelos analíticos se basan en supuestos fuertes de mode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Tiempos entre llegadas no expon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Reflu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posiciones de esp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tintos tipos de clientes y serv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AREA DE 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eño y análisis de sistemas de manuf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eterminación de políticas de inve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eño y análisis de sistemas de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Planificación de la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Diseño de servicios e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"/>
              </a:rPr>
              <a:t>OTRAS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Evaluación de nuevas armas mili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Análisis de sistemas financiero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8"/>
                </a:solidFill>
                <a:latin typeface="Arial"/>
              </a:rPr>
              <a:t>Estudios de ADN y bio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… Aplicac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s una colección de entidades (personas o máquinas por ejemplo) que interactuan juntas con algún objetivo lógico” (Schmidt &amp; Taylor, 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Definición bastante amp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Depende del sistema de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Cola de un ban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SISTEMA: parte del banco que encierra a los clientes que esperan y son atendidos, por un conjunto de cajeros para efectuar sus transacciones banca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a8"/>
                </a:solidFill>
                <a:latin typeface="Arial"/>
              </a:rPr>
              <a:t>Es una colección de variables que describen el sistema en un momento 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"/>
              </a:rPr>
              <a:t>MEDIDAS DE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Tiempos de espera: En cola, al ser atendi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Utilización de recursos: Ocio, ocupado, repa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Tiempos de ciclo: Total en el sistema, por proces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Tasas de producción y aten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a8"/>
                </a:solidFill>
                <a:latin typeface="Arial"/>
              </a:rPr>
              <a:t>Clientes fugados: Por espera o sistema colaps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Verdana"/>
              </a:rPr>
              <a:t>Primer Paso: Identificar si se está en regimen transiente o estacion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Verdana"/>
              </a:rPr>
              <a:t>En régimen transiente importan las condiciones iniciales y la simulación tiene una duración aco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Verdana"/>
              </a:rPr>
              <a:t>En régimen estacionario la simulación se independiza de las condiciones iniciales y las corridas son lo suficientemente largas, como para captar la situación en el Largo Plazo.</a:t>
            </a:r>
            <a:r>
              <a:rPr b="0" lang="es-CL" sz="2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14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: Sistema de espera M/M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 algn="just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 = # de personas inicialmente en la c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 algn="just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W</a:t>
            </a:r>
            <a:r>
              <a:rPr b="0" lang="es-CL" sz="1600" spc="-1" strike="noStrike" baseline="-25000">
                <a:solidFill>
                  <a:srgbClr val="333399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= tiempo de espe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28800" y="2819160"/>
            <a:ext cx="0" cy="28191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5638680"/>
            <a:ext cx="52578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200400"/>
            <a:ext cx="5105520" cy="1066680"/>
          </a:xfrm>
          <a:custGeom>
            <a:avLst/>
            <a:gdLst/>
            <a:ahLst/>
            <a:rect l="l" t="t" r="r" b="b"/>
            <a:pathLst>
              <a:path w="2544" h="592">
                <a:moveTo>
                  <a:pt x="0" y="288"/>
                </a:moveTo>
                <a:cubicBezTo>
                  <a:pt x="128" y="144"/>
                  <a:pt x="256" y="0"/>
                  <a:pt x="384" y="0"/>
                </a:cubicBezTo>
                <a:cubicBezTo>
                  <a:pt x="512" y="0"/>
                  <a:pt x="640" y="248"/>
                  <a:pt x="768" y="288"/>
                </a:cubicBezTo>
                <a:cubicBezTo>
                  <a:pt x="896" y="328"/>
                  <a:pt x="1016" y="224"/>
                  <a:pt x="1152" y="240"/>
                </a:cubicBezTo>
                <a:cubicBezTo>
                  <a:pt x="1288" y="256"/>
                  <a:pt x="1456" y="352"/>
                  <a:pt x="1584" y="384"/>
                </a:cubicBezTo>
                <a:cubicBezTo>
                  <a:pt x="1712" y="416"/>
                  <a:pt x="1832" y="416"/>
                  <a:pt x="1920" y="432"/>
                </a:cubicBezTo>
                <a:cubicBezTo>
                  <a:pt x="2008" y="448"/>
                  <a:pt x="2024" y="456"/>
                  <a:pt x="2112" y="480"/>
                </a:cubicBezTo>
                <a:cubicBezTo>
                  <a:pt x="2200" y="504"/>
                  <a:pt x="2376" y="560"/>
                  <a:pt x="2448" y="576"/>
                </a:cubicBezTo>
                <a:cubicBezTo>
                  <a:pt x="2520" y="592"/>
                  <a:pt x="2532" y="584"/>
                  <a:pt x="2544" y="57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000680"/>
            <a:ext cx="5105520" cy="342720"/>
          </a:xfrm>
          <a:custGeom>
            <a:avLst/>
            <a:gdLst/>
            <a:ahLst/>
            <a:rect l="l" t="t" r="r" b="b"/>
            <a:pathLst>
              <a:path w="2880" h="240">
                <a:moveTo>
                  <a:pt x="0" y="72"/>
                </a:moveTo>
                <a:cubicBezTo>
                  <a:pt x="108" y="36"/>
                  <a:pt x="216" y="0"/>
                  <a:pt x="336" y="24"/>
                </a:cubicBezTo>
                <a:cubicBezTo>
                  <a:pt x="456" y="48"/>
                  <a:pt x="584" y="192"/>
                  <a:pt x="720" y="216"/>
                </a:cubicBezTo>
                <a:cubicBezTo>
                  <a:pt x="856" y="240"/>
                  <a:pt x="1016" y="168"/>
                  <a:pt x="1152" y="168"/>
                </a:cubicBezTo>
                <a:cubicBezTo>
                  <a:pt x="1288" y="168"/>
                  <a:pt x="1416" y="216"/>
                  <a:pt x="1536" y="216"/>
                </a:cubicBezTo>
                <a:cubicBezTo>
                  <a:pt x="1656" y="216"/>
                  <a:pt x="1768" y="168"/>
                  <a:pt x="1872" y="168"/>
                </a:cubicBezTo>
                <a:cubicBezTo>
                  <a:pt x="1976" y="168"/>
                  <a:pt x="2072" y="216"/>
                  <a:pt x="2160" y="216"/>
                </a:cubicBezTo>
                <a:cubicBezTo>
                  <a:pt x="2248" y="216"/>
                  <a:pt x="2312" y="168"/>
                  <a:pt x="2400" y="168"/>
                </a:cubicBezTo>
                <a:cubicBezTo>
                  <a:pt x="2488" y="168"/>
                  <a:pt x="2608" y="208"/>
                  <a:pt x="2688" y="216"/>
                </a:cubicBezTo>
                <a:cubicBezTo>
                  <a:pt x="2768" y="224"/>
                  <a:pt x="2848" y="216"/>
                  <a:pt x="2880" y="21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4419720"/>
            <a:ext cx="5105520" cy="1218960"/>
          </a:xfrm>
          <a:custGeom>
            <a:avLst/>
            <a:gdLst/>
            <a:ahLst/>
            <a:rect l="l" t="t" r="r" b="b"/>
            <a:pathLst>
              <a:path w="3216" h="768">
                <a:moveTo>
                  <a:pt x="0" y="768"/>
                </a:moveTo>
                <a:cubicBezTo>
                  <a:pt x="40" y="684"/>
                  <a:pt x="80" y="600"/>
                  <a:pt x="144" y="528"/>
                </a:cubicBezTo>
                <a:cubicBezTo>
                  <a:pt x="208" y="456"/>
                  <a:pt x="248" y="384"/>
                  <a:pt x="384" y="336"/>
                </a:cubicBezTo>
                <a:cubicBezTo>
                  <a:pt x="520" y="288"/>
                  <a:pt x="752" y="240"/>
                  <a:pt x="960" y="240"/>
                </a:cubicBezTo>
                <a:cubicBezTo>
                  <a:pt x="1168" y="240"/>
                  <a:pt x="1408" y="352"/>
                  <a:pt x="1632" y="336"/>
                </a:cubicBezTo>
                <a:cubicBezTo>
                  <a:pt x="1856" y="320"/>
                  <a:pt x="2040" y="200"/>
                  <a:pt x="2304" y="144"/>
                </a:cubicBezTo>
                <a:cubicBezTo>
                  <a:pt x="2568" y="88"/>
                  <a:pt x="3056" y="24"/>
                  <a:pt x="3216" y="0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18800" y="29718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8800" y="36576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5520" y="5105520"/>
            <a:ext cx="5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S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78000" y="571500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58840" y="274320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E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819520"/>
            <a:ext cx="0" cy="335268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3352680"/>
            <a:ext cx="914400" cy="304920"/>
          </a:xfrm>
          <a:prstGeom prst="leftRightArrow">
            <a:avLst>
              <a:gd name="adj1" fmla="val 50000"/>
              <a:gd name="adj2" fmla="val 59698"/>
            </a:avLst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16600" y="3352680"/>
            <a:ext cx="13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0000"/>
                </a:solidFill>
                <a:latin typeface="Tahoma"/>
              </a:rPr>
              <a:t>Estacio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86240" y="3352680"/>
            <a:ext cx="11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0000"/>
                </a:solidFill>
                <a:latin typeface="Tahoma"/>
              </a:rPr>
              <a:t>Trans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a8"/>
                </a:solidFill>
                <a:latin typeface="Arial"/>
              </a:rPr>
              <a:t>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08:13:16Z</dcterms:created>
  <dc:creator>Antoine Sauré V.</dc:creator>
  <dc:description/>
  <dc:language>en-US</dc:language>
  <cp:lastModifiedBy>Antoine Sauré V.</cp:lastModifiedBy>
  <dcterms:modified xsi:type="dcterms:W3CDTF">2005-11-13T09:17:52Z</dcterms:modified>
  <cp:revision>10</cp:revision>
  <dc:subject/>
  <dc:title>SIMULACIÓN</dc:title>
</cp:coreProperties>
</file>