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7BA-6D9F-4AFC-A99C-CDD9296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162-7457-452D-AA82-C71A3B1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D8D-ADD4-4EE2-AAE3-7DA67226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691-5C9E-41A6-9886-9E211F11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AA52-2A95-4557-9E2B-DCAF367C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121B-CC92-4CAF-8228-B0E0855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514-F03E-47A4-AAEB-C7BEB19B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46BA-4884-463E-9B22-D559242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634E-8A57-4E31-8A21-358AC39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E74F-D920-40D6-8EB5-C845E00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11E1-5F3B-4F19-B903-B351121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F02-8F50-4C6A-91AF-32C29C32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457A-2A9B-4235-A233-22BC105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1FBA-7470-419A-8C23-5764DF12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0875-1262-4797-8238-8FFE5DC4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485D-B92B-442E-9DCF-5AB6AB53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31EA-FBBB-4A46-857B-26F1A46F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3D6-3A49-4368-97DE-09B0CCB6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CB1-FD6B-495D-8742-F0A9A5CD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6B4-543F-4AE3-9ADD-9DD0FC6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73C-180B-4296-B484-AB1E45F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CA4-1A18-4321-9C5A-1303A0B8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394-3647-475C-A8DF-27259725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3D0-B5F1-4619-A9AE-0DA32A0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8A91-4AD7-49AC-8FB1-EC1238765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1AF-DA21-4403-8E2D-601E2B0442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a8"/>
                </a:solidFill>
                <a:latin typeface="Verdana"/>
              </a:rPr>
              <a:t>SI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Curso: IN44A Investigación Ope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Profesores: Pablo Rey, Patricio Hernán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Auxiliares:M. Guajardo, D.Yung M.Pereira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3399"/>
                </a:solidFill>
                <a:latin typeface="Tahoma"/>
              </a:rPr>
              <a:t>¿Qué hacemos en el caso de régimen transient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Se utiliza el Método de las Cor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Recordemos que: Al simular se hace un experimento probabilístico en el que las entidades realizan las actividades definidas y nos entregan una observación de las variables relev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En este método se realizan N corridas de simulación independientes con diferentes secuencias de las variables aleatorias involucradas, con las mismas condiciones in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PROBLEMA : Determinar el número de corridas necesarias para construir intervalos de confianza para el indicador bajo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finir el error relativo para la estimación (precisión)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 y el nivel de significancia para el intervalo de confianza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ea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= valor del indicador en la corrid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Bajo el supuesto de normalidad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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y     x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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TLC, podemos construir un intervalo de confianza de ni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1-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289548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5715000"/>
            <a:ext cx="5764320" cy="8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7280" y="4267080"/>
            <a:ext cx="8856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557360"/>
            <a:ext cx="8153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Pero, ¿Cuánto debe valer 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pende del error relativo que se de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busca un precisión de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 deben hacer tantas corridas para que se cumpl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2924280"/>
                <a:ext cx="19238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μ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4038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Interpretación del intervalo de Confian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El error porcentual que se comete con el estimador es inferior a </a:t>
            </a:r>
            <a:r>
              <a:rPr b="0" lang="es-MX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con una probabilidad igual o superior a 1 - 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a                                el largo medio de un intervalo de nivel (1-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Luego el algoritmo es el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(0)   Hacer N=n corr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alcular los estimadores de la desviación estandar y de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omprobar si se cu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cumple tenemos una estimación para el indicador. Si no incrementar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7280" y="1197000"/>
                <a:ext cx="2160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788000" y="3933720"/>
                <a:ext cx="215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a8"/>
                </a:solidFill>
                <a:latin typeface="Arial"/>
              </a:rPr>
              <a:t>Layout del Sist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Empezando la Tar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29528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tienen 8 procesos bás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re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ac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Proceso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Decidi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B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pa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sig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Gra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90480" y="1371600"/>
            <a:ext cx="379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a8"/>
                </a:solidFill>
                <a:latin typeface="Arial"/>
              </a:rPr>
              <a:t>¿Quienes participan es estos proceso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tidades. Son quienes se mueven a través del sistema. Pueden ser autos, personas, carros de comida, av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Recursos: Son quienes participan en los procesos. Pueden ser cajeros, gomas, empleados e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onjuntos de recursos. Son conjuntos de emple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ada participante y proceso presentará comportamientos particulares que se detallan a cont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reando entidad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a8"/>
                </a:solidFill>
                <a:latin typeface="Arial"/>
              </a:rPr>
              <a:t>En esta estapa se crean las entidades que llegan al sistema. Se les da un nombre, sus tasas de llegada, número de entidades por llegada y capacidad máxim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9480" y="2021040"/>
            <a:ext cx="39686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Deci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1066680"/>
            <a:ext cx="3809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caso de sacar del sistema sólo se le debe hacer alusión por medio de una lí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las decisiones se da un porcentaje de valor, al cual responderá el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asigna que tipo de entidad estará en el proceso dec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2362320" cy="132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06668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505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267080" cy="267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5410080"/>
            <a:ext cx="4724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447920"/>
            <a:ext cx="3809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 los procesos se les da un nombre, una acción a ejecutar, los recursos que posee y la distribución del tiempo de retr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Notar que en este caso se le pide que sus recursos sean un “s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proceso en general consiste en construir un modelo artificial que represente un proceso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Dicho modelo es menos costoso y más fácil de implem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Busca representar una situación real en base a modelos matem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s una técnica que permite estimar medidas de desempeño de un sistema real estim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forma de reunir información sobre su comportamiento, es a través de la medición de variables aleatorias (V.A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s datos recopilados se usan para evaluar distintas configuraciones (medición por escenar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NO es una técnica de optimización, por lo general, se encuentran mínimos l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Recur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a8"/>
                </a:solidFill>
                <a:latin typeface="Arial"/>
              </a:rPr>
              <a:t>Al crear un conjunto, se debe crear el ícono “set” y describir el conjunto y cada uno de sus componentes como se muestra en la figura. Notar que a cada recurso se le podría asignar una distint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3716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s simulaciones cada vez entregan datos diferentes, por lo que usualmente se corren los programas un cierto número de veces y se promedian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Se debe revisar que las entradas y salidas estén acordes a las tasas de llegada y atención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versión estudiante sólo permite una simulación de 150 entidades. Es por eso que se debe correr el programa para tiempos mas cortos y extrapolar los val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xiste un comando de ayuda super claro, en el cual se pueden hacer consultas de tod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informe debe ser detallado preciso y sól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segunda simulación que se debe hacer, sólo representa un cambio en las tasas de lleg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 más importante es el análisis y la forma a enfrentar los puntos que se 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Atachar al informe, como Anexo, la simulación desarrol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JUST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Es altamente costoso “simular” una situación con un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Varios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cisione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Los modelos analíticos se basan en supuestos fuertes de mode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Tiempos entre llegadas no expon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Re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posiciones de es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tintos tipos de clientes y serv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AREA DE 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terminación de políticas de inve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Planificación de l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de servicios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OTRA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valuación de nuevas armas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Análisis de sistemas financier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studios de ADN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… Aplic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entidades (personas o máquinas por ejemplo) que interactuan juntas con algún objetivo lógico” (Schmidt &amp; Taylor,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finición bastante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pende del sistema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Cola de un ban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: parte del banco que encierra a los clientes que esperan y son atendidos, por un conjunto de cajeros para efectuar sus transacciones banc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variables que describen el sistema en un moment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"/>
              </a:rPr>
              <a:t>MEDIDAS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espera: En cola, al ser atend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Utilización de recursos: Ocio, ocupado, repa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ciclo: Total en el sistema, por proces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asas de producción y aten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Clientes fugados: Por espera o sistema colaps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Primer Paso: Identificar si se está en regimen transiente o estacio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transiente importan las condiciones iniciales y la simulación tiene una duración aco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estacionario la simulación se independiza de las condiciones iniciales y las corridas son lo suficientemente largas, como para captar la situación en el Largo Plazo.</a:t>
            </a:r>
            <a:r>
              <a:rPr b="0" lang="es-CL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4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: Sistema de espera M/M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 = # de personas inicialmente en la 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W</a:t>
            </a:r>
            <a:r>
              <a:rPr b="0" lang="es-CL" sz="16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= tiempo de espe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2819160"/>
            <a:ext cx="0" cy="2819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638680"/>
            <a:ext cx="5257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200400"/>
            <a:ext cx="5105520" cy="1066680"/>
          </a:xfrm>
          <a:custGeom>
            <a:avLst/>
            <a:gdLst/>
            <a:ahLst/>
            <a:rect l="l" t="t" r="r" b="b"/>
            <a:pathLst>
              <a:path w="2544" h="592">
                <a:moveTo>
                  <a:pt x="0" y="288"/>
                </a:moveTo>
                <a:cubicBezTo>
                  <a:pt x="128" y="144"/>
                  <a:pt x="256" y="0"/>
                  <a:pt x="384" y="0"/>
                </a:cubicBezTo>
                <a:cubicBezTo>
                  <a:pt x="512" y="0"/>
                  <a:pt x="640" y="248"/>
                  <a:pt x="768" y="288"/>
                </a:cubicBezTo>
                <a:cubicBezTo>
                  <a:pt x="896" y="328"/>
                  <a:pt x="1016" y="224"/>
                  <a:pt x="1152" y="240"/>
                </a:cubicBezTo>
                <a:cubicBezTo>
                  <a:pt x="1288" y="256"/>
                  <a:pt x="1456" y="352"/>
                  <a:pt x="1584" y="384"/>
                </a:cubicBezTo>
                <a:cubicBezTo>
                  <a:pt x="1712" y="416"/>
                  <a:pt x="1832" y="416"/>
                  <a:pt x="1920" y="432"/>
                </a:cubicBezTo>
                <a:cubicBezTo>
                  <a:pt x="2008" y="448"/>
                  <a:pt x="2024" y="456"/>
                  <a:pt x="2112" y="480"/>
                </a:cubicBezTo>
                <a:cubicBezTo>
                  <a:pt x="2200" y="504"/>
                  <a:pt x="2376" y="560"/>
                  <a:pt x="2448" y="576"/>
                </a:cubicBezTo>
                <a:cubicBezTo>
                  <a:pt x="2520" y="592"/>
                  <a:pt x="2532" y="584"/>
                  <a:pt x="2544" y="57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000680"/>
            <a:ext cx="5105520" cy="342720"/>
          </a:xfrm>
          <a:custGeom>
            <a:avLst/>
            <a:gdLst/>
            <a:ahLst/>
            <a:rect l="l" t="t" r="r" b="b"/>
            <a:pathLst>
              <a:path w="2880" h="240">
                <a:moveTo>
                  <a:pt x="0" y="72"/>
                </a:moveTo>
                <a:cubicBezTo>
                  <a:pt x="108" y="36"/>
                  <a:pt x="216" y="0"/>
                  <a:pt x="336" y="24"/>
                </a:cubicBezTo>
                <a:cubicBezTo>
                  <a:pt x="456" y="48"/>
                  <a:pt x="584" y="192"/>
                  <a:pt x="720" y="216"/>
                </a:cubicBezTo>
                <a:cubicBezTo>
                  <a:pt x="856" y="240"/>
                  <a:pt x="1016" y="168"/>
                  <a:pt x="1152" y="168"/>
                </a:cubicBezTo>
                <a:cubicBezTo>
                  <a:pt x="1288" y="168"/>
                  <a:pt x="1416" y="216"/>
                  <a:pt x="1536" y="216"/>
                </a:cubicBezTo>
                <a:cubicBezTo>
                  <a:pt x="1656" y="216"/>
                  <a:pt x="1768" y="168"/>
                  <a:pt x="1872" y="168"/>
                </a:cubicBezTo>
                <a:cubicBezTo>
                  <a:pt x="1976" y="168"/>
                  <a:pt x="2072" y="216"/>
                  <a:pt x="2160" y="216"/>
                </a:cubicBezTo>
                <a:cubicBezTo>
                  <a:pt x="2248" y="216"/>
                  <a:pt x="2312" y="168"/>
                  <a:pt x="2400" y="168"/>
                </a:cubicBezTo>
                <a:cubicBezTo>
                  <a:pt x="2488" y="168"/>
                  <a:pt x="2608" y="208"/>
                  <a:pt x="2688" y="216"/>
                </a:cubicBezTo>
                <a:cubicBezTo>
                  <a:pt x="2768" y="224"/>
                  <a:pt x="2848" y="216"/>
                  <a:pt x="2880" y="21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419720"/>
            <a:ext cx="5105520" cy="1218960"/>
          </a:xfrm>
          <a:custGeom>
            <a:avLst/>
            <a:gdLst/>
            <a:ahLst/>
            <a:rect l="l" t="t" r="r" b="b"/>
            <a:pathLst>
              <a:path w="3216" h="768">
                <a:moveTo>
                  <a:pt x="0" y="768"/>
                </a:moveTo>
                <a:cubicBezTo>
                  <a:pt x="40" y="684"/>
                  <a:pt x="80" y="600"/>
                  <a:pt x="144" y="528"/>
                </a:cubicBezTo>
                <a:cubicBezTo>
                  <a:pt x="208" y="456"/>
                  <a:pt x="248" y="384"/>
                  <a:pt x="384" y="336"/>
                </a:cubicBezTo>
                <a:cubicBezTo>
                  <a:pt x="520" y="288"/>
                  <a:pt x="752" y="240"/>
                  <a:pt x="960" y="240"/>
                </a:cubicBezTo>
                <a:cubicBezTo>
                  <a:pt x="1168" y="240"/>
                  <a:pt x="1408" y="352"/>
                  <a:pt x="1632" y="336"/>
                </a:cubicBezTo>
                <a:cubicBezTo>
                  <a:pt x="1856" y="320"/>
                  <a:pt x="2040" y="200"/>
                  <a:pt x="2304" y="144"/>
                </a:cubicBezTo>
                <a:cubicBezTo>
                  <a:pt x="2568" y="88"/>
                  <a:pt x="3056" y="24"/>
                  <a:pt x="3216" y="0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2971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8800" y="3657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51055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78000" y="57150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58840" y="2743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E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819520"/>
            <a:ext cx="0" cy="335268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3526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16600" y="335268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Estac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6240" y="33526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Trans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8:13:16Z</dcterms:created>
  <dc:creator>Antoine Sauré V.</dc:creator>
  <dc:description/>
  <dc:language>en-US</dc:language>
  <cp:lastModifiedBy>Antoine Sauré V.</cp:lastModifiedBy>
  <dcterms:modified xsi:type="dcterms:W3CDTF">2005-11-13T09:17:52Z</dcterms:modified>
  <cp:revision>10</cp:revision>
  <dc:subject/>
  <dc:title>SIMULACIÓN</dc:title>
</cp:coreProperties>
</file>