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7CE-A8C0-4058-9186-FD83C904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52B-2A41-4BBE-A088-3FD42235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7C0-DB59-457B-BBC6-4978BF1B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A19-8F90-4D18-865E-2DA0FFB1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31C-7B6E-4C7A-A9B7-AD20F12F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8A2-9B31-4145-90C6-242E2E6D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6E5-66E1-4D6A-89BB-FC520E9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C727-A6AA-4EBE-8620-BDA95184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8A1E-B675-43B1-9168-10191F7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9F3-0CAF-4874-B9DA-6A40AF6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794-C801-4ACC-ACFC-88B4569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B75-76C5-4E94-BB59-A7CBD8A0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27B2-CFED-4D23-BDCE-AE1CB8D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F166-8C83-40A4-8F93-9B2388C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DB0-406D-4D75-9708-9ED9F6D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FD6-730C-4D36-8C0C-D8B069B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98D-CB23-4DBB-B3EC-C432AF49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71B-20AD-43C0-9287-194A88F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40B-691D-47CF-9D37-0EDD9F2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6E0-A737-4E61-9135-2A15B8B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877-F9C2-4287-8897-9A9405EF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7AB-841B-4111-A96E-CC4741C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EF2-56C5-4A8C-9570-13F6A90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DA7-BC2F-4D68-9C1F-F79E39D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E8AD-723C-40E0-BB4A-8FD0019F75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295-2F0B-44EB-9839-ECC21A0FB4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a8"/>
                </a:solidFill>
                <a:latin typeface="Verdana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Curso: IN44A Investigación 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Profesores: Pablo Rey, Patricio Hernán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Auxiliares:M. Guajardo, D.Yung M.Pereira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Tahoma"/>
              </a:rPr>
              <a:t>¿Qué hacemos en el caso de régimen transien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Se utiliza el Método de las Cor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Recordemos que: Al simular se hace un experimento probabilístico en el que las entidades realizan las actividades definidas y nos entregan una observación de las variables relev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En este método se realizan N corridas de simulación independientes con diferentes secuencias de las variables aleatorias involucradas, con las mismas condiciones in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PROBLEMA : Determinar el número de corridas necesarias para construir intervalos de confianza para el indicador bajo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finir el error relativo para la estimación (precisión)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y el nivel de significancia para el intervalo de confianza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ea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= valor del indicador en la corrid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Bajo el supuesto de normalidad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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y     x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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TLC, podemos construir un intervalo de confianza de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1-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89548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5764320" cy="8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7280" y="4267080"/>
            <a:ext cx="8856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55736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Pero, ¿Cuánto debe valer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pende del error relativo que se d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busca un precisión de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 deben hacer tantas corridas para que se cumpl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2924280"/>
                <a:ext cx="1923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4038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Interpretación del intervalo de Conf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El error porcentual que se comete con el estimador es inferior a </a:t>
            </a:r>
            <a:r>
              <a:rPr b="0" lang="es-MX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con una probabilidad igual o superior a 1 -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a                                el largo medio de un intervalo de nivel (1-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Luego el algoritmo es el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(0)   Hacer N=n 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alcular los estimadores de la desviación estandar y de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omprobar si se cu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cumple tenemos una estimación para el indicador. Si no incrementa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1197000"/>
                <a:ext cx="216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3933720"/>
                <a:ext cx="21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a8"/>
                </a:solidFill>
                <a:latin typeface="Arial"/>
              </a:rPr>
              <a:t>Layout del Sist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Empezando la Tar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9528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a8"/>
                </a:solidFill>
                <a:latin typeface="Arial"/>
              </a:rPr>
              <a:t>¿Quienes participan es estos proces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reando entidad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a8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2021040"/>
            <a:ext cx="39686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Dec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0666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267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472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proceso en general consiste en construir un modelo artificial que represente un proces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Dicho modelo es menos costoso y más fácil de im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Busca representar una situación real en base a modelos mate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s una técnica que permite estimar medidas de desempeño de un sistema real esti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forma de reunir información sobre su comportamiento, es a través de la medición de variables aleatorias (V.A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s datos recopilados se usan para evaluar distintas configuraciones (medición por escenar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NO es una técnica de optimización, por lo general, se encuentran mínimos l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Recur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a8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371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informe debe ser detallado preciso y só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 más importante es el análisis y la forma a enfrentar los puntos que se 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Atachar al informe, como Anexo, la simulación desarr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Es altamente costoso “simular” una situación con un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Varios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cis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Los modelos analíticos se basan en supuestos fuertes de mod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Tiempos entre llegadas no expon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Re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posiciones de es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tintos tipos de clientes y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AREA DE 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terminación de política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Planificación de l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de servicio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OTRA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valuación de nuevas arma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Análisis de sistemas financier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studios de ADN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… Aplic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entidades (personas o máquinas por ejemplo) que interactuan juntas con algún objetivo lógico” (Schmidt &amp; Taylor,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finición bastante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pende del sistema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Cola de un b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: parte del banco que encierra a los clientes que esperan y son atendidos, por un conjunto de cajeros para efectuar sus transacciones banc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variables que describen el sistema en un moment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"/>
              </a:rPr>
              <a:t>MEDIDAS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espera: En cola, al ser atend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Utilización de recursos: Ocio, ocupado, repa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ciclo: Total en el sistema, por proce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asas de producción y at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Clientes fugados: Por espera o sistema colaps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Primer Paso: Identificar si se está en regimen transiente o estacio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transiente importan las condiciones iniciales y la simulación tiene una duración aco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estacionario la simulación se independiza de las condiciones iniciales y las corridas son lo suficientemente largas, como para captar la situación en el Largo Plazo.</a:t>
            </a:r>
            <a:r>
              <a:rPr b="0" lang="es-CL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4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: Sistema de espera M/M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 = # de personas inicialmente en l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es-CL" sz="16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= tiempo de es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160"/>
            <a:ext cx="0" cy="2819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638680"/>
            <a:ext cx="5257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200400"/>
            <a:ext cx="5105520" cy="1066680"/>
          </a:xfrm>
          <a:custGeom>
            <a:avLst/>
            <a:gdLst/>
            <a:ahLst/>
            <a:rect l="l" t="t" r="r" b="b"/>
            <a:pathLst>
              <a:path w="2544" h="592">
                <a:moveTo>
                  <a:pt x="0" y="288"/>
                </a:moveTo>
                <a:cubicBezTo>
                  <a:pt x="128" y="144"/>
                  <a:pt x="256" y="0"/>
                  <a:pt x="384" y="0"/>
                </a:cubicBezTo>
                <a:cubicBezTo>
                  <a:pt x="512" y="0"/>
                  <a:pt x="640" y="248"/>
                  <a:pt x="768" y="288"/>
                </a:cubicBezTo>
                <a:cubicBezTo>
                  <a:pt x="896" y="328"/>
                  <a:pt x="1016" y="224"/>
                  <a:pt x="1152" y="240"/>
                </a:cubicBezTo>
                <a:cubicBezTo>
                  <a:pt x="1288" y="256"/>
                  <a:pt x="1456" y="352"/>
                  <a:pt x="1584" y="384"/>
                </a:cubicBezTo>
                <a:cubicBezTo>
                  <a:pt x="1712" y="416"/>
                  <a:pt x="1832" y="416"/>
                  <a:pt x="1920" y="432"/>
                </a:cubicBezTo>
                <a:cubicBezTo>
                  <a:pt x="2008" y="448"/>
                  <a:pt x="2024" y="456"/>
                  <a:pt x="2112" y="480"/>
                </a:cubicBezTo>
                <a:cubicBezTo>
                  <a:pt x="2200" y="504"/>
                  <a:pt x="2376" y="560"/>
                  <a:pt x="2448" y="576"/>
                </a:cubicBezTo>
                <a:cubicBezTo>
                  <a:pt x="2520" y="592"/>
                  <a:pt x="2532" y="584"/>
                  <a:pt x="2544" y="57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000680"/>
            <a:ext cx="5105520" cy="342720"/>
          </a:xfrm>
          <a:custGeom>
            <a:avLst/>
            <a:gdLst/>
            <a:ahLst/>
            <a:rect l="l" t="t" r="r" b="b"/>
            <a:pathLst>
              <a:path w="2880" h="240">
                <a:moveTo>
                  <a:pt x="0" y="72"/>
                </a:moveTo>
                <a:cubicBezTo>
                  <a:pt x="108" y="36"/>
                  <a:pt x="216" y="0"/>
                  <a:pt x="336" y="24"/>
                </a:cubicBezTo>
                <a:cubicBezTo>
                  <a:pt x="456" y="48"/>
                  <a:pt x="584" y="192"/>
                  <a:pt x="720" y="216"/>
                </a:cubicBezTo>
                <a:cubicBezTo>
                  <a:pt x="856" y="240"/>
                  <a:pt x="1016" y="168"/>
                  <a:pt x="1152" y="168"/>
                </a:cubicBezTo>
                <a:cubicBezTo>
                  <a:pt x="1288" y="168"/>
                  <a:pt x="1416" y="216"/>
                  <a:pt x="1536" y="216"/>
                </a:cubicBezTo>
                <a:cubicBezTo>
                  <a:pt x="1656" y="216"/>
                  <a:pt x="1768" y="168"/>
                  <a:pt x="1872" y="168"/>
                </a:cubicBezTo>
                <a:cubicBezTo>
                  <a:pt x="1976" y="168"/>
                  <a:pt x="2072" y="216"/>
                  <a:pt x="2160" y="216"/>
                </a:cubicBezTo>
                <a:cubicBezTo>
                  <a:pt x="2248" y="216"/>
                  <a:pt x="2312" y="168"/>
                  <a:pt x="2400" y="168"/>
                </a:cubicBezTo>
                <a:cubicBezTo>
                  <a:pt x="2488" y="168"/>
                  <a:pt x="2608" y="208"/>
                  <a:pt x="2688" y="216"/>
                </a:cubicBezTo>
                <a:cubicBezTo>
                  <a:pt x="2768" y="224"/>
                  <a:pt x="2848" y="216"/>
                  <a:pt x="2880" y="21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19720"/>
            <a:ext cx="5105520" cy="1218960"/>
          </a:xfrm>
          <a:custGeom>
            <a:avLst/>
            <a:gdLst/>
            <a:ahLst/>
            <a:rect l="l" t="t" r="r" b="b"/>
            <a:pathLst>
              <a:path w="3216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48" y="384"/>
                  <a:pt x="384" y="336"/>
                </a:cubicBezTo>
                <a:cubicBezTo>
                  <a:pt x="520" y="288"/>
                  <a:pt x="752" y="240"/>
                  <a:pt x="960" y="240"/>
                </a:cubicBezTo>
                <a:cubicBezTo>
                  <a:pt x="1168" y="240"/>
                  <a:pt x="1408" y="352"/>
                  <a:pt x="1632" y="336"/>
                </a:cubicBezTo>
                <a:cubicBezTo>
                  <a:pt x="1856" y="320"/>
                  <a:pt x="2040" y="200"/>
                  <a:pt x="2304" y="144"/>
                </a:cubicBezTo>
                <a:cubicBezTo>
                  <a:pt x="2568" y="88"/>
                  <a:pt x="3056" y="24"/>
                  <a:pt x="3216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2971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8800" y="3657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51055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78000" y="5715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8840" y="2743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E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0" cy="335268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352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335268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Estac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6240" y="33526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Trans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8:13:16Z</dcterms:created>
  <dc:creator>Antoine Sauré V.</dc:creator>
  <dc:description/>
  <dc:language>en-US</dc:language>
  <cp:lastModifiedBy>Antoine Sauré V.</cp:lastModifiedBy>
  <dcterms:modified xsi:type="dcterms:W3CDTF">2005-11-13T09:17:52Z</dcterms:modified>
  <cp:revision>10</cp:revision>
  <dc:subject/>
  <dc:title>SIMULACIÓN</dc:title>
</cp:coreProperties>
</file>