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48A-C9D6-45C6-83AE-B74C694F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25F-F86B-4D49-8D12-DD7C6171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203-7888-409E-9DD4-B94BE4FB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02B-844C-4A0C-BE98-7F73426D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EB35-AAC7-49F2-A932-1A27EFC8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0BB-9793-403F-A501-A57F145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4A01-F567-4C64-8CAA-B7CFDE6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EDFE-959E-4CB9-A05B-9F49870E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F6A9-DD17-4ACE-B97E-4F8CC02B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0CC8-ABE9-4BCE-BF4C-0511816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5B34-EC08-40F8-A988-828C6D93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94A-0D5B-42BA-B810-9F5C087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B1B5-823E-49AF-A498-D33FB26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CF43-ABC6-47CA-9706-7ED4858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E910-FC91-4856-BF7E-4A00812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A0D3-E410-4F15-A3C5-7640805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2A22-EF4C-46B3-836E-DE78922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A99-493D-4B26-9531-5DC1412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2BB-CD99-48C1-AB72-C09F039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9FF-5C50-45C1-9735-8B95747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031-1D4B-40F5-B810-50E2613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72A-CFC7-47C4-98F0-0E8D33C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612-CA6E-487D-889A-26F7840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6A1-E329-410C-B41D-6068E35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207-77B9-4A85-90EA-64FACB265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28DF-8742-44CB-84F8-514011C536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a8"/>
                </a:solidFill>
                <a:latin typeface="Verdana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Curso: IN44A Investigación 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Profesores: Pablo Rey, Patricio Hernán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Auxiliares:M. Guajardo, D.Yung M.Pereira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Tahoma"/>
              </a:rPr>
              <a:t>¿Qué hacemos en el caso de régimen transien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Se utiliza el Método de las Cor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Recordemos que: Al simular se hace un experimento probabilístico en el que las entidades realizan las actividades definidas y nos entregan una observación de las variables relev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En este método se realizan N corridas de simulación independientes con diferentes secuencias de las variables aleatorias involucradas, con las mismas condiciones in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PROBLEMA : Determinar el número de corridas necesarias para construir intervalos de confianza para el indicador bajo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finir el error relativo para la estimación (precisión)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y el nivel de significancia para el intervalo de confianza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ea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= valor del indicador en la corrid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Bajo el supuesto de normalidad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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y     x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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TLC, podemos construir un intervalo de confianza de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1-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89548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5764320" cy="8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7280" y="4267080"/>
            <a:ext cx="8856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55736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Pero, ¿Cuánto debe valer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pende del error relativo que se d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busca un precisión de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 deben hacer tantas corridas para que se cumpl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2924280"/>
                <a:ext cx="1923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4038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Interpretación del intervalo de Conf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El error porcentual que se comete con el estimador es inferior a </a:t>
            </a:r>
            <a:r>
              <a:rPr b="0" lang="es-MX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con una probabilidad igual o superior a 1 -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a                                el largo medio de un intervalo de nivel (1-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Luego el algoritmo es el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(0)   Hacer N=n 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alcular los estimadores de la desviación estandar y de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omprobar si se cu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cumple tenemos una estimación para el indicador. Si no incrementa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1197000"/>
                <a:ext cx="216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3933720"/>
                <a:ext cx="21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a8"/>
                </a:solidFill>
                <a:latin typeface="Arial"/>
              </a:rPr>
              <a:t>Layout del Sist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Empezando la Tar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9528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a8"/>
                </a:solidFill>
                <a:latin typeface="Arial"/>
              </a:rPr>
              <a:t>¿Quienes participan es estos proces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reando entidad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a8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2021040"/>
            <a:ext cx="39686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Dec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0666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267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472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proceso en general consiste en construir un modelo artificial que represente un proces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Dicho modelo es menos costoso y más fácil de im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Busca representar una situación real en base a modelos mate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s una técnica que permite estimar medidas de desempeño de un sistema real esti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forma de reunir información sobre su comportamiento, es a través de la medición de variables aleatorias (V.A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s datos recopilados se usan para evaluar distintas configuraciones (medición por escenar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NO es una técnica de optimización, por lo general, se encuentran mínimos l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Recur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a8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371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informe debe ser detallado preciso y só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 más importante es el análisis y la forma a enfrentar los puntos que se 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Atachar al informe, como Anexo, la simulación desarr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Es altamente costoso “simular” una situación con un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Varios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cis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Los modelos analíticos se basan en supuestos fuertes de mod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Tiempos entre llegadas no expon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Re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posiciones de es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tintos tipos de clientes y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AREA DE 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terminación de política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Planificación de l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de servicio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OTRA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valuación de nuevas arma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Análisis de sistemas financier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studios de ADN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… Aplic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entidades (personas o máquinas por ejemplo) que interactuan juntas con algún objetivo lógico” (Schmidt &amp; Taylor,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finición bastante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pende del sistema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Cola de un b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: parte del banco que encierra a los clientes que esperan y son atendidos, por un conjunto de cajeros para efectuar sus transacciones banc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variables que describen el sistema en un moment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"/>
              </a:rPr>
              <a:t>MEDIDAS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espera: En cola, al ser atend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Utilización de recursos: Ocio, ocupado, repa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ciclo: Total en el sistema, por proce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asas de producción y at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Clientes fugados: Por espera o sistema colaps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Primer Paso: Identificar si se está en regimen transiente o estacio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transiente importan las condiciones iniciales y la simulación tiene una duración aco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estacionario la simulación se independiza de las condiciones iniciales y las corridas son lo suficientemente largas, como para captar la situación en el Largo Plazo.</a:t>
            </a:r>
            <a:r>
              <a:rPr b="0" lang="es-CL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4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: Sistema de espera M/M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 = # de personas inicialmente en l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es-CL" sz="16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= tiempo de es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160"/>
            <a:ext cx="0" cy="2819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638680"/>
            <a:ext cx="5257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200400"/>
            <a:ext cx="5105520" cy="1066680"/>
          </a:xfrm>
          <a:custGeom>
            <a:avLst/>
            <a:gdLst/>
            <a:ahLst/>
            <a:rect l="l" t="t" r="r" b="b"/>
            <a:pathLst>
              <a:path w="2544" h="592">
                <a:moveTo>
                  <a:pt x="0" y="288"/>
                </a:moveTo>
                <a:cubicBezTo>
                  <a:pt x="128" y="144"/>
                  <a:pt x="256" y="0"/>
                  <a:pt x="384" y="0"/>
                </a:cubicBezTo>
                <a:cubicBezTo>
                  <a:pt x="512" y="0"/>
                  <a:pt x="640" y="248"/>
                  <a:pt x="768" y="288"/>
                </a:cubicBezTo>
                <a:cubicBezTo>
                  <a:pt x="896" y="328"/>
                  <a:pt x="1016" y="224"/>
                  <a:pt x="1152" y="240"/>
                </a:cubicBezTo>
                <a:cubicBezTo>
                  <a:pt x="1288" y="256"/>
                  <a:pt x="1456" y="352"/>
                  <a:pt x="1584" y="384"/>
                </a:cubicBezTo>
                <a:cubicBezTo>
                  <a:pt x="1712" y="416"/>
                  <a:pt x="1832" y="416"/>
                  <a:pt x="1920" y="432"/>
                </a:cubicBezTo>
                <a:cubicBezTo>
                  <a:pt x="2008" y="448"/>
                  <a:pt x="2024" y="456"/>
                  <a:pt x="2112" y="480"/>
                </a:cubicBezTo>
                <a:cubicBezTo>
                  <a:pt x="2200" y="504"/>
                  <a:pt x="2376" y="560"/>
                  <a:pt x="2448" y="576"/>
                </a:cubicBezTo>
                <a:cubicBezTo>
                  <a:pt x="2520" y="592"/>
                  <a:pt x="2532" y="584"/>
                  <a:pt x="2544" y="57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000680"/>
            <a:ext cx="5105520" cy="342720"/>
          </a:xfrm>
          <a:custGeom>
            <a:avLst/>
            <a:gdLst/>
            <a:ahLst/>
            <a:rect l="l" t="t" r="r" b="b"/>
            <a:pathLst>
              <a:path w="2880" h="240">
                <a:moveTo>
                  <a:pt x="0" y="72"/>
                </a:moveTo>
                <a:cubicBezTo>
                  <a:pt x="108" y="36"/>
                  <a:pt x="216" y="0"/>
                  <a:pt x="336" y="24"/>
                </a:cubicBezTo>
                <a:cubicBezTo>
                  <a:pt x="456" y="48"/>
                  <a:pt x="584" y="192"/>
                  <a:pt x="720" y="216"/>
                </a:cubicBezTo>
                <a:cubicBezTo>
                  <a:pt x="856" y="240"/>
                  <a:pt x="1016" y="168"/>
                  <a:pt x="1152" y="168"/>
                </a:cubicBezTo>
                <a:cubicBezTo>
                  <a:pt x="1288" y="168"/>
                  <a:pt x="1416" y="216"/>
                  <a:pt x="1536" y="216"/>
                </a:cubicBezTo>
                <a:cubicBezTo>
                  <a:pt x="1656" y="216"/>
                  <a:pt x="1768" y="168"/>
                  <a:pt x="1872" y="168"/>
                </a:cubicBezTo>
                <a:cubicBezTo>
                  <a:pt x="1976" y="168"/>
                  <a:pt x="2072" y="216"/>
                  <a:pt x="2160" y="216"/>
                </a:cubicBezTo>
                <a:cubicBezTo>
                  <a:pt x="2248" y="216"/>
                  <a:pt x="2312" y="168"/>
                  <a:pt x="2400" y="168"/>
                </a:cubicBezTo>
                <a:cubicBezTo>
                  <a:pt x="2488" y="168"/>
                  <a:pt x="2608" y="208"/>
                  <a:pt x="2688" y="216"/>
                </a:cubicBezTo>
                <a:cubicBezTo>
                  <a:pt x="2768" y="224"/>
                  <a:pt x="2848" y="216"/>
                  <a:pt x="2880" y="21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19720"/>
            <a:ext cx="5105520" cy="1218960"/>
          </a:xfrm>
          <a:custGeom>
            <a:avLst/>
            <a:gdLst/>
            <a:ahLst/>
            <a:rect l="l" t="t" r="r" b="b"/>
            <a:pathLst>
              <a:path w="3216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48" y="384"/>
                  <a:pt x="384" y="336"/>
                </a:cubicBezTo>
                <a:cubicBezTo>
                  <a:pt x="520" y="288"/>
                  <a:pt x="752" y="240"/>
                  <a:pt x="960" y="240"/>
                </a:cubicBezTo>
                <a:cubicBezTo>
                  <a:pt x="1168" y="240"/>
                  <a:pt x="1408" y="352"/>
                  <a:pt x="1632" y="336"/>
                </a:cubicBezTo>
                <a:cubicBezTo>
                  <a:pt x="1856" y="320"/>
                  <a:pt x="2040" y="200"/>
                  <a:pt x="2304" y="144"/>
                </a:cubicBezTo>
                <a:cubicBezTo>
                  <a:pt x="2568" y="88"/>
                  <a:pt x="3056" y="24"/>
                  <a:pt x="3216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2971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8800" y="3657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51055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78000" y="5715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8840" y="2743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E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0" cy="335268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352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335268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Estac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6240" y="33526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Trans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8:13:16Z</dcterms:created>
  <dc:creator>Antoine Sauré V.</dc:creator>
  <dc:description/>
  <dc:language>en-US</dc:language>
  <cp:lastModifiedBy>Antoine Sauré V.</cp:lastModifiedBy>
  <dcterms:modified xsi:type="dcterms:W3CDTF">2005-11-13T09:17:52Z</dcterms:modified>
  <cp:revision>10</cp:revision>
  <dc:subject/>
  <dc:title>SIMULACIÓN</dc:title>
</cp:coreProperties>
</file>