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54613-E59C-4778-AF2C-DDDC8AB73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39959-F200-4FA7-B8DB-5257E05D5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74AE7-77F7-4A32-8F19-19C47609D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AAEA2D-984E-434C-8877-9C7ECB95D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586F3D-4C69-41FD-B6C2-9F4D3A534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A8997-91B0-4C6B-A67E-1B3C48F53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5259E-7DF1-489B-BBAA-FE4CF85309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17B0C-C2C0-4852-B2F7-E7D6B4495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D0013-7D9D-4BCB-920E-3E78645456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304B6-B588-4D85-AE10-2FEF19C73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BBC803-1A28-47F9-A4A3-7E1DA90A48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7C3A5-C924-46F6-AD57-B278F41A4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DB87E-C9F2-4250-B23C-90ADCA3F14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Matias Lyon</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A1D5B1D-8EB4-491A-88E1-2B8FFE5CC2FC}"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EF0E004-D445-410F-94F0-6B00FADC82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768188BF-AAB7-4E9C-A5D5-A6578433F5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254F680-2BE6-4D3A-918A-F72ABF52F7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284E00E-E411-4DC6-A0A8-449D38BA33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13D486C-9EB6-4D7D-80A5-5796CD4482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C19B271-54D2-4566-A0A4-0386C28A1E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B126AAC-1F56-4BCB-BC4E-3B63748922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2774139-9518-4134-9CB2-CA8E5EF889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766E9804-3992-4B4E-9226-C5EB2F3572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BF89C8D-8308-4691-82A5-DE61B1726F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E5428D-D6D1-41BA-8255-70B34DBFADBF}"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D246785-303D-47BD-A9D6-053C13D5484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6371D3-5F86-4C61-A5BB-4B1F2BFC47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1DA4584-F029-4527-8B6A-348E69C05C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86A99D1-479B-4B9C-9259-8A0C0F91C6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08A67CE-5E89-4A96-AE08-716421A2029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18F34D9F-252D-411B-8194-1881218071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57D821D2-8EDE-4D89-B771-A3B4BF9E48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172B09-4761-47E7-A657-A152063EAF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226514D6-5F2D-4808-B4FB-CF9C881EAE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78"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79"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6C4425-9DE2-4BD8-91BC-CDDAD71C0A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89CD43-BED6-420B-B293-B7D4703347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2"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DFD507E9-DF84-4C42-893C-EB3E111C0CC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4"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85"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86"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C6C711BB-5362-4A2B-B832-4402565328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88"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DEFE6365-31CC-4295-9611-6841A4C5157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0"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2"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F92ED7-B2A8-46A6-88C2-E07A009061F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4"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25D3200-6837-404A-8F60-894BA2FA4EF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197"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198"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1"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3442513-A882-4612-8B77-5985DA9376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1B8BE49-0310-4A66-A910-A9DA6BC761E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438E27F-2340-459F-8244-96C315DB4E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DB78974-07A0-4967-8705-AD4A7BB2B8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07"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EC88078A-2639-4423-A514-3185CB38D56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A141648-34E6-4500-963B-0C438098B6E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09"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0"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AA509638-2B4A-4B2A-B2ED-BE4F729936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A98E7FD-6CFC-438C-8D9E-4330DF1DC3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4"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01817BE-C3D1-4D49-9AA2-B5C1A775B6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9D83AA6-2639-4788-BF4F-8289133CD97B}" type="slidenum">
              <a:t>43</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15">
                                            <p:txEl>
                                              <p:pRg st="1" end="1"/>
                                            </p:txEl>
                                          </p:spTgt>
                                        </p:tgtEl>
                                        <p:attrNameLst>
                                          <p:attrName>style.visibility</p:attrName>
                                        </p:attrNameLst>
                                      </p:cBhvr>
                                      <p:to>
                                        <p:strVal val="visible"/>
                                      </p:to>
                                    </p:set>
                                    <p:anim calcmode="lin" valueType="num">
                                      <p:cBhvr additive="base">
                                        <p:cTn id="58" dur="500" fill="hold"/>
                                        <p:tgtEl>
                                          <p:spTgt spid="215">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15">
                                            <p:txEl>
                                              <p:pRg st="4" end="4"/>
                                            </p:txEl>
                                          </p:spTgt>
                                        </p:tgtEl>
                                        <p:attrNameLst>
                                          <p:attrName>style.visibility</p:attrName>
                                        </p:attrNameLst>
                                      </p:cBhvr>
                                      <p:to>
                                        <p:strVal val="visible"/>
                                      </p:to>
                                    </p:set>
                                    <p:anim calcmode="lin" valueType="num">
                                      <p:cBhvr additive="base">
                                        <p:cTn id="64" dur="500" fill="hold"/>
                                        <p:tgtEl>
                                          <p:spTgt spid="215">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1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15">
                                            <p:txEl>
                                              <p:pRg st="6" end="6"/>
                                            </p:txEl>
                                          </p:spTgt>
                                        </p:tgtEl>
                                        <p:attrNameLst>
                                          <p:attrName>style.visibility</p:attrName>
                                        </p:attrNameLst>
                                      </p:cBhvr>
                                      <p:to>
                                        <p:strVal val="visible"/>
                                      </p:to>
                                    </p:set>
                                    <p:anim calcmode="lin" valueType="num">
                                      <p:cBhvr additive="base">
                                        <p:cTn id="70" dur="500" fill="hold"/>
                                        <p:tgtEl>
                                          <p:spTgt spid="215">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1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15">
                                            <p:txEl>
                                              <p:pRg st="8" end="8"/>
                                            </p:txEl>
                                          </p:spTgt>
                                        </p:tgtEl>
                                        <p:attrNameLst>
                                          <p:attrName>style.visibility</p:attrName>
                                        </p:attrNameLst>
                                      </p:cBhvr>
                                      <p:to>
                                        <p:strVal val="visible"/>
                                      </p:to>
                                    </p:set>
                                    <p:anim calcmode="lin" valueType="num">
                                      <p:cBhvr additive="base">
                                        <p:cTn id="76" dur="500" fill="hold"/>
                                        <p:tgtEl>
                                          <p:spTgt spid="215">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652641C-11F5-49EC-BF3A-E35CC7E501EF}" type="slidenum">
              <a:t>44</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16">
                                            <p:txEl>
                                              <p:pRg st="0" end="0"/>
                                            </p:txEl>
                                          </p:spTgt>
                                        </p:tgtEl>
                                        <p:attrNameLst>
                                          <p:attrName>style.visibility</p:attrName>
                                        </p:attrNameLst>
                                      </p:cBhvr>
                                      <p:to>
                                        <p:strVal val="visible"/>
                                      </p:to>
                                    </p:set>
                                    <p:anim calcmode="lin" valueType="num">
                                      <p:cBhvr additive="base">
                                        <p:cTn id="84"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16">
                                            <p:txEl>
                                              <p:pRg st="2" end="2"/>
                                            </p:txEl>
                                          </p:spTgt>
                                        </p:tgtEl>
                                        <p:attrNameLst>
                                          <p:attrName>style.visibility</p:attrName>
                                        </p:attrNameLst>
                                      </p:cBhvr>
                                      <p:to>
                                        <p:strVal val="visible"/>
                                      </p:to>
                                    </p:set>
                                    <p:anim calcmode="lin" valueType="num">
                                      <p:cBhvr additive="base">
                                        <p:cTn id="90"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16">
                                            <p:txEl>
                                              <p:pRg st="4" end="4"/>
                                            </p:txEl>
                                          </p:spTgt>
                                        </p:tgtEl>
                                        <p:attrNameLst>
                                          <p:attrName>style.visibility</p:attrName>
                                        </p:attrNameLst>
                                      </p:cBhvr>
                                      <p:to>
                                        <p:strVal val="visible"/>
                                      </p:to>
                                    </p:set>
                                    <p:anim calcmode="lin" valueType="num">
                                      <p:cBhvr additive="base">
                                        <p:cTn id="96" dur="500" fill="hold"/>
                                        <p:tgtEl>
                                          <p:spTgt spid="216">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1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16">
                                            <p:txEl>
                                              <p:pRg st="6" end="6"/>
                                            </p:txEl>
                                          </p:spTgt>
                                        </p:tgtEl>
                                        <p:attrNameLst>
                                          <p:attrName>style.visibility</p:attrName>
                                        </p:attrNameLst>
                                      </p:cBhvr>
                                      <p:to>
                                        <p:strVal val="visible"/>
                                      </p:to>
                                    </p:set>
                                    <p:anim calcmode="lin" valueType="num">
                                      <p:cBhvr additive="base">
                                        <p:cTn id="102" dur="500" fill="hold"/>
                                        <p:tgtEl>
                                          <p:spTgt spid="216">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1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16">
                                            <p:txEl>
                                              <p:pRg st="8" end="8"/>
                                            </p:txEl>
                                          </p:spTgt>
                                        </p:tgtEl>
                                        <p:attrNameLst>
                                          <p:attrName>style.visibility</p:attrName>
                                        </p:attrNameLst>
                                      </p:cBhvr>
                                      <p:to>
                                        <p:strVal val="visible"/>
                                      </p:to>
                                    </p:set>
                                    <p:anim calcmode="lin" valueType="num">
                                      <p:cBhvr additive="base">
                                        <p:cTn id="108" dur="500" fill="hold"/>
                                        <p:tgtEl>
                                          <p:spTgt spid="216">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1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EE464E1-CFF7-4116-8BC4-69F89C9EE4C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416DA6E6-A396-40EE-9D73-E0AA8432C26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1F8EDF6-8B06-4846-819F-A0412D7AE2B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1C033EAD-2E5E-492E-BCDF-A95CDE0F95C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2" name=""/>
          <p:cNvGraphicFramePr/>
          <p:nvPr/>
        </p:nvGraphicFramePr>
        <p:xfrm>
          <a:off x="762120" y="3429000"/>
          <a:ext cx="7619760" cy="4038480"/>
        </p:xfrm>
        <a:graphic>
          <a:graphicData uri="http://schemas.openxmlformats.org/presentationml/2006/ole">
            <p:oleObj progId="Word.Document.12" r:id="rId1" spid="">
              <p:embed/>
              <p:pic>
                <p:nvPicPr>
                  <p:cNvPr id="223"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4"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5"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6CDEA61-B02D-4F60-A972-C7AD40BFDF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AE9227DC-41B2-42EE-8264-189D000D943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28"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AB87C7-7D42-4A93-A3E4-4725C44354D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1"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20A96BA8-DCCE-4D2E-8AA4-5DD43ABF043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3"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1550C51-DEE5-460D-9FB9-5D67E72CBE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35"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B1B4332-AD3A-4DD4-9CDC-1E8738B7E579}" type="slidenum">
              <a:t>53</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AC3DD9-935B-44CE-9B71-2554E5AD0E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6812F4D-0F43-44B4-B9FE-BAC855F71F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35BDE49A-49B0-4E7E-9DEC-2CD690600D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8D115BBE-52F7-4829-A1B9-67AC701AAB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5-10-02T00:29:13Z</dcterms:modified>
  <cp:revision>96</cp:revision>
  <dc:subject/>
  <dc:title>Sin título de diapositiva</dc:title>
</cp:coreProperties>
</file>