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3E5A7-6C03-448B-A337-6F887B1C6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909B-18FE-4E53-A308-26BC820A8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FA550-791E-4D1E-B5E5-3FB1C9F08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72EB8-C149-4B4A-A6FC-C8E80DE11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2DFA7-123C-4E2A-BB52-BE1CF398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864FF-E736-4FFC-9B69-F21E4A0E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7CAB6-3ACB-45CF-81E3-D8C8FBE4E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DB900-6D2E-46AA-8355-A980FD8D0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A2F74-9650-4D05-BF71-7F6F304E0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A5A2D-15D3-4E17-B4C5-01E9DCF2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0E87C-224A-4C20-AFD2-8B1D5C50B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871B7-46F5-47DD-B295-736BE657B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E749-AA82-4140-BBAF-63A25B11C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DCB7CE-6124-4D9A-BA34-A3919CA18C3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4F53D9E-2CF3-4202-AAFD-06E9731E60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18CEF983-913F-4046-B598-A5CB21892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500C16C-48C1-49A1-9FA1-740F8900A4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3F668F1-381F-43B7-916A-9D746FA01B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1423831-46C2-4045-95C8-C5FC3989C2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66AE7F-8110-4F8B-A5BF-7E28ED37CD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87CD6DE-2402-43D1-A507-4CB846BF23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AFE21F0-3FE8-4B36-A206-B9B3BF81D1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3D0316B9-EAE7-4210-8AA4-C5EEA995BB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F1A61A-D634-402C-B07A-6569B193C0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30A6C5-A3A0-46EB-A58F-CADD813152A1}"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16DAA6-489B-4C7C-8A68-40FADC3FFF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F25DEE-9E29-4BD9-BCA8-8239329598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CE207B-BAA8-4984-B19D-60DBA4E502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6ED96C-30CD-4977-AB60-39AAF1E874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CAC0BC-B7A9-4CB1-BF57-06682C5A0F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D8FD8AEE-6432-4E24-A7EA-334AEDDB87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FCD488EB-19F8-4FA9-823F-D816480A13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1E8BF2-51EB-4C71-8C4B-D1A9E24AA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494B66-235E-4EF2-B202-1D683000B9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78"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79"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2D945F-5DDB-4F77-B6A5-52D16EE34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B4B476-1CFA-4796-BD79-4CFF61B6A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00E1F95F-1DEE-4950-84B6-C43752C2FB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85"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86"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1FBF20B5-1403-4D8B-9283-3099F91231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88"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DC244DFA-1D41-4118-972D-400CD90C6B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2"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5E6976-A922-4159-A0D3-937DEC65E0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F8A904-EF24-407C-8394-CCBB3BC2E2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197"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198"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1"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CB0470-F8C5-4827-B90B-BDD6CCCE22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CC09C88-2593-47C6-A5A8-C49267B6FA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7D06B64-88BB-4B35-A1C8-B1A7D6FE71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C6FEA3-4547-432B-AE0B-A323767E87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07"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A823A1E-0048-4E9A-ACA0-51A20A109F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6175EF-BE48-4BA4-81D1-6A742F99FC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0"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2072184E-F85B-4857-A75A-D2CD735715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210A74-1E1A-484F-ACC7-4FCAC20F85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4"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04D2323-F709-45CB-A939-8634CEBD03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22B1D9A-AD5D-4BD3-81BA-36D5474A871D}" type="slidenum">
              <a:t>43</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15">
                                            <p:txEl>
                                              <p:pRg st="1" end="1"/>
                                            </p:txEl>
                                          </p:spTgt>
                                        </p:tgtEl>
                                        <p:attrNameLst>
                                          <p:attrName>style.visibility</p:attrName>
                                        </p:attrNameLst>
                                      </p:cBhvr>
                                      <p:to>
                                        <p:strVal val="visible"/>
                                      </p:to>
                                    </p:set>
                                    <p:anim calcmode="lin" valueType="num">
                                      <p:cBhvr additive="base">
                                        <p:cTn id="58"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15">
                                            <p:txEl>
                                              <p:pRg st="4" end="4"/>
                                            </p:txEl>
                                          </p:spTgt>
                                        </p:tgtEl>
                                        <p:attrNameLst>
                                          <p:attrName>style.visibility</p:attrName>
                                        </p:attrNameLst>
                                      </p:cBhvr>
                                      <p:to>
                                        <p:strVal val="visible"/>
                                      </p:to>
                                    </p:set>
                                    <p:anim calcmode="lin" valueType="num">
                                      <p:cBhvr additive="base">
                                        <p:cTn id="64"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15">
                                            <p:txEl>
                                              <p:pRg st="6" end="6"/>
                                            </p:txEl>
                                          </p:spTgt>
                                        </p:tgtEl>
                                        <p:attrNameLst>
                                          <p:attrName>style.visibility</p:attrName>
                                        </p:attrNameLst>
                                      </p:cBhvr>
                                      <p:to>
                                        <p:strVal val="visible"/>
                                      </p:to>
                                    </p:set>
                                    <p:anim calcmode="lin" valueType="num">
                                      <p:cBhvr additive="base">
                                        <p:cTn id="70"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15">
                                            <p:txEl>
                                              <p:pRg st="8" end="8"/>
                                            </p:txEl>
                                          </p:spTgt>
                                        </p:tgtEl>
                                        <p:attrNameLst>
                                          <p:attrName>style.visibility</p:attrName>
                                        </p:attrNameLst>
                                      </p:cBhvr>
                                      <p:to>
                                        <p:strVal val="visible"/>
                                      </p:to>
                                    </p:set>
                                    <p:anim calcmode="lin" valueType="num">
                                      <p:cBhvr additive="base">
                                        <p:cTn id="76" dur="500" fill="hold"/>
                                        <p:tgtEl>
                                          <p:spTgt spid="215">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807F31A-E2F3-4047-87C5-AB71F310AD7B}" type="slidenum">
              <a:t>44</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16">
                                            <p:txEl>
                                              <p:pRg st="0" end="0"/>
                                            </p:txEl>
                                          </p:spTgt>
                                        </p:tgtEl>
                                        <p:attrNameLst>
                                          <p:attrName>style.visibility</p:attrName>
                                        </p:attrNameLst>
                                      </p:cBhvr>
                                      <p:to>
                                        <p:strVal val="visible"/>
                                      </p:to>
                                    </p:set>
                                    <p:anim calcmode="lin" valueType="num">
                                      <p:cBhvr additive="base">
                                        <p:cTn id="84"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16">
                                            <p:txEl>
                                              <p:pRg st="2" end="2"/>
                                            </p:txEl>
                                          </p:spTgt>
                                        </p:tgtEl>
                                        <p:attrNameLst>
                                          <p:attrName>style.visibility</p:attrName>
                                        </p:attrNameLst>
                                      </p:cBhvr>
                                      <p:to>
                                        <p:strVal val="visible"/>
                                      </p:to>
                                    </p:set>
                                    <p:anim calcmode="lin" valueType="num">
                                      <p:cBhvr additive="base">
                                        <p:cTn id="90"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16">
                                            <p:txEl>
                                              <p:pRg st="4" end="4"/>
                                            </p:txEl>
                                          </p:spTgt>
                                        </p:tgtEl>
                                        <p:attrNameLst>
                                          <p:attrName>style.visibility</p:attrName>
                                        </p:attrNameLst>
                                      </p:cBhvr>
                                      <p:to>
                                        <p:strVal val="visible"/>
                                      </p:to>
                                    </p:set>
                                    <p:anim calcmode="lin" valueType="num">
                                      <p:cBhvr additive="base">
                                        <p:cTn id="96"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16">
                                            <p:txEl>
                                              <p:pRg st="6" end="6"/>
                                            </p:txEl>
                                          </p:spTgt>
                                        </p:tgtEl>
                                        <p:attrNameLst>
                                          <p:attrName>style.visibility</p:attrName>
                                        </p:attrNameLst>
                                      </p:cBhvr>
                                      <p:to>
                                        <p:strVal val="visible"/>
                                      </p:to>
                                    </p:set>
                                    <p:anim calcmode="lin" valueType="num">
                                      <p:cBhvr additive="base">
                                        <p:cTn id="102"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16">
                                            <p:txEl>
                                              <p:pRg st="8" end="8"/>
                                            </p:txEl>
                                          </p:spTgt>
                                        </p:tgtEl>
                                        <p:attrNameLst>
                                          <p:attrName>style.visibility</p:attrName>
                                        </p:attrNameLst>
                                      </p:cBhvr>
                                      <p:to>
                                        <p:strVal val="visible"/>
                                      </p:to>
                                    </p:set>
                                    <p:anim calcmode="lin" valueType="num">
                                      <p:cBhvr additive="base">
                                        <p:cTn id="108" dur="5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A9042D0-4709-4E88-8CE4-1BDAC4D5FD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EFD9902-E630-47C3-B0C4-613E0EE65F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CABF068-6BC9-4C57-ADBB-7CF6BB24C0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9BB4897-4BE1-42C2-8D3A-65F39BA214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2" name=""/>
          <p:cNvGraphicFramePr/>
          <p:nvPr/>
        </p:nvGraphicFramePr>
        <p:xfrm>
          <a:off x="762120" y="3429000"/>
          <a:ext cx="7619760" cy="4038480"/>
        </p:xfrm>
        <a:graphic>
          <a:graphicData uri="http://schemas.openxmlformats.org/presentationml/2006/ole">
            <p:oleObj progId="Word.Document.12" r:id="rId1" spid="">
              <p:embed/>
              <p:pic>
                <p:nvPicPr>
                  <p:cNvPr id="223"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4"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5"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BFCE56-430F-49B1-8868-32D3B3E529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3BDA140-66AD-4861-8628-32810CCFE3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8"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A420BF-6AF3-4518-A965-15803DA6E5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1"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81BC69-04DD-4C5C-805F-D51A7FE06E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3"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5B9205-90D0-4C6A-9750-63B5618C78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35"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316C3E-2D58-47E5-A947-D6E1298FAEEF}"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F296F1-62DA-4ABD-B08B-44CC293F8E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1066796-7141-4AAC-9BCC-DEAFBEDC0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E7BB069B-A9F6-48F5-A709-3879355612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A243C992-1F2E-4E27-9A5E-482130DF3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5-10-02T00:29:13Z</dcterms:modified>
  <cp:revision>96</cp:revision>
  <dc:subject/>
  <dc:title>Sin título de diapositiva</dc:title>
</cp:coreProperties>
</file>