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35A-8DB5-4AF7-A601-6185DA5C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A40-9854-42BE-87CD-01C81737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321-CA57-4D58-8C09-29398FBC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23A-D1A0-4699-BD69-EB4559C2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E345-2884-4D99-8578-79513918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50A3-D080-44E8-AF4A-7CD6A7C6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DDD0-2FA7-4DB4-967F-3680372A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F1B8-0420-415E-8511-DC4EE6AF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F996-ACDC-49CD-9072-24A0C1F4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5564-5434-491E-8D4D-8C399441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D3EB-8F5A-45D8-85C6-7BA30D25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670-F8F0-4BB5-8A2A-D1545D81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4E3F-2848-42FA-AC62-97E8FC25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7B38-3F22-4D2B-932B-76AC6C7C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5453-C8F4-48F5-A2C1-D6CBF255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DB75-E908-4FAF-93C8-9370BBF0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B3F1-26C6-4DA7-8626-6CFDA37C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6EE4-404B-46D1-A7BB-7AFAE8C8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DBB-844C-4B5A-A971-E465D688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DC0-8260-44A8-8245-D6300960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662-2E61-4B6B-9369-E72E8D28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45C-4059-4D52-A25A-E00BD44E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AD4-DAD7-4A20-8BEA-96178929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D0F-1DD0-426E-B59F-7DC1C0B7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1299-0361-4300-BBCD-F0F67324D1A4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A9A1-A9C5-47D0-A442-BD05075AF0D8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005d8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guzman@ing.uchile.cl" TargetMode="External"/><Relationship Id="rId2" Type="http://schemas.openxmlformats.org/officeDocument/2006/relationships/hyperlink" Target="mailto:sebagusi@hotmail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area #1 IN34A Otoño 20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8f8f8"/>
                </a:solidFill>
                <a:latin typeface="Arial"/>
              </a:rPr>
              <a:t>Sebastián Guzmá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guzman@ing.uchile.c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ebagusi@hotmail.co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emand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200 puertas simp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120 ventanas do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Ventanas simples y puertas dobles tienen mercad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isponibilidad de recurso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Cantidad de madera 1000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de sierra 5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hombre de barnizado 7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49320" y="1981080"/>
          <a:ext cx="7660800" cy="4114440"/>
        </p:xfrm>
        <a:graphic>
          <a:graphicData uri="http://schemas.openxmlformats.org/drawingml/2006/table">
            <a:tbl>
              <a:tblPr/>
              <a:tblGrid>
                <a:gridCol w="1301400"/>
                <a:gridCol w="1767600"/>
                <a:gridCol w="1964160"/>
                <a:gridCol w="262764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Madera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m</a:t>
                      </a:r>
                      <a:r>
                        <a:rPr b="1" lang="en-US" sz="12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rt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maq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Barnizad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hombre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429000"/>
            <a:ext cx="7632720" cy="1584360"/>
          </a:xfrm>
          <a:prstGeom prst="rect">
            <a:avLst/>
          </a:prstGeom>
          <a:solidFill>
            <a:srgbClr val="00cc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1989000"/>
          <a:ext cx="7661160" cy="3753000"/>
        </p:xfrm>
        <a:graphic>
          <a:graphicData uri="http://schemas.openxmlformats.org/drawingml/2006/table">
            <a:tbl>
              <a:tblPr/>
              <a:tblGrid>
                <a:gridCol w="1981080"/>
                <a:gridCol w="2691000"/>
                <a:gridCol w="2989080"/>
              </a:tblGrid>
              <a:tr h="72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ecio venta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sto unitari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Variables de Decisión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X(p): cantidad de producto p a produci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p 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Є</a:t>
            </a: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 {p. doble, p. simple, v. doble, v. simple}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Función Objetiv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Restriccione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Satisfacer demanda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Disponibilidad de recurso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3645000"/>
                <a:ext cx="38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cio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651640" y="5661000"/>
                <a:ext cx="3024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o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51640" y="4869000"/>
                <a:ext cx="17539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d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Hoja de Cálc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400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6:18:06Z</dcterms:created>
  <dc:creator> </dc:creator>
  <dc:description/>
  <dc:language>en-US</dc:language>
  <cp:lastModifiedBy>Familia</cp:lastModifiedBy>
  <dcterms:modified xsi:type="dcterms:W3CDTF">2005-03-31T00:56:55Z</dcterms:modified>
  <cp:revision>15</cp:revision>
  <dc:subject/>
  <dc:title>Tarea #1 In34a</dc:title>
</cp:coreProperties>
</file>