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A4FA-5C09-430A-B951-DBB7C7EC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7B73-B8B0-410E-86B6-8B9F2AFD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2123-E9E8-4347-B5D4-3FBCE2D2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CDC-69A1-43FA-93F8-F542392F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2058-6014-4E51-BDB6-D12ADAE4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C8DF-5222-4F2A-9620-962B0FA0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6AF3-60C0-44F1-96B1-CB9EAF27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5335-076E-4C45-AEAC-85C4479A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EDFE-7028-4513-B4E1-01740A7C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6FC5-447F-478D-ABD6-40F01637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2425-5264-439D-8BFD-FB5ADA6A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C6E0-1BA6-4B36-A438-FE4BDC3C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6AE4-DCD7-4491-9D0E-A57F17C1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2A6A-0C6B-4F88-87F3-E0CFD13F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17E3-A1A8-4B4F-9984-D615948E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F1F9-393E-4D76-8D82-391AD44E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F8B5-E74D-493D-A344-B4B2F2A2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FAFC-46D2-4CC9-BD4C-6A2DAF1F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7CE0-4D84-4B67-937B-E35D53A5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DAB3-8FFD-4E88-B6C6-FBF68182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E85A-7678-4E2E-B133-E6A3B3CA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1643-DE70-40D9-9473-9242D9D3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223F-E7FF-47BF-B8A1-28883D8F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DA05-FE30-49BC-B576-8D2BB414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005d8c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7D91-6281-47CD-8097-48DA91B94468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50DC-FB3F-4B19-8874-BD981C426B86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005d8c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guzman@ing.uchile.cl" TargetMode="External"/><Relationship Id="rId2" Type="http://schemas.openxmlformats.org/officeDocument/2006/relationships/hyperlink" Target="mailto:sebagusi@hotmail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area #1 IN34A Otoño 200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8f8f8"/>
                </a:solidFill>
                <a:latin typeface="Arial"/>
              </a:rPr>
              <a:t>Sebastián Guzmán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guzman@ing.uchile.c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ebagusi@hotmail.com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emanda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200 puertas simp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120 ventanas dob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Ventanas simples y puertas dobles tienen mercado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isponibilidad de recurso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Cantidad de madera 1000m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de sierra 5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hombre de barnizado 7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49320" y="1981080"/>
          <a:ext cx="7660800" cy="4114440"/>
        </p:xfrm>
        <a:graphic>
          <a:graphicData uri="http://schemas.openxmlformats.org/drawingml/2006/table">
            <a:tbl>
              <a:tblPr/>
              <a:tblGrid>
                <a:gridCol w="1301400"/>
                <a:gridCol w="1767600"/>
                <a:gridCol w="1964160"/>
                <a:gridCol w="2627640"/>
              </a:tblGrid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Madera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m</a:t>
                      </a:r>
                      <a:r>
                        <a:rPr b="1" lang="en-US" sz="12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rte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maq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Barnizad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hombre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4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71640" y="3429000"/>
            <a:ext cx="7632720" cy="1584360"/>
          </a:xfrm>
          <a:prstGeom prst="rect">
            <a:avLst/>
          </a:prstGeom>
          <a:solidFill>
            <a:srgbClr val="00cc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71640" y="1989000"/>
          <a:ext cx="7661160" cy="3753000"/>
        </p:xfrm>
        <a:graphic>
          <a:graphicData uri="http://schemas.openxmlformats.org/drawingml/2006/table">
            <a:tbl>
              <a:tblPr/>
              <a:tblGrid>
                <a:gridCol w="1981080"/>
                <a:gridCol w="2691000"/>
                <a:gridCol w="2989080"/>
              </a:tblGrid>
              <a:tr h="72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ecio venta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sto unitari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510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Variables de Decisión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X(p): cantidad de producto p a producir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p 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  <a:ea typeface="Arial"/>
              </a:rPr>
              <a:t>Є</a:t>
            </a: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 {p. doble, p. simple, v. doble, v. simple}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Función Objetivo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Restriccione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Satisfacer demanda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Disponibilidad de recurso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0" y="3645000"/>
                <a:ext cx="3887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ecio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st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651640" y="5661000"/>
                <a:ext cx="3024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so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651640" y="4869000"/>
                <a:ext cx="17539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da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Hoja de Cálcu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4007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16:18:06Z</dcterms:created>
  <dc:creator> </dc:creator>
  <dc:description/>
  <dc:language>en-US</dc:language>
  <cp:lastModifiedBy>Familia</cp:lastModifiedBy>
  <dcterms:modified xsi:type="dcterms:W3CDTF">2005-03-31T00:56:55Z</dcterms:modified>
  <cp:revision>15</cp:revision>
  <dc:subject/>
  <dc:title>Tarea #1 In34a</dc:title>
</cp:coreProperties>
</file>