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B3915-C286-43C9-B27B-4CEFAEAA0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A280C-74F8-451E-95EC-ED2574EBE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DC8E-3BC4-4A27-A10B-96F740F34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26122-7178-4797-9C60-7B906AADB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7883E-68EB-4A5D-B93A-7D97EC4508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521CF-01B8-41B6-ADA3-7335E044C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3A959-80B7-420E-ACE5-8D46FEAF7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8A31C-1190-4294-9055-A9293932F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BA9B7-5E4A-4587-982A-CA2EC4CD0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DC714-E25F-4B02-A5D6-E298D5C4C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6E81E-E4DF-4D10-BFB9-6E81A9D58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EE510-CF8B-49B3-835E-FE79C2876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D557-E305-4149-8709-7248544C0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1903320" cy="2347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6720" y="685440"/>
            <a:ext cx="4496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838080"/>
            <a:ext cx="4756320" cy="586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19280" y="685440"/>
            <a:ext cx="5343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ADMINISTRACIÓN BÁSICA DE UN NEGO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343040" y="3657600"/>
            <a:ext cx="4419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ACITACIÓN Nº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UNA PROPUESTA PARA LA MICROEMPR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a administración correcta del negocio requiere conocer todos los elementos enunciados con anterioridad, pero es de suma importanci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ber manejar los flujos de d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 es fácil separar domini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YO + YO 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512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Yo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 Yo empres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lata que es de la empresa es distinta a la plata que utilizo para la fam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El bolsillo izquierdo es el yo empresa y el derecho es el y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tos típicos de casa Bols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os que involucra usar la plata del bolsillo derech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a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s de la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os que involucra usar la plata del bolsillo izquier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rar insumos para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go a proveedores  y trabaj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 personal (d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éditos del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A MANERA MUY FÁC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 fundamental llevar un orden de estos flujos y diferenciarlos de los que son del yo y el yo empresa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unca hay que mezclarlos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lla ingreso-egre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ta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ntidad vendida y precio de venta (ing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astos incurridos para la venta (costos o egres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ferencia entre ingresos y egresos (sal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ENEFICIOS DE SU U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 planilla permite controlar y ver de manera explícita cuanto estoy gastando en mi empresa y planificar desde ahí algunas acciones como por 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ir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irle el sueldo al 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nder más caro (considerando el precio del merc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anto puedo ganar en el fut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 Y GA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ES VITAL DISTINGUIRLOS, SOBRE TODO EN LA MICROEMPRESA, PUES PERMITE, A TRAVES DE AHOROS MARGINALES, MUCHAS POSIBILIDADES EN EL RUBRO EN QUE SE DESENVU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mp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asignación de ca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uel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 Y GA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únmente son conceptos que se tienden a considerar como una sola cosa, sin embargo entenderlos de manera diferenciada permite hacer una mejor gestión del negocio y de los precios de los productos y/o servicios ofrec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 los desembolsos y deducciones directos causados por el proceso de fabricación o por la prestación del servicio. Son considerados costos lo siguientes í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o de obra por hora o por d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s y Salarios del personal de pl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s pr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les de consumo e insu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cancí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endamiento del local de la pla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ios públicos (agua, luz, teléfo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reciación de máquinas y equ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7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stos Variabl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 aquellos en que su valor aumenta y disminuye cada vez que la producción y las ventas aumentan o disminuy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eria Pr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stos Fijo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on independientes del nivel de ventas y prod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eldos fi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riendo de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tenimiento de maqu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A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5320" y="1341000"/>
            <a:ext cx="69339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n los desembolsos y deducciones causados por la administración de la empresa. Por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eldos y salarios del personal administra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r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ret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nsaj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denan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ndedores (sueldo ba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rendamiento de ofic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peler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rreo y teléfo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astos de public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tenimiento del vehícu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reciación de muebles y enseres de ofic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MPRESA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una organización cuyo objetivo es fabricar y distribuir mercancía, o proveer servicios a parte o a toda la comunidad mediante el pago  o retribución de los mis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rdar la definición enunciada en la clase auxiliar nº3: que la define com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una red de conversaciones recurrentes orientadas a resolver, a través del diseño, quiebres del ento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ifique cada uno de los siguientes costos y gastos según su criterio, colocando una *C *a los costos y una *G *a los gastos. Para responder este ejercicio usted tiene sólo dos minutos. Se les ruega no compartir con sus compañeros durante le tiempo de respues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959120"/>
            <a:ext cx="360972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alquil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a de materia prima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sal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servicios públ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reciación de equi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comisión de vende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publicidad en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impuestos municip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intereses de un préstam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1820880"/>
            <a:ext cx="417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mantenimiento de maquinar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mano de obra por dí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Transpor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sueldo base de vendedor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l sueldo del empresari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a de materiales y accesorio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de mantenimiento de vehí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a de empaque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licida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go por correo o correspondenci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 “salidas de fin de semana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iaje de plac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QUE HACER AL RESP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47640" y="1600200"/>
            <a:ext cx="67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 buena gestión del negocio debe traducirse en una reducción de los costos y de los gas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costos que no es posible evitar, sin embargo a través de innovaciones podemos incurrir en costos que remplazan a los existentes a un menor valor. Por ejemplo la introducción de tecn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 idea es dejar de incurrir en gastos innecesarios para nuestro negocio, es decir, no es necesario gastar en cada uno de los elementos planteados anterior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es o servicios que la empresa ofrece para satisfacer las necesidades de los clientes. A aquellos productos tangibles se les conoce como bienes, y son clasificados de la siguiente mane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enes de Cons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enes de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ENES Y SERV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 = PRODUCTO TAN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IO = PRODUCTO INTAN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principal objetivo de esta distinción radica en reconocer elementos críticos de cada uno y de la existencia de gestiones diferentes en cada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IENES V/S SERV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31640" y="1197000"/>
            <a:ext cx="82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COMEND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s necesario considerar una serie de factores que determinan la satisfacción del cliente, que van más allá de la fabricación de un bien o entrega de un servic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Higiene y Pres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Buena atención, rápida, responsable y pun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arantía del producto ofre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Que sea coherente con los IQP´s de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cordar el ciclo del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ÓMO FUNCIONA LA EMPR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tividades Funcional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odas las actividades que involucran el funcionamiento de la empresa en la concepción de bienes o servic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cursos Financiero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apital monetario (dinero) requerido para iniciar y mantener las actividades fun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sonas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urso humano que efectúa las distintas actividades funcionales además de planear estrategias y dirigir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CTIVIDADES TÍP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3280" y="155736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lmace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trib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CURSOS NECES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terias Pr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01:42:41Z</dcterms:created>
  <dc:creator>Marepino Ltda</dc:creator>
  <dc:description/>
  <dc:language>en-US</dc:language>
  <cp:lastModifiedBy>dii</cp:lastModifiedBy>
  <dcterms:modified xsi:type="dcterms:W3CDTF">2005-05-01T22:36:49Z</dcterms:modified>
  <cp:revision>8</cp:revision>
  <dc:subject/>
  <dc:title>ADMINISTRACIÓN BÁSICA DE UN NEGOCIO</dc:title>
</cp:coreProperties>
</file>