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949E-9269-4B67-9F2B-131950FB9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CF9A-B403-4C88-8F3A-93C6B629D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55D3-0AA3-4EA8-A809-C3D9D2A34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9B2A-183E-4BEE-B338-7DC56A56D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299E7-543C-48F4-9235-8DED85C9C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70230-D623-438E-B989-D004AFC1A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8831-B84D-4ABC-894E-6D9A21A43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36FA-1A80-4EB4-8644-289BF3938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18A3-6269-4724-9DB1-BE4B1FB62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21AB-62B2-412E-AAAF-7ABE09CA6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8849-392A-4A8D-A090-87425DEA3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CAB8-2FCE-43D6-AB3C-801B292B3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9547-55E7-40CF-83A9-B8E25F9EF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1903320" cy="23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56320" cy="586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343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MINISTRACIÓN BÁSICA DE UN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43040" y="36576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ACITACIÓN Nº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A PROPUESTA PARA LA MICRO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administración correcta del negocio requiere conocer todos los elementos enunciados con anterioridad, pero es de suma importanci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ber manejar los flujos de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 es fácil separar domini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 + YO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os típicos de casa Bol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s de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a proveedores  y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 personal (d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A MANERA MUY FÁ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undamental llevar un orden de estos flujos y diferenciarlos de los que son del yo y el yo empresa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NEFICIOS DE SU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 planilla permite controlar y ver de manera explícita cuanto estoy gastando en mi empresa y planificar desde ahí algunas acciones 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r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irle el sueldo al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er más caro (considerando el precio del merc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to puedo gana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S VITAL DISTINGUIRLOS, SOBRE TODO EN LA MICROEMPRESA, PUES PERMITE, A TRAVES DE AHOROS MARGINALES, MUCHAS POSIBILIDADES EN EL RUBRO EN QUE SE DESEN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asignación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el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únmente son conceptos que se tienden a considerar como una sola cosa, sin embargo entenderlos de manera diferenciada permite hacer una mejor gestión del negocio y de los precios de los productos y/o servicios ofre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les de consumo e insu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canc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reciación de máquinas y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Variab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 aquellos en que su valor aumenta y disminuye cada vez que la producción y las ventas aumentan o disminuy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Fijo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n independientes del nivel de ventas y p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f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iendo de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nimiento de maqu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5320" y="1341000"/>
            <a:ext cx="6933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los desembolsos y deducciones causados por la administración de la empresa.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dos y salarios del personal administr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r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re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ns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den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edores (sueldo b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rendamiento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rreo y teléf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stos de public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tenimiento del vehícu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muebles y enseres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MPRESA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a organización cuyo objetivo es fabricar y distribuir mercancía, o proveer servicios a parte o a toda la comunidad mediante el pago  o retribución de los m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ar la definición enunciada en la clase auxiliar nº3: que la define com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na red de conversaciones recurrentes orientadas a resolver, a través del diseño, quiebres d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ifique cada uno de los siguientes costos y gastos según su criterio, colocando una *C *a los costos y una *G *a los gastos. Para responder este ejercicio usted tiene sólo dos minutos. Se les ruega no compartir con sus compañeros durante le tiempo de respues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59120"/>
            <a:ext cx="360972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alquil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 prim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ervicios púb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comisión de 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publicidad en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mpuestos municip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ntereses de un préstam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820880"/>
            <a:ext cx="41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maqu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o de obra por dí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Transpor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ueldo base de vendedor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l sueldo del empresari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les y accesori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vehí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empaqu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ida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por correo o correspondenci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“salidas de fin de sema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aje de plac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 HACER AL RESP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o servicios que la empresa ofrece para satisfacer las necesidades de los clientes. A aquellos productos tangibles se les conoce como bienes, y son clasificados de la siguiente man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Y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 = PRODUCTO 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IO = PRODUCTO IN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incipal objetivo de esta distinción radica en reconocer elementos críticos de cada uno y de la existencia de gestiones diferentes en cada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V/S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640" y="1197000"/>
            <a:ext cx="82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OMEND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necesario considerar una serie de factores que determinan la satisfacción del cliente, que van más allá de la fabricación de un bien o entrega de un serv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igiene y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uena atención, rápida, responsable y pun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arantía del producto ofr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e sea coherente con los IQP´s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rdar el cicl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ÓMO FUNCIONA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idades Funcion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odas las actividades que involucran el funcionamiento de la empresa en la concepción de bienes o serv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ursos Financier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pital monetario (dinero) requerido para iniciar y mantener las actividades fun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o humano que efectúa las distintas actividades funcionales además de planear estrategias y dirigir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TIVIDADES TÍP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URS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terias Pr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1:42:41Z</dcterms:created>
  <dc:creator>Marepino Ltda</dc:creator>
  <dc:description/>
  <dc:language>en-US</dc:language>
  <cp:lastModifiedBy>dii</cp:lastModifiedBy>
  <dcterms:modified xsi:type="dcterms:W3CDTF">2005-05-01T22:36:49Z</dcterms:modified>
  <cp:revision>8</cp:revision>
  <dc:subject/>
  <dc:title>ADMINISTRACIÓN BÁSICA DE UN NEGOCIO</dc:title>
</cp:coreProperties>
</file>