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F35BB-7982-472B-83FD-8AF168D1C6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FF234-0999-4101-A67A-D6BBFAAE79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AF416-1B2D-4EF3-BB43-EA0E0EA7B2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0E0A5-A4A1-402A-B3AE-4926416BB1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C402C-E36A-4E13-AC3B-D2A08EDD67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5318B-D20D-4465-A293-17EAE4F74B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003EC-A2B0-47F8-9861-3239609445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837DC-3953-4570-9D44-8C63F1606E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DFD7A-6AB8-453F-A513-A5F046EDDA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CD7A5-ED69-4D99-AB27-859E137F26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AFB34-DA8A-4523-92FB-A29F8C1C23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82420-926A-4CF0-9EE5-BCC9E94014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552720"/>
            <a:ext cx="6248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0992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43DF4-B6ED-408F-BFBB-4C27CE9B6A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1903320" cy="2347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66720" y="685440"/>
            <a:ext cx="44960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52280" y="838080"/>
            <a:ext cx="4756320" cy="5867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419280" y="685440"/>
            <a:ext cx="53434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ADMINISTRACIÓN BÁSICA DE UN NEGO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343040" y="3657600"/>
            <a:ext cx="4419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APACITACIÓN Nº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UNA PROPUESTA PARA LA MICROEMPRE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143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a administración correcta del negocio requiere conocer todos los elementos enunciados con anterioridad, pero es de suma importancia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aber manejar los flujos de din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o es fácil separar dominios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YO + YO EMPRE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5120" y="2143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ahoma"/>
              </a:rPr>
              <a:t>Yo </a:t>
            </a:r>
            <a:r>
              <a:rPr b="1" lang="en-US" sz="5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5400" spc="-1" strike="noStrike">
                <a:solidFill>
                  <a:srgbClr val="000000"/>
                </a:solidFill>
                <a:latin typeface="Tahoma"/>
              </a:rPr>
              <a:t> Yo empres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 plata que es de la empresa es distinta a la plata que utilizo para la fami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El bolsillo izquierdo es el yo empresa y el derecho es el y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Gatos típicos de casa Bolsil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stos que involucra usar la plata del bolsillo derech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men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aj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gos de la c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stos que involucra usar la plata del bolsillo izquier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rar insumos para la p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go a proveedores  y trabaj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eldo personal (del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y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éditos del nego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UNA MANERA MUY FÁC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 fundamental llevar un orden de estos flujos y diferenciarlos de los que son del yo y el yo empresa.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unca hay que mezclarlos!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lanilla ingreso-egres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nsta 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antidad vendida y precio de venta (ingres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astos incurridos para la venta (costos o egres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iferencia entre ingresos y egresos (sald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ENEFICIOS DE SU U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a planilla permite controlar y ver de manera explícita cuanto estoy gastando en mi empresa y planificar desde ahí algunas acciones como por ejemp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ir cos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irle el sueldo al Y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nder más caro (considerando el precio del mercad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anto puedo ganar en el futu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OSTOS Y GAS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ES VITAL DISTINGUIRLOS, SOBRE TODO EN LA MICROEMPRESA, PUES PERMITE, A TRAVES DE AHOROS MARGINALES, MUCHAS POSIBILIDADES EN EL RUBRO EN QUE SE DESENVUEL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omp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asignación de cap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uel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OSTOS Y GAS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múnmente son conceptos que se tienden a considerar como una sola cosa, sin embargo entenderlos de manera diferenciada permite hacer una mejor gestión del negocio y de los precios de los productos y/o servicios ofreci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OS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 los desembolsos y deducciones directos causados por el proceso de fabricación o por la prestación del servicio. Son considerados costos lo siguientes íte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o de obra por hora o por d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eldos y Salarios del personal de plan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terias prim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teriales de consumo e insum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cancí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rendamiento del local de la plan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vicios públicos (agua, luz, teléfon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preciación de máquinas y equi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OS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7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stos Variables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n aquellos en que su valor aumenta y disminuye cada vez que la producción y las ventas aumentan o disminuy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teria Pr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o de O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stos Fijos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on independientes del nivel de ventas y produc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eldos fij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riendo de lo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tenimiento de maquin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GAS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5320" y="1341000"/>
            <a:ext cx="69339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n los desembolsos y deducciones causados por la administración de la empresa. Por 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ueldos y salarios del personal administrativ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r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cretar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nsajer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rdenanz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endedores (sueldo bas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rrendamiento de ofici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pelerí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rreo y teléfo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astos de publicida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por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ntenimiento del vehícul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preciación de muebles y enseres de ofici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MPRESA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 una organización cuyo objetivo es fabricar y distribuir mercancía, o proveer servicios a parte o a toda la comunidad mediante el pago  o retribución de los mism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rdar la definición enunciada en la clase auxiliar nº3: que la define como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una red de conversaciones recurrentes orientadas a resolver, a través del diseño, quiebres del entor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JERCI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5076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ifique cada uno de los siguientes costos y gastos según su criterio, colocando una *C *a los costos y una *G *a los gastos. Para responder este ejercicio usted tiene sólo dos minutos. Se les ruega no compartir con sus compañeros durante le tiempo de respues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JERCI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71280" y="1959120"/>
            <a:ext cx="360972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go de alquile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pra de materia prima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go de salar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go de servicios públ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preciación de equi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go de comisión de vende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go de publicidad en rad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go de impuestos municip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go de intereses de un préstam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88000" y="1820880"/>
            <a:ext cx="41767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go de mantenimiento de maquinari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go de mano de obra por dí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go de Transport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go de sueldo base de vendedore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go del sueldo del empresari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pra de materiales y accesorio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go de mantenimiento de vehícu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pra de empaque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licida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go por correo o correspondenci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s “salidas de fin de semana”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iaje de place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QUE HACER AL RESPEC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676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 buena gestión del negocio debe traducirse en una reducción de los costos y de los gast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isten costos que no es posible evitar, sin embargo a través de innovaciones podemos incurrir en costos que remplazan a los existentes a un menor valor. Por ejemplo la introducción de tecnolog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 idea es dejar de incurrir en gastos innecesarios para nuestro negocio, es decir, no es necesario gastar en cada uno de los elementos planteados anterior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RODUC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enes o servicios que la empresa ofrece para satisfacer las necesidades de los clientes. A aquellos productos tangibles se les conoce como bienes, y son clasificados de la siguiente maner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enes de Consu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enes de Pro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IENES Y SERV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EN = PRODUCTO TAN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ICIO = PRODUCTO INTAN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 principal objetivo de esta distinción radica en reconocer elementos críticos de cada uno y de la existencia de gestiones diferentes en cada ca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IENES V/S SERV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31640" y="1197000"/>
            <a:ext cx="824400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RECOMEND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s necesario considerar una serie de factores que determinan la satisfacción del cliente, que van más allá de la fabricación de un bien o entrega de un servic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Higiene y Presen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Buena atención, rápida, responsable y pun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Garantía del producto ofrec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Que sea coherente con los IQP´s de los cl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Recordar el ciclo del traba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ÓMO FUNCIONA LA EMPRE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2692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ctividades Funcional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Todas las actividades que involucran el funcionamiento de la empresa en la concepción de bienes o servic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cursos Financiero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Capital monetario (dinero) requerido para iniciar y mantener las actividades funcion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ersonas: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urso humano que efectúa las distintas actividades funcionales además de planear estrategias y dirigir la empre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CTIVIDADES TÍP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03280" y="1557360"/>
            <a:ext cx="605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mp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ark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Ven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lmacen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istribu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RECURSOS NECESAR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aterias Pri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erso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ecnolog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apit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nform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30T01:42:41Z</dcterms:created>
  <dc:creator>Marepino Ltda</dc:creator>
  <dc:description/>
  <dc:language>en-US</dc:language>
  <cp:lastModifiedBy>dii</cp:lastModifiedBy>
  <dcterms:modified xsi:type="dcterms:W3CDTF">2005-05-01T22:36:49Z</dcterms:modified>
  <cp:revision>8</cp:revision>
  <dc:subject/>
  <dc:title>ADMINISTRACIÓN BÁSICA DE UN NEGOCIO</dc:title>
</cp:coreProperties>
</file>