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692FE-0F00-4153-AEEA-497BC2B01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4312A-C828-4D24-95D5-CE07D2AF8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A98D-8D64-44A3-8BF7-FD4D1182A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F4ED-0DF0-4E57-AF35-D7E21F3819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FD18-6EE6-4C01-9FF6-33539E973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9F34-5755-4D89-821D-20C61E6E8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29F1-4E66-4249-8448-10DD394BB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73A0-CFFC-4065-B8A8-A5A5F3A6B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4ACC2-C1B0-4E16-AEAE-2C7BF154F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9523-89C6-4B31-A56E-C41C81A34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6D87-D3E6-4A04-AF6D-B0E8E00F7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B7C6D-9D3B-407F-8DC0-D97248E8F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021A-7770-4D83-9653-BC27726A0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040" y="3657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CITACIÓN Nº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únmente son conceptos que se tienden a considerar como una sola cosa, sin embargo entenderlos de manera diferenciada permite hacer una mejor gestión del negocio y de los precios de los productos y/o servicios ofr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les de consumo e insu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canc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ciación de máquin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en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tenimiento del vehí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muebles y enseres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MPRE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ar la definición enunciada en la clase auxiliar nº3: que la define com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a red de conversaciones recurrentes orientadas a resolver, a través del diseño, quiebre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ifique cada uno de los siguientes costos y gastos según su criterio, colocando una *C *a los costos y una *G *a los gastos. Para responder este ejercicio usted tiene sólo dos minutos. Se les ruega no compartir con sus compañeros durante le tiempo de respue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59120"/>
            <a:ext cx="3609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alqui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 prim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ervicio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comisión de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publicidad en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mpuesto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ntereses de un présta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820880"/>
            <a:ext cx="41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maqu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o de obra por dí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Transpor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ueldo base de vend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l sueldo del empres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les y acceso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vehí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empaqu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por correo o correspond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“salidas de fin de sema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aje de pla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o servicios que la empresa ofrece para satisfacer las necesidades de los clientes. A aquellos productos tangibles se les conoce como bienes, y son clasificados de la siguiente man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Y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 = PRODUCTO 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IO = PRODUCTO 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V/S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1197000"/>
            <a:ext cx="82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EN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necesario considerar una serie de factores que determinan la satisfacción del cliente, que van más allá de la fabricación de un bien o entrega de un serv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igiene y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ena atención, rápida, responsable y pu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arantía del producto of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 sea coherente con los IQP´s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rdar el cicl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ÓMO FUNCIONA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idades Funcion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odas las actividades que involucran el funcionamiento de la empresa en la concepción de bienes o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pital monetario (dinero) requerido para iniciar y mantener las actividades fun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o humano que efectúa las distintas actividades funcionales además de planear estrategias y dirigir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DADES TÍP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URS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dii</cp:lastModifiedBy>
  <dcterms:modified xsi:type="dcterms:W3CDTF">2005-05-01T22:36:49Z</dcterms:modified>
  <cp:revision>8</cp:revision>
  <dc:subject/>
  <dc:title>ADMINISTRACIÓN BÁSICA DE UN NEGOCIO</dc:title>
</cp:coreProperties>
</file>