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3D5822-D717-4B56-8B24-C30CF73E2E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A547B6-E32B-4D47-8C69-D2CB97B299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1E9B38-03F7-454E-9767-3701883E0A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DE9558-7B73-4E8F-96B8-D27A5626C2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C439C0-D43C-4235-A1DD-485521E1B6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0131CF-54EF-45B8-8E97-DA940E4691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7B9DAB-A8BE-4F19-B582-4E21B91B49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426A06-20B8-4571-8352-3E8289497F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553A22-ED99-4ACB-9BF2-D2A8E598E7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BE704D-8D1F-4E4F-BFA4-91CD42309A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864EDB-1314-4D41-A520-FA1D08F4EE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E550BC-FCA3-48D8-ADD4-E46CA3DF6C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552720"/>
            <a:ext cx="6248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009920" y="662904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74191-EDCC-491D-B5DC-6E75380525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1903320" cy="23479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266720" y="685440"/>
            <a:ext cx="44960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52280" y="838080"/>
            <a:ext cx="4756320" cy="5867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419280" y="685440"/>
            <a:ext cx="53434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ADMINISTRACIÓN BÁSICA DE UN NEGOC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343040" y="3657600"/>
            <a:ext cx="4419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APACITACIÓN Nº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UNA PROPUESTA PARA LA MICROEMPRES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143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a administración correcta del negocio requiere conocer todos los elementos enunciados con anterioridad, pero es de suma importancia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aber manejar los flujos de diner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No es fácil separar dominios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YO + YO EMPRE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5120" y="21430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ahoma"/>
              </a:rPr>
              <a:t>Yo </a:t>
            </a:r>
            <a:r>
              <a:rPr b="1" lang="en-US" sz="5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5400" spc="-1" strike="noStrike">
                <a:solidFill>
                  <a:srgbClr val="000000"/>
                </a:solidFill>
                <a:latin typeface="Tahoma"/>
              </a:rPr>
              <a:t> Yo empres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 plata que es de la empresa es distinta a la plata que utilizo para la famil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El bolsillo izquierdo es el yo empresa y el derecho es el y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Gatos típicos de casa Bolsil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stos que involucra usar la plata del bolsillo derech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o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ment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aj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gos de la c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stos que involucra usar la plata del bolsillo izquierd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rar insumos para la produ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go a proveedores  y trabajad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eldo personal (del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yo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éditos del negoc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UNA MANERA MUY FÁC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 fundamental llevar un orden de estos flujos y diferenciarlos de los que son del yo y el yo empresa.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Nunca hay que mezclarlos!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lanilla ingreso-egres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onsta 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antidad vendida y precio de venta (ingres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Gastos incurridos para la venta (costos o egres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iferencia entre ingresos y egresos (sald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ENEFICIOS DE SU US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436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ta planilla permite controlar y ver de manera explícita cuanto estoy gastando en mi empresa y planificar desde ahí algunas acciones como por ejempl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ir cos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irle el sueldo al Y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nder más caro (considerando el precio del mercad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anto puedo ganar en el futur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OSTOS Y GAS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ES VITAL DISTINGUIRLOS, SOBRE TODO EN LA MICROEMPRESA, PUES PERMITE, A TRAVES DE AHOROS MARGINALES, MUCHAS POSIBILIDADES EN EL RUBRO EN QUE SE DESENVUEL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Compr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Reasignación de capi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uel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OSTOS Y GAS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omúnmente son conceptos que se tienden a considerar como una sola cosa, sin embargo entenderlos de manera diferenciada permite hacer una mejor gestión del negocio y de los precios de los productos y/o servicios ofrecid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OS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 los desembolsos y deducciones directos causados por el proceso de fabricación o por la prestación del servicio. Son considerados costos lo siguientes ítem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o de obra por hora o por dí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eldos y Salarios del personal de plan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terias prim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teriales de consumo e insum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cancí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rendamiento del local de la plan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rvicios públicos (agua, luz, teléfon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preciación de máquinas y equi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OS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794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ostos Variables: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n aquellos en que su valor aumenta y disminuye cada vez que la producción y las ventas aumentan o disminuy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teria Pri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o de O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ostos Fijos: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on independientes del nivel de ventas y produc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eldos fij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riendo de lo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tenimiento de maquina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GAS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5320" y="1341000"/>
            <a:ext cx="69339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n los desembolsos y deducciones causados por la administración de la empresa. Por ejemp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ueldos y salarios del personal administrativ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ren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cretari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nsajer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rdenanz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endedores (sueldo bas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rrendamiento de oficin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apelerí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rreo y teléfon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astos de publicida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por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ntenimiento del vehícul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preciación de muebles y enseres de oficin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EMPRESA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 una organización cuyo objetivo es fabricar y distribuir mercancía, o proveer servicios a parte o a toda la comunidad mediante el pago  o retribución de los mism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rdar la definición enunciada en la clase auxiliar nº3: que la define como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una red de conversaciones recurrentes orientadas a resolver, a través del diseño, quiebres del entor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EJERCIC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5076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asifique cada uno de los siguientes costos y gastos según su criterio, colocando una *C *a los costos y una *G *a los gastos. Para responder este ejercicio usted tiene sólo dos minutos. Se les ruega no compartir con sus compañeros durante le tiempo de respuest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EJERCIC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71280" y="1959120"/>
            <a:ext cx="3609720" cy="33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ago de alquile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pra de materia prima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ago de salari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ago de servicios públic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preciación de equip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ago de comisión de vended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ago de publicidad en rad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ago de impuestos municip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ago de intereses de un préstam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788000" y="1820880"/>
            <a:ext cx="41767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ago de mantenimiento de maquinari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ago de mano de obra por dí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ago de Transporte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ago de sueldo base de vendedores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ago del sueldo del empresari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pra de materiales y accesorios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ago de mantenimiento de vehícu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pra de empaques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licidad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ago por correo o correspondenci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s “salidas de fin de semana”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iaje de place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QUE HACER AL RESPEC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547640" y="1600200"/>
            <a:ext cx="676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 buena gestión del negocio debe traducirse en una reducción de los costos y de los gast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isten costos que no es posible evitar, sin embargo a través de innovaciones podemos incurrir en costos que remplazan a los existentes a un menor valor. Por ejemplo la introducción de tecnologí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 idea es dejar de incurrir en gastos innecesarios para nuestro negocio, es decir, no es necesario gastar en cada uno de los elementos planteados anteriorm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PRODUC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enes o servicios que la empresa ofrece para satisfacer las necesidades de los clientes. A aquellos productos tangibles se les conoce como bienes, y son clasificados de la siguiente maner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enes de Consu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enes de Produ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IENES Y SERVIC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EN = PRODUCTO TANG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RVICIO = PRODUCTO INTANG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 principal objetivo de esta distinción radica en reconocer elementos críticos de cada uno y de la existencia de gestiones diferentes en cada ca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IENES V/S SERVIC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31640" y="1197000"/>
            <a:ext cx="824400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RECOMEND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Es necesario considerar una serie de factores que determinan la satisfacción del cliente, que van más allá de la fabricación de un bien o entrega de un servici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Higiene y Present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Buena atención, rápida, responsable y punt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Garantía del producto ofreci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Que sea coherente con los IQP´s de los cli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Recordar el ciclo del trabaj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ÓMO FUNCIONA LA EMPRES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2692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ctividades Funcional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Todas las actividades que involucran el funcionamiento de la empresa en la concepción de bienes o servici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cursos Financiero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Capital monetario (dinero) requerido para iniciar y mantener las actividades funciona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ersonas: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urso humano que efectúa las distintas actividades funcionales además de planear estrategias y dirigir la empres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ACTIVIDADES TÍP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403280" y="1557360"/>
            <a:ext cx="605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omp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roduc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Mark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Vent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lmacenami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istribu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RECURSOS NECESAR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Materias Pri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erso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ecnologí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apit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Inform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30T01:42:41Z</dcterms:created>
  <dc:creator>Marepino Ltda</dc:creator>
  <dc:description/>
  <dc:language>en-US</dc:language>
  <cp:lastModifiedBy>dii</cp:lastModifiedBy>
  <dcterms:modified xsi:type="dcterms:W3CDTF">2005-05-01T22:36:49Z</dcterms:modified>
  <cp:revision>8</cp:revision>
  <dc:subject/>
  <dc:title>ADMINISTRACIÓN BÁSICA DE UN NEGOCIO</dc:title>
</cp:coreProperties>
</file>