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75E7-3DD0-4BCC-8FD4-883437A9F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1936-A20F-4254-A4A9-9816B69B3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A666-F54D-4EB1-B41B-09D160701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D29B-DEBA-493A-992E-94F19CC2B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5B5B-B6A6-42A8-9979-F358649A2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7C43-2F6F-4E7F-BACF-47D5514E7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AF2B-275B-4011-8CA0-2A24B8BA3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2DBA-E75A-4044-997B-89BBB8D6A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D0AF-8EC1-48BA-9725-07287EF59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BFE9-4C48-4CC5-8CC7-E0A9E1406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7E2A-BB45-4BEF-A1C8-B9D8E9192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B7CB-B0A8-4770-BE9F-CA0BBF5E7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ABDFA-881F-4623-9837-2D91782A6A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060280" y="1481040"/>
            <a:ext cx="470232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CURS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ÍDRIC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Departamento de Geolog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Universidad de Ch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26160" y="1221480"/>
            <a:ext cx="8564400" cy="4285080"/>
            <a:chOff x="326160" y="1221480"/>
            <a:chExt cx="8564400" cy="4285080"/>
          </a:xfrm>
        </p:grpSpPr>
        <p:sp>
          <p:nvSpPr>
            <p:cNvPr id="140" name=""/>
            <p:cNvSpPr/>
            <p:nvPr/>
          </p:nvSpPr>
          <p:spPr>
            <a:xfrm>
              <a:off x="326160" y="1221480"/>
              <a:ext cx="8564400" cy="21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METODOLOGÍAS DE EVALUACIÓN HIDROGEOLÓGIC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Caudal entregado por un dre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El caudal que entregará un dren, por metro de longitud y en condiciones de desequi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librio, depende de los siguientes parámetros : la permeabilidad del acuífero, el coe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ficiente de almacenamiento del mismo,  del radio del dren y de la magnitud del descen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so del nivel estático para alcanzar la clave de la tubería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1347840" y="3689280"/>
              <a:ext cx="6324480" cy="1817280"/>
              <a:chOff x="1347840" y="3689280"/>
              <a:chExt cx="6324480" cy="1817280"/>
            </a:xfrm>
          </p:grpSpPr>
          <p:sp>
            <p:nvSpPr>
              <p:cNvPr id="142" name=""/>
              <p:cNvSpPr/>
              <p:nvPr/>
            </p:nvSpPr>
            <p:spPr>
              <a:xfrm>
                <a:off x="1393920" y="3689280"/>
                <a:ext cx="6149880" cy="0"/>
              </a:xfrm>
              <a:prstGeom prst="line">
                <a:avLst/>
              </a:prstGeom>
              <a:ln w="22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347840" y="3870360"/>
                <a:ext cx="6324480" cy="0"/>
              </a:xfrm>
              <a:prstGeom prst="line">
                <a:avLst/>
              </a:prstGeom>
              <a:ln w="22320">
                <a:solidFill>
                  <a:srgbClr val="00ffff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386000" y="3946680"/>
                <a:ext cx="3087720" cy="807840"/>
              </a:xfrm>
              <a:custGeom>
                <a:avLst/>
                <a:gdLst/>
                <a:ahLst/>
                <a:rect l="l" t="t" r="r" b="b"/>
                <a:pathLst>
                  <a:path w="1945" h="509">
                    <a:moveTo>
                      <a:pt x="0" y="0"/>
                    </a:moveTo>
                    <a:cubicBezTo>
                      <a:pt x="59" y="9"/>
                      <a:pt x="246" y="37"/>
                      <a:pt x="354" y="54"/>
                    </a:cubicBezTo>
                    <a:cubicBezTo>
                      <a:pt x="462" y="71"/>
                      <a:pt x="547" y="82"/>
                      <a:pt x="645" y="100"/>
                    </a:cubicBezTo>
                    <a:cubicBezTo>
                      <a:pt x="743" y="118"/>
                      <a:pt x="845" y="139"/>
                      <a:pt x="945" y="163"/>
                    </a:cubicBezTo>
                    <a:cubicBezTo>
                      <a:pt x="1045" y="187"/>
                      <a:pt x="1163" y="220"/>
                      <a:pt x="1248" y="243"/>
                    </a:cubicBezTo>
                    <a:cubicBezTo>
                      <a:pt x="1333" y="266"/>
                      <a:pt x="1386" y="279"/>
                      <a:pt x="1454" y="300"/>
                    </a:cubicBezTo>
                    <a:cubicBezTo>
                      <a:pt x="1522" y="321"/>
                      <a:pt x="1597" y="351"/>
                      <a:pt x="1654" y="372"/>
                    </a:cubicBezTo>
                    <a:cubicBezTo>
                      <a:pt x="1711" y="393"/>
                      <a:pt x="1751" y="404"/>
                      <a:pt x="1799" y="427"/>
                    </a:cubicBezTo>
                    <a:cubicBezTo>
                      <a:pt x="1847" y="450"/>
                      <a:pt x="1915" y="492"/>
                      <a:pt x="1945" y="509"/>
                    </a:cubicBezTo>
                  </a:path>
                </a:pathLst>
              </a:custGeom>
              <a:noFill/>
              <a:ln w="22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>
                <a:off x="4466520" y="3952800"/>
                <a:ext cx="3087720" cy="808200"/>
              </a:xfrm>
              <a:custGeom>
                <a:avLst/>
                <a:gdLst/>
                <a:ahLst/>
                <a:rect l="l" t="t" r="r" b="b"/>
                <a:pathLst>
                  <a:path w="1945" h="509">
                    <a:moveTo>
                      <a:pt x="0" y="0"/>
                    </a:moveTo>
                    <a:cubicBezTo>
                      <a:pt x="59" y="9"/>
                      <a:pt x="246" y="37"/>
                      <a:pt x="354" y="54"/>
                    </a:cubicBezTo>
                    <a:cubicBezTo>
                      <a:pt x="462" y="71"/>
                      <a:pt x="547" y="82"/>
                      <a:pt x="645" y="100"/>
                    </a:cubicBezTo>
                    <a:cubicBezTo>
                      <a:pt x="743" y="118"/>
                      <a:pt x="845" y="139"/>
                      <a:pt x="945" y="163"/>
                    </a:cubicBezTo>
                    <a:cubicBezTo>
                      <a:pt x="1045" y="187"/>
                      <a:pt x="1163" y="220"/>
                      <a:pt x="1248" y="243"/>
                    </a:cubicBezTo>
                    <a:cubicBezTo>
                      <a:pt x="1333" y="266"/>
                      <a:pt x="1386" y="279"/>
                      <a:pt x="1454" y="300"/>
                    </a:cubicBezTo>
                    <a:cubicBezTo>
                      <a:pt x="1522" y="321"/>
                      <a:pt x="1597" y="351"/>
                      <a:pt x="1654" y="372"/>
                    </a:cubicBezTo>
                    <a:cubicBezTo>
                      <a:pt x="1711" y="393"/>
                      <a:pt x="1751" y="404"/>
                      <a:pt x="1799" y="427"/>
                    </a:cubicBezTo>
                    <a:cubicBezTo>
                      <a:pt x="1847" y="450"/>
                      <a:pt x="1915" y="492"/>
                      <a:pt x="1945" y="509"/>
                    </a:cubicBezTo>
                  </a:path>
                </a:pathLst>
              </a:custGeom>
              <a:noFill/>
              <a:ln w="22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232160" y="4775040"/>
                <a:ext cx="482760" cy="482760"/>
              </a:xfrm>
              <a:prstGeom prst="donut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768760" y="4710240"/>
                <a:ext cx="507960" cy="198360"/>
              </a:xfrm>
              <a:prstGeom prst="rightArrow">
                <a:avLst>
                  <a:gd name="adj1" fmla="val 50000"/>
                  <a:gd name="adj2" fmla="val 64020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>
                <a:off x="5714280" y="4714920"/>
                <a:ext cx="507960" cy="198360"/>
              </a:xfrm>
              <a:prstGeom prst="rightArrow">
                <a:avLst>
                  <a:gd name="adj1" fmla="val 50000"/>
                  <a:gd name="adj2" fmla="val 64020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233960" y="5014800"/>
                <a:ext cx="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724280" y="50245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362480" y="5199480"/>
                <a:ext cx="250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V="1">
                <a:off x="4481640" y="3885840"/>
                <a:ext cx="0" cy="33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481640" y="443304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359240" y="41709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2760" y="1009800"/>
            <a:ext cx="8400960" cy="52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Caudal entregado por un dr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expresión que permite determinar el caudal por metro de dren, es la siguiente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                                                      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a * π  * 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990033"/>
                </a:solidFill>
                <a:latin typeface="Arial"/>
              </a:rPr>
              <a:t>Q</a:t>
            </a:r>
            <a:r>
              <a:rPr b="1" lang="es-ES" sz="2000" spc="-1" strike="noStrike" baseline="-25000">
                <a:solidFill>
                  <a:srgbClr val="990033"/>
                </a:solidFill>
                <a:latin typeface="Arial"/>
              </a:rPr>
              <a:t>u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=  ------------------------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                                                  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Ln (0,88 * (K*t/S*r)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on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s-ES" sz="16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(m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/día por metro de dren) es el caudal unitari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 (m) es el descenso del NE hasta la clave del dren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K (m/día) es la permeabilidad del acuífer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 es el almacenamiento del acuífer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 (días) es el tiempo de operación;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 (m) es el radio del dre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determinar el caudal aportado por todo el dren (Q), deberá hacerse el produc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ntre Q</a:t>
            </a:r>
            <a:r>
              <a:rPr b="1" lang="es-ES" sz="16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y el largo de la obra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1680" y="927360"/>
            <a:ext cx="8042760" cy="54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Cálculo de la depresión generada por un dr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expresión que permite determinar el descenso de la superficie freática, en u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unto ubicado a cierta distancia de un dren, es la siguiente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                                       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Q                      0,882 * K * 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Δ =  ---------      Ln ----------------------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         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π * K          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S * 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on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Δ (m) es el descenso generado en el punto problema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Q (m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/día por metro de dren) es el caudal unitari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x (m) es la distancia al dren del punto donde se calcula el descens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K (m/día) es la permeabilidad del acuífer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 es el almacenamiento del acuífero;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 (días) es el tiempo de operación del dren para el cual se calcula 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scens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704520" y="1370520"/>
            <a:ext cx="6972480" cy="3658320"/>
            <a:chOff x="704520" y="1370520"/>
            <a:chExt cx="6972480" cy="3658320"/>
          </a:xfrm>
        </p:grpSpPr>
        <p:sp>
          <p:nvSpPr>
            <p:cNvPr id="161" name=""/>
            <p:cNvSpPr/>
            <p:nvPr/>
          </p:nvSpPr>
          <p:spPr>
            <a:xfrm>
              <a:off x="704520" y="1370520"/>
              <a:ext cx="6898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METODOLOGÍAS DE EVALUACIÓN HIDROGEOLÓGIC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Cálculo de la depresión generada por un dre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1352520" y="2790720"/>
              <a:ext cx="6324480" cy="2238120"/>
              <a:chOff x="1352520" y="2790720"/>
              <a:chExt cx="6324480" cy="2238120"/>
            </a:xfrm>
          </p:grpSpPr>
          <p:sp>
            <p:nvSpPr>
              <p:cNvPr id="163" name=""/>
              <p:cNvSpPr/>
              <p:nvPr/>
            </p:nvSpPr>
            <p:spPr>
              <a:xfrm>
                <a:off x="1428480" y="2790720"/>
                <a:ext cx="6149520" cy="0"/>
              </a:xfrm>
              <a:prstGeom prst="line">
                <a:avLst/>
              </a:prstGeom>
              <a:ln w="22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352520" y="3095280"/>
                <a:ext cx="6324480" cy="0"/>
              </a:xfrm>
              <a:prstGeom prst="line">
                <a:avLst/>
              </a:prstGeom>
              <a:ln w="22320">
                <a:solidFill>
                  <a:srgbClr val="00ffff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460160" y="3547800"/>
                <a:ext cx="3087360" cy="808200"/>
              </a:xfrm>
              <a:custGeom>
                <a:avLst/>
                <a:gdLst/>
                <a:ahLst/>
                <a:rect l="l" t="t" r="r" b="b"/>
                <a:pathLst>
                  <a:path w="1945" h="509">
                    <a:moveTo>
                      <a:pt x="0" y="0"/>
                    </a:moveTo>
                    <a:cubicBezTo>
                      <a:pt x="59" y="9"/>
                      <a:pt x="246" y="37"/>
                      <a:pt x="354" y="54"/>
                    </a:cubicBezTo>
                    <a:cubicBezTo>
                      <a:pt x="462" y="71"/>
                      <a:pt x="547" y="82"/>
                      <a:pt x="645" y="100"/>
                    </a:cubicBezTo>
                    <a:cubicBezTo>
                      <a:pt x="743" y="118"/>
                      <a:pt x="845" y="139"/>
                      <a:pt x="945" y="163"/>
                    </a:cubicBezTo>
                    <a:cubicBezTo>
                      <a:pt x="1045" y="187"/>
                      <a:pt x="1163" y="220"/>
                      <a:pt x="1248" y="243"/>
                    </a:cubicBezTo>
                    <a:cubicBezTo>
                      <a:pt x="1333" y="266"/>
                      <a:pt x="1386" y="279"/>
                      <a:pt x="1454" y="300"/>
                    </a:cubicBezTo>
                    <a:cubicBezTo>
                      <a:pt x="1522" y="321"/>
                      <a:pt x="1597" y="351"/>
                      <a:pt x="1654" y="372"/>
                    </a:cubicBezTo>
                    <a:cubicBezTo>
                      <a:pt x="1711" y="393"/>
                      <a:pt x="1751" y="404"/>
                      <a:pt x="1799" y="427"/>
                    </a:cubicBezTo>
                    <a:cubicBezTo>
                      <a:pt x="1847" y="450"/>
                      <a:pt x="1915" y="492"/>
                      <a:pt x="1945" y="509"/>
                    </a:cubicBezTo>
                  </a:path>
                </a:pathLst>
              </a:custGeom>
              <a:noFill/>
              <a:ln w="22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4541400" y="3554280"/>
                <a:ext cx="3087360" cy="807840"/>
              </a:xfrm>
              <a:custGeom>
                <a:avLst/>
                <a:gdLst/>
                <a:ahLst/>
                <a:rect l="l" t="t" r="r" b="b"/>
                <a:pathLst>
                  <a:path w="1945" h="509">
                    <a:moveTo>
                      <a:pt x="0" y="0"/>
                    </a:moveTo>
                    <a:cubicBezTo>
                      <a:pt x="59" y="9"/>
                      <a:pt x="246" y="37"/>
                      <a:pt x="354" y="54"/>
                    </a:cubicBezTo>
                    <a:cubicBezTo>
                      <a:pt x="462" y="71"/>
                      <a:pt x="547" y="82"/>
                      <a:pt x="645" y="100"/>
                    </a:cubicBezTo>
                    <a:cubicBezTo>
                      <a:pt x="743" y="118"/>
                      <a:pt x="845" y="139"/>
                      <a:pt x="945" y="163"/>
                    </a:cubicBezTo>
                    <a:cubicBezTo>
                      <a:pt x="1045" y="187"/>
                      <a:pt x="1163" y="220"/>
                      <a:pt x="1248" y="243"/>
                    </a:cubicBezTo>
                    <a:cubicBezTo>
                      <a:pt x="1333" y="266"/>
                      <a:pt x="1386" y="279"/>
                      <a:pt x="1454" y="300"/>
                    </a:cubicBezTo>
                    <a:cubicBezTo>
                      <a:pt x="1522" y="321"/>
                      <a:pt x="1597" y="351"/>
                      <a:pt x="1654" y="372"/>
                    </a:cubicBezTo>
                    <a:cubicBezTo>
                      <a:pt x="1711" y="393"/>
                      <a:pt x="1751" y="404"/>
                      <a:pt x="1799" y="427"/>
                    </a:cubicBezTo>
                    <a:cubicBezTo>
                      <a:pt x="1847" y="450"/>
                      <a:pt x="1915" y="492"/>
                      <a:pt x="1945" y="509"/>
                    </a:cubicBezTo>
                  </a:path>
                </a:pathLst>
              </a:custGeom>
              <a:noFill/>
              <a:ln w="22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298760" y="4365360"/>
                <a:ext cx="482040" cy="482760"/>
              </a:xfrm>
              <a:prstGeom prst="donut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001680" y="4344840"/>
                <a:ext cx="507600" cy="198360"/>
              </a:xfrm>
              <a:prstGeom prst="rightArrow">
                <a:avLst>
                  <a:gd name="adj1" fmla="val 50000"/>
                  <a:gd name="adj2" fmla="val 63975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>
                <a:off x="5947200" y="4344840"/>
                <a:ext cx="507960" cy="198360"/>
              </a:xfrm>
              <a:prstGeom prst="rightArrow">
                <a:avLst>
                  <a:gd name="adj1" fmla="val 50000"/>
                  <a:gd name="adj2" fmla="val 64020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V="1">
                <a:off x="3814560" y="3090240"/>
                <a:ext cx="0" cy="33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814560" y="37288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639960" y="339012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990033"/>
                    </a:solidFill>
                    <a:latin typeface="Arial"/>
                  </a:rPr>
                  <a:t>Δ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819240" y="4474800"/>
                <a:ext cx="0" cy="55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538520" y="4619520"/>
                <a:ext cx="0" cy="40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719160" y="4952880"/>
                <a:ext cx="894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004640" y="467532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0080" y="849240"/>
            <a:ext cx="837684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Caudal aportado por un río drenante al bombeo de un pozo aledañ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uando un río cruza un área de recuperación de agua subterránea, su caudal 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limenta de los aportes provenientes del acuífero, de forma que si se proyecta un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xplotación a partir de un pozo cercano, parte importante de los recursos obteni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l pozo pueden estarse consiguiendo a expensas del rí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determinar la magnitud del impacto en el río se utiliza el método de Jenki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(1968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l método tiene los mismos supuestos de los métodos de interpretación de ens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yos de bombeo y en estricto rigor debiera aplicarse a acuíferos confinados, sin em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bargo es una válida aproximación para acuíferos libr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la solución del problema el autor estructuró un ábaco al cual convergen l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iguientes variables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Q (m</a:t>
            </a:r>
            <a:r>
              <a:rPr b="1" lang="es-E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/día) es el caudal constante bombeado por el pozo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s-E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(m</a:t>
            </a:r>
            <a:r>
              <a:rPr b="1" lang="es-E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/día) es el caudal derivado del río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Q*t es el volumen bombeado hasta el tiempo t (días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s-E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(m</a:t>
            </a:r>
            <a:r>
              <a:rPr b="1" lang="es-E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) es el volumen total aportado por el río en el tiempo 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T (m</a:t>
            </a:r>
            <a:r>
              <a:rPr b="1" lang="es-E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/día) es la transmisividad del acuífer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S es el almacenamiento del acuífero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t (días) es el tiempo desde que se inicia el bombeo; 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x (m) es la distancia del pozo al río o borde de recarga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843280" y="26424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1517760" y="1294560"/>
            <a:ext cx="5986440" cy="5105880"/>
            <a:chOff x="1517760" y="1294560"/>
            <a:chExt cx="5986440" cy="5105880"/>
          </a:xfrm>
        </p:grpSpPr>
        <p:sp>
          <p:nvSpPr>
            <p:cNvPr id="181" name=""/>
            <p:cNvSpPr/>
            <p:nvPr/>
          </p:nvSpPr>
          <p:spPr>
            <a:xfrm>
              <a:off x="1593720" y="3672000"/>
              <a:ext cx="147168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989520" y="3672000"/>
              <a:ext cx="337968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041640" y="3672000"/>
              <a:ext cx="228600" cy="66492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3760920" y="3652560"/>
              <a:ext cx="228600" cy="66492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262320" y="4316400"/>
              <a:ext cx="49680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517760" y="4100400"/>
              <a:ext cx="2363760" cy="0"/>
            </a:xfrm>
            <a:prstGeom prst="line">
              <a:avLst/>
            </a:prstGeom>
            <a:ln w="22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4613400" y="3519360"/>
              <a:ext cx="152280" cy="2881080"/>
              <a:chOff x="4613400" y="3519360"/>
              <a:chExt cx="152280" cy="2881080"/>
            </a:xfrm>
          </p:grpSpPr>
          <p:sp>
            <p:nvSpPr>
              <p:cNvPr id="188" name=""/>
              <p:cNvSpPr/>
              <p:nvPr/>
            </p:nvSpPr>
            <p:spPr>
              <a:xfrm>
                <a:off x="4613400" y="3519360"/>
                <a:ext cx="152280" cy="1800000"/>
              </a:xfrm>
              <a:prstGeom prst="rect">
                <a:avLst/>
              </a:prstGeom>
              <a:solidFill>
                <a:srgbClr val="ff9900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89" name=""/>
              <p:cNvGrpSpPr/>
              <p:nvPr/>
            </p:nvGrpSpPr>
            <p:grpSpPr>
              <a:xfrm>
                <a:off x="4613400" y="5321160"/>
                <a:ext cx="152280" cy="1079280"/>
                <a:chOff x="4613400" y="5321160"/>
                <a:chExt cx="152280" cy="107928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4613400" y="5321160"/>
                  <a:ext cx="152280" cy="1079280"/>
                </a:xfrm>
                <a:prstGeom prst="rect">
                  <a:avLst/>
                </a:prstGeom>
                <a:noFill/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613400" y="540972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613400" y="548604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613400" y="556236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613400" y="563832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4613400" y="571464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4613400" y="579096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613400" y="586692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4613400" y="594324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4613400" y="601956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4613400" y="609552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3400" y="617184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613400" y="624816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4613400" y="632412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4" name=""/>
            <p:cNvSpPr/>
            <p:nvPr/>
          </p:nvSpPr>
          <p:spPr>
            <a:xfrm>
              <a:off x="3851280" y="4086360"/>
              <a:ext cx="754200" cy="1054080"/>
            </a:xfrm>
            <a:custGeom>
              <a:avLst/>
              <a:gdLst/>
              <a:ahLst/>
              <a:rect l="l" t="t" r="r" b="b"/>
              <a:pathLst>
                <a:path w="475" h="664">
                  <a:moveTo>
                    <a:pt x="0" y="0"/>
                  </a:moveTo>
                  <a:cubicBezTo>
                    <a:pt x="32" y="12"/>
                    <a:pt x="63" y="22"/>
                    <a:pt x="96" y="48"/>
                  </a:cubicBezTo>
                  <a:cubicBezTo>
                    <a:pt x="129" y="74"/>
                    <a:pt x="168" y="121"/>
                    <a:pt x="199" y="159"/>
                  </a:cubicBezTo>
                  <a:cubicBezTo>
                    <a:pt x="230" y="197"/>
                    <a:pt x="256" y="237"/>
                    <a:pt x="280" y="276"/>
                  </a:cubicBezTo>
                  <a:cubicBezTo>
                    <a:pt x="304" y="315"/>
                    <a:pt x="322" y="352"/>
                    <a:pt x="343" y="393"/>
                  </a:cubicBezTo>
                  <a:cubicBezTo>
                    <a:pt x="364" y="434"/>
                    <a:pt x="387" y="480"/>
                    <a:pt x="409" y="525"/>
                  </a:cubicBezTo>
                  <a:cubicBezTo>
                    <a:pt x="431" y="570"/>
                    <a:pt x="461" y="635"/>
                    <a:pt x="475" y="664"/>
                  </a:cubicBezTo>
                </a:path>
              </a:pathLst>
            </a:custGeom>
            <a:noFill/>
            <a:ln w="2232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599000" y="5143680"/>
              <a:ext cx="179280" cy="0"/>
            </a:xfrm>
            <a:prstGeom prst="line">
              <a:avLst/>
            </a:prstGeom>
            <a:ln w="22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765680" y="4129200"/>
              <a:ext cx="2682720" cy="1009440"/>
            </a:xfrm>
            <a:custGeom>
              <a:avLst/>
              <a:gdLst/>
              <a:ahLst/>
              <a:rect l="l" t="t" r="r" b="b"/>
              <a:pathLst>
                <a:path w="1690" h="636">
                  <a:moveTo>
                    <a:pt x="0" y="636"/>
                  </a:moveTo>
                  <a:cubicBezTo>
                    <a:pt x="22" y="618"/>
                    <a:pt x="84" y="562"/>
                    <a:pt x="135" y="527"/>
                  </a:cubicBezTo>
                  <a:cubicBezTo>
                    <a:pt x="186" y="492"/>
                    <a:pt x="244" y="460"/>
                    <a:pt x="308" y="427"/>
                  </a:cubicBezTo>
                  <a:cubicBezTo>
                    <a:pt x="372" y="394"/>
                    <a:pt x="452" y="356"/>
                    <a:pt x="517" y="327"/>
                  </a:cubicBezTo>
                  <a:cubicBezTo>
                    <a:pt x="582" y="298"/>
                    <a:pt x="634" y="278"/>
                    <a:pt x="699" y="254"/>
                  </a:cubicBezTo>
                  <a:cubicBezTo>
                    <a:pt x="764" y="230"/>
                    <a:pt x="838" y="205"/>
                    <a:pt x="909" y="182"/>
                  </a:cubicBezTo>
                  <a:cubicBezTo>
                    <a:pt x="980" y="159"/>
                    <a:pt x="1046" y="139"/>
                    <a:pt x="1126" y="118"/>
                  </a:cubicBezTo>
                  <a:cubicBezTo>
                    <a:pt x="1206" y="97"/>
                    <a:pt x="1296" y="74"/>
                    <a:pt x="1390" y="54"/>
                  </a:cubicBezTo>
                  <a:cubicBezTo>
                    <a:pt x="1484" y="34"/>
                    <a:pt x="1640" y="9"/>
                    <a:pt x="1690" y="0"/>
                  </a:cubicBezTo>
                </a:path>
              </a:pathLst>
            </a:custGeom>
            <a:noFill/>
            <a:ln w="2232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844800" y="4081320"/>
              <a:ext cx="3552840" cy="0"/>
            </a:xfrm>
            <a:prstGeom prst="line">
              <a:avLst/>
            </a:prstGeom>
            <a:ln w="22320">
              <a:solidFill>
                <a:srgbClr val="00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656160" y="4314960"/>
              <a:ext cx="676080" cy="1174680"/>
            </a:xfrm>
            <a:custGeom>
              <a:avLst/>
              <a:gdLst/>
              <a:ahLst/>
              <a:rect l="l" t="t" r="r" b="b"/>
              <a:pathLst>
                <a:path w="426" h="740">
                  <a:moveTo>
                    <a:pt x="0" y="0"/>
                  </a:moveTo>
                  <a:lnTo>
                    <a:pt x="44" y="176"/>
                  </a:lnTo>
                  <a:lnTo>
                    <a:pt x="135" y="395"/>
                  </a:lnTo>
                  <a:lnTo>
                    <a:pt x="235" y="577"/>
                  </a:lnTo>
                  <a:lnTo>
                    <a:pt x="426" y="740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810600" y="4262400"/>
              <a:ext cx="576720" cy="809640"/>
            </a:xfrm>
            <a:prstGeom prst="line">
              <a:avLst/>
            </a:prstGeom>
            <a:ln w="22320">
              <a:solidFill>
                <a:srgbClr val="ff99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452760" y="4314960"/>
              <a:ext cx="746280" cy="1490400"/>
            </a:xfrm>
            <a:custGeom>
              <a:avLst/>
              <a:gdLst/>
              <a:ahLst/>
              <a:rect l="l" t="t" r="r" b="b"/>
              <a:pathLst>
                <a:path w="470" h="939">
                  <a:moveTo>
                    <a:pt x="0" y="0"/>
                  </a:moveTo>
                  <a:lnTo>
                    <a:pt x="37" y="236"/>
                  </a:lnTo>
                  <a:lnTo>
                    <a:pt x="73" y="436"/>
                  </a:lnTo>
                  <a:lnTo>
                    <a:pt x="155" y="618"/>
                  </a:lnTo>
                  <a:lnTo>
                    <a:pt x="237" y="754"/>
                  </a:lnTo>
                  <a:lnTo>
                    <a:pt x="337" y="854"/>
                  </a:lnTo>
                  <a:lnTo>
                    <a:pt x="470" y="939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176560" y="4314960"/>
              <a:ext cx="1079280" cy="603000"/>
            </a:xfrm>
            <a:custGeom>
              <a:avLst/>
              <a:gdLst/>
              <a:ahLst/>
              <a:rect l="l" t="t" r="r" b="b"/>
              <a:pathLst>
                <a:path w="680" h="380">
                  <a:moveTo>
                    <a:pt x="0" y="380"/>
                  </a:moveTo>
                  <a:lnTo>
                    <a:pt x="170" y="345"/>
                  </a:lnTo>
                  <a:lnTo>
                    <a:pt x="352" y="254"/>
                  </a:lnTo>
                  <a:lnTo>
                    <a:pt x="498" y="154"/>
                  </a:lnTo>
                  <a:lnTo>
                    <a:pt x="680" y="0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352600" y="4230720"/>
              <a:ext cx="750960" cy="158760"/>
            </a:xfrm>
            <a:custGeom>
              <a:avLst/>
              <a:gdLst/>
              <a:ahLst/>
              <a:rect l="l" t="t" r="r" b="b"/>
              <a:pathLst>
                <a:path w="473" h="100">
                  <a:moveTo>
                    <a:pt x="0" y="100"/>
                  </a:moveTo>
                  <a:lnTo>
                    <a:pt x="244" y="64"/>
                  </a:lnTo>
                  <a:lnTo>
                    <a:pt x="473" y="0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89120" y="1314360"/>
              <a:ext cx="147168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084560" y="1314360"/>
              <a:ext cx="338004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37040" y="1314360"/>
              <a:ext cx="228600" cy="66528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3855960" y="1295280"/>
              <a:ext cx="228600" cy="66528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357720" y="1967040"/>
              <a:ext cx="49680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12800" y="1743120"/>
              <a:ext cx="5891400" cy="0"/>
            </a:xfrm>
            <a:prstGeom prst="line">
              <a:avLst/>
            </a:prstGeom>
            <a:ln w="22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505240" y="1871640"/>
              <a:ext cx="750600" cy="158760"/>
            </a:xfrm>
            <a:custGeom>
              <a:avLst/>
              <a:gdLst/>
              <a:ahLst/>
              <a:rect l="l" t="t" r="r" b="b"/>
              <a:pathLst>
                <a:path w="473" h="100">
                  <a:moveTo>
                    <a:pt x="0" y="100"/>
                  </a:moveTo>
                  <a:lnTo>
                    <a:pt x="244" y="64"/>
                  </a:lnTo>
                  <a:lnTo>
                    <a:pt x="473" y="0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179800" y="1990800"/>
              <a:ext cx="1185840" cy="563400"/>
            </a:xfrm>
            <a:custGeom>
              <a:avLst/>
              <a:gdLst/>
              <a:ahLst/>
              <a:rect l="l" t="t" r="r" b="b"/>
              <a:pathLst>
                <a:path w="747" h="355">
                  <a:moveTo>
                    <a:pt x="0" y="355"/>
                  </a:moveTo>
                  <a:lnTo>
                    <a:pt x="227" y="319"/>
                  </a:lnTo>
                  <a:lnTo>
                    <a:pt x="419" y="254"/>
                  </a:lnTo>
                  <a:lnTo>
                    <a:pt x="565" y="154"/>
                  </a:lnTo>
                  <a:lnTo>
                    <a:pt x="747" y="0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057400" y="2117880"/>
              <a:ext cx="1434960" cy="873000"/>
            </a:xfrm>
            <a:custGeom>
              <a:avLst/>
              <a:gdLst/>
              <a:ahLst/>
              <a:rect l="l" t="t" r="r" b="b"/>
              <a:pathLst>
                <a:path w="904" h="550">
                  <a:moveTo>
                    <a:pt x="0" y="550"/>
                  </a:moveTo>
                  <a:lnTo>
                    <a:pt x="245" y="496"/>
                  </a:lnTo>
                  <a:lnTo>
                    <a:pt x="454" y="414"/>
                  </a:lnTo>
                  <a:lnTo>
                    <a:pt x="627" y="286"/>
                  </a:lnTo>
                  <a:lnTo>
                    <a:pt x="763" y="159"/>
                  </a:lnTo>
                  <a:lnTo>
                    <a:pt x="904" y="0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3595680" y="2123640"/>
              <a:ext cx="0" cy="762120"/>
            </a:xfrm>
            <a:prstGeom prst="line">
              <a:avLst/>
            </a:prstGeom>
            <a:ln w="22320">
              <a:solidFill>
                <a:srgbClr val="ff99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3766320" y="2147760"/>
              <a:ext cx="1435320" cy="873360"/>
            </a:xfrm>
            <a:custGeom>
              <a:avLst/>
              <a:gdLst/>
              <a:ahLst/>
              <a:rect l="l" t="t" r="r" b="b"/>
              <a:pathLst>
                <a:path w="904" h="550">
                  <a:moveTo>
                    <a:pt x="0" y="550"/>
                  </a:moveTo>
                  <a:lnTo>
                    <a:pt x="245" y="496"/>
                  </a:lnTo>
                  <a:lnTo>
                    <a:pt x="454" y="414"/>
                  </a:lnTo>
                  <a:lnTo>
                    <a:pt x="627" y="286"/>
                  </a:lnTo>
                  <a:lnTo>
                    <a:pt x="763" y="159"/>
                  </a:lnTo>
                  <a:lnTo>
                    <a:pt x="904" y="0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81600" y="1893960"/>
              <a:ext cx="2438280" cy="706320"/>
            </a:xfrm>
            <a:custGeom>
              <a:avLst/>
              <a:gdLst/>
              <a:ahLst/>
              <a:rect l="l" t="t" r="r" b="b"/>
              <a:pathLst>
                <a:path w="1536" h="445">
                  <a:moveTo>
                    <a:pt x="1536" y="445"/>
                  </a:moveTo>
                  <a:lnTo>
                    <a:pt x="1209" y="445"/>
                  </a:lnTo>
                  <a:lnTo>
                    <a:pt x="927" y="418"/>
                  </a:lnTo>
                  <a:lnTo>
                    <a:pt x="691" y="364"/>
                  </a:lnTo>
                  <a:lnTo>
                    <a:pt x="463" y="291"/>
                  </a:lnTo>
                  <a:lnTo>
                    <a:pt x="227" y="173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427560" y="1294560"/>
              <a:ext cx="37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rí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326040" y="3666240"/>
              <a:ext cx="37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rí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789080" y="3749040"/>
              <a:ext cx="535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oz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952880" y="4503600"/>
              <a:ext cx="2435400" cy="870120"/>
            </a:xfrm>
            <a:custGeom>
              <a:avLst/>
              <a:gdLst/>
              <a:ahLst/>
              <a:rect l="l" t="t" r="r" b="b"/>
              <a:pathLst>
                <a:path w="1534" h="548">
                  <a:moveTo>
                    <a:pt x="1534" y="0"/>
                  </a:moveTo>
                  <a:lnTo>
                    <a:pt x="1180" y="73"/>
                  </a:lnTo>
                  <a:lnTo>
                    <a:pt x="952" y="128"/>
                  </a:lnTo>
                  <a:lnTo>
                    <a:pt x="725" y="191"/>
                  </a:lnTo>
                  <a:lnTo>
                    <a:pt x="489" y="282"/>
                  </a:lnTo>
                  <a:lnTo>
                    <a:pt x="261" y="382"/>
                  </a:lnTo>
                  <a:lnTo>
                    <a:pt x="0" y="548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948200" y="5254560"/>
              <a:ext cx="2425680" cy="441360"/>
            </a:xfrm>
            <a:custGeom>
              <a:avLst/>
              <a:gdLst/>
              <a:ahLst/>
              <a:rect l="l" t="t" r="r" b="b"/>
              <a:pathLst>
                <a:path w="1528" h="278">
                  <a:moveTo>
                    <a:pt x="1528" y="0"/>
                  </a:moveTo>
                  <a:lnTo>
                    <a:pt x="1346" y="18"/>
                  </a:lnTo>
                  <a:lnTo>
                    <a:pt x="1101" y="45"/>
                  </a:lnTo>
                  <a:lnTo>
                    <a:pt x="792" y="91"/>
                  </a:lnTo>
                  <a:lnTo>
                    <a:pt x="510" y="145"/>
                  </a:lnTo>
                  <a:lnTo>
                    <a:pt x="265" y="200"/>
                  </a:lnTo>
                  <a:lnTo>
                    <a:pt x="0" y="278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 rot="16200000">
              <a:off x="4632480" y="3358080"/>
              <a:ext cx="277920" cy="266760"/>
            </a:xfrm>
            <a:custGeom>
              <a:avLst/>
              <a:gdLst>
                <a:gd name="textAreaLeft" fmla="*/ 92520 w 277920"/>
                <a:gd name="textAreaRight" fmla="*/ 238320 w 277920"/>
                <a:gd name="textAreaTop" fmla="*/ 153360 h 266760"/>
                <a:gd name="textAreaBottom" fmla="*/ 228240 h 26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879800" y="3275640"/>
              <a:ext cx="3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370080" y="751320"/>
            <a:ext cx="8376840" cy="5878080"/>
            <a:chOff x="370080" y="751320"/>
            <a:chExt cx="8376840" cy="5878080"/>
          </a:xfrm>
        </p:grpSpPr>
        <p:sp>
          <p:nvSpPr>
            <p:cNvPr id="234" name=""/>
            <p:cNvSpPr/>
            <p:nvPr/>
          </p:nvSpPr>
          <p:spPr>
            <a:xfrm>
              <a:off x="370080" y="751320"/>
              <a:ext cx="8376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METODOLOGÍAS DE EVALUACIÓN HIDROGEOLÓGIC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Caudal aportado por un río drenante al bombeo de un pozo aledañ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35" name=""/>
            <p:cNvGraphicFramePr/>
            <p:nvPr/>
          </p:nvGraphicFramePr>
          <p:xfrm>
            <a:off x="1978200" y="1523880"/>
            <a:ext cx="5062320" cy="51055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3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78200" y="1523880"/>
                      <a:ext cx="5062320" cy="510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70080" y="1407600"/>
            <a:ext cx="8376840" cy="45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Caudal aportado por un río drenante al bombeo de un pozo aledañ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l método consiste en determinar el parámetro auxiliar del ábaco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           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</a:t>
            </a:r>
            <a:r>
              <a:rPr b="1" lang="es-ES" sz="1800" spc="-1" strike="noStrike" u="sng">
                <a:solidFill>
                  <a:srgbClr val="990033"/>
                </a:solidFill>
                <a:uFillTx/>
                <a:latin typeface="Arial"/>
              </a:rPr>
              <a:t>    </a:t>
            </a:r>
            <a:r>
              <a:rPr b="1" lang="es-ES" sz="2000" spc="-1" strike="noStrike" u="sng">
                <a:solidFill>
                  <a:srgbClr val="990033"/>
                </a:solidFill>
                <a:uFillTx/>
                <a:latin typeface="Arial"/>
              </a:rPr>
              <a:t>T * t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0033"/>
                </a:solidFill>
                <a:latin typeface="Arial"/>
              </a:rPr>
              <a:t>                                              </a:t>
            </a:r>
            <a:r>
              <a:rPr b="1" lang="es-ES" sz="2000" spc="-1" strike="noStrike">
                <a:solidFill>
                  <a:srgbClr val="990033"/>
                </a:solidFill>
                <a:latin typeface="Arial"/>
              </a:rPr>
              <a:t>x</a:t>
            </a:r>
            <a:r>
              <a:rPr b="1" lang="es-ES" sz="2000" spc="-1" strike="noStrike" baseline="30000">
                <a:solidFill>
                  <a:srgbClr val="990033"/>
                </a:solidFill>
                <a:latin typeface="Arial"/>
              </a:rPr>
              <a:t>2 </a:t>
            </a:r>
            <a:r>
              <a:rPr b="1" lang="es-ES" sz="2000" spc="-1" strike="noStrike">
                <a:solidFill>
                  <a:srgbClr val="990033"/>
                </a:solidFill>
                <a:latin typeface="Arial"/>
              </a:rPr>
              <a:t>* 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n el valor de dicho parámetro se entra al ábaco para determinar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Q</a:t>
            </a:r>
            <a:r>
              <a:rPr b="1" lang="es-ES" sz="1600" spc="-1" strike="noStrike" baseline="-25000">
                <a:solidFill>
                  <a:srgbClr val="990033"/>
                </a:solidFill>
                <a:latin typeface="Arial"/>
              </a:rPr>
              <a:t>i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/Q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V</a:t>
            </a:r>
            <a:r>
              <a:rPr b="1" lang="es-ES" sz="1600" spc="-1" strike="noStrike" baseline="-25000">
                <a:solidFill>
                  <a:srgbClr val="990033"/>
                </a:solidFill>
                <a:latin typeface="Arial"/>
              </a:rPr>
              <a:t>i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/Q*t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ediante los cuales se pueden determinar las variables de interés (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Q</a:t>
            </a:r>
            <a:r>
              <a:rPr b="1" lang="es-ES" sz="1600" spc="-1" strike="noStrike" baseline="-25000">
                <a:solidFill>
                  <a:srgbClr val="990033"/>
                </a:solidFill>
                <a:latin typeface="Arial"/>
              </a:rPr>
              <a:t>i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V</a:t>
            </a:r>
            <a:r>
              <a:rPr b="1" lang="es-ES" sz="1600" spc="-1" strike="noStrike" baseline="-25000">
                <a:solidFill>
                  <a:srgbClr val="990033"/>
                </a:solidFill>
                <a:latin typeface="Arial"/>
              </a:rPr>
              <a:t>i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 ya q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Q y t son dat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370440" y="863640"/>
            <a:ext cx="8338680" cy="5634360"/>
            <a:chOff x="370440" y="863640"/>
            <a:chExt cx="8338680" cy="5634360"/>
          </a:xfrm>
        </p:grpSpPr>
        <p:sp>
          <p:nvSpPr>
            <p:cNvPr id="241" name=""/>
            <p:cNvSpPr/>
            <p:nvPr/>
          </p:nvSpPr>
          <p:spPr>
            <a:xfrm>
              <a:off x="370440" y="863640"/>
              <a:ext cx="8338680" cy="56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METODOLOGÍAS DE EVALUACIÓN HIDROGEOLÓGIC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Interferencia generada por una serie de drenes paralelo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Cuando se requiere deprimir la superficie freática en un área, con el objeto de utili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zar los terrenos en actividades agrícolas, industriales o urbanas, el método más e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ciente consiste en diseñar sistemas de drenes, que al interferirse, generen la depre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sión necesaria en cada caso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600" spc="-1" strike="noStrike">
                  <a:solidFill>
                    <a:srgbClr val="ffcc00"/>
                  </a:solidFill>
                  <a:latin typeface="Arial"/>
                </a:rPr>
                <a:t>La depresión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que se produce </a:t>
              </a:r>
              <a:r>
                <a:rPr b="1" lang="es-ES" sz="1600" spc="-1" strike="noStrike">
                  <a:solidFill>
                    <a:srgbClr val="ffcc00"/>
                  </a:solidFill>
                  <a:latin typeface="Arial"/>
                </a:rPr>
                <a:t>en el punto medio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entre dos drenes consecutivo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queda definida por la siguiente expresión :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                                 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2 * Q                  1,764 * K * t</a:t>
              </a:r>
              <a:r>
                <a:rPr b="1" lang="es-ES" sz="1600" spc="-1" strike="noStrike">
                  <a:solidFill>
                    <a:srgbClr val="990033"/>
                  </a:solidFill>
                  <a:latin typeface="Arial"/>
                </a:rPr>
                <a:t>      </a:t>
              </a:r>
              <a:r>
                <a:rPr b="1" lang="es-ES" sz="2400" spc="-1" strike="noStrike" baseline="30000">
                  <a:solidFill>
                    <a:srgbClr val="990033"/>
                  </a:solidFill>
                  <a:latin typeface="Arial"/>
                </a:rPr>
                <a:t>n</a:t>
              </a:r>
              <a:r>
                <a:rPr b="1" lang="es-ES" sz="1600" spc="-1" strike="noStrike">
                  <a:solidFill>
                    <a:srgbClr val="990033"/>
                  </a:solidFill>
                  <a:latin typeface="Arial"/>
                </a:rPr>
                <a:t>        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990033"/>
                  </a:solidFill>
                  <a:latin typeface="Arial"/>
                </a:rPr>
                <a:t>                        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Δ</a:t>
              </a:r>
              <a:r>
                <a:rPr b="1" lang="es-ES" sz="1600" spc="-1" strike="noStrike">
                  <a:solidFill>
                    <a:srgbClr val="990033"/>
                  </a:solidFill>
                  <a:latin typeface="Arial"/>
                </a:rPr>
                <a:t>  =   -----------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  Ln        ---------------------    -------------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                                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π * K                       S * D                (2n - 1) !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dond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Q (m</a:t>
              </a:r>
              <a:r>
                <a:rPr b="1" lang="es-ES" sz="14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/día) es el caudal que entrega cada dren por unidad de longitud al tiempo t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K (m/día) es la permeabilidad del acuífero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S es el coeficiente de almacenamiento y D (m) la distancia entre drenes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t (días) es el tiempo de extracción para el cual se desea calcular la depresión Δ (m); 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n es el número de drenes existentes hacia cada costado del punto problema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657600" y="3962520"/>
              <a:ext cx="152280" cy="9144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2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172280" y="3962520"/>
              <a:ext cx="152280" cy="9144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2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962520" y="3962520"/>
              <a:ext cx="75960" cy="914400"/>
            </a:xfrm>
            <a:custGeom>
              <a:avLst/>
              <a:gdLst>
                <a:gd name="textAreaLeft" fmla="*/ 22320 w 75960"/>
                <a:gd name="textAreaRight" fmla="*/ 76320 w 75960"/>
                <a:gd name="textAreaTop" fmla="*/ 37800 h 914400"/>
                <a:gd name="textAreaBottom" fmla="*/ 8766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2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638680" y="3962520"/>
              <a:ext cx="76320" cy="914400"/>
            </a:xfrm>
            <a:custGeom>
              <a:avLst/>
              <a:gdLst>
                <a:gd name="textAreaLeft" fmla="*/ 0 w 76320"/>
                <a:gd name="textAreaRight" fmla="*/ 53640 w 76320"/>
                <a:gd name="textAreaTop" fmla="*/ 37800 h 914400"/>
                <a:gd name="textAreaBottom" fmla="*/ 8766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22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2843280" y="26424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1004760" y="1407600"/>
            <a:ext cx="6858000" cy="2580120"/>
            <a:chOff x="1004760" y="1407600"/>
            <a:chExt cx="6858000" cy="2580120"/>
          </a:xfrm>
        </p:grpSpPr>
        <p:sp>
          <p:nvSpPr>
            <p:cNvPr id="248" name=""/>
            <p:cNvSpPr/>
            <p:nvPr/>
          </p:nvSpPr>
          <p:spPr>
            <a:xfrm>
              <a:off x="1393920" y="2338200"/>
              <a:ext cx="614988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347840" y="2643120"/>
              <a:ext cx="6324480" cy="0"/>
            </a:xfrm>
            <a:prstGeom prst="line">
              <a:avLst/>
            </a:prstGeom>
            <a:ln w="22320">
              <a:solidFill>
                <a:srgbClr val="00ffff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1004760" y="3024000"/>
              <a:ext cx="6858000" cy="963720"/>
              <a:chOff x="1004760" y="3024000"/>
              <a:chExt cx="6858000" cy="963720"/>
            </a:xfrm>
          </p:grpSpPr>
          <p:grpSp>
            <p:nvGrpSpPr>
              <p:cNvPr id="251" name=""/>
              <p:cNvGrpSpPr/>
              <p:nvPr/>
            </p:nvGrpSpPr>
            <p:grpSpPr>
              <a:xfrm>
                <a:off x="1004760" y="3024000"/>
                <a:ext cx="6858000" cy="638280"/>
                <a:chOff x="1004760" y="3024000"/>
                <a:chExt cx="6858000" cy="63828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2057400" y="3385800"/>
                  <a:ext cx="266760" cy="266760"/>
                </a:xfrm>
                <a:prstGeom prst="donut">
                  <a:avLst>
                    <a:gd name="adj" fmla="val 25000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3543480" y="3385800"/>
                  <a:ext cx="266400" cy="266760"/>
                </a:xfrm>
                <a:prstGeom prst="donut">
                  <a:avLst>
                    <a:gd name="adj" fmla="val 25000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043600" y="3385800"/>
                  <a:ext cx="266760" cy="266760"/>
                </a:xfrm>
                <a:prstGeom prst="donut">
                  <a:avLst>
                    <a:gd name="adj" fmla="val 25000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6548400" y="3395520"/>
                  <a:ext cx="266760" cy="266760"/>
                </a:xfrm>
                <a:prstGeom prst="donut">
                  <a:avLst>
                    <a:gd name="adj" fmla="val 25000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1004760" y="3024000"/>
                  <a:ext cx="1185840" cy="357120"/>
                </a:xfrm>
                <a:custGeom>
                  <a:avLst/>
                  <a:gdLst/>
                  <a:ahLst/>
                  <a:rect l="l" t="t" r="r" b="b"/>
                  <a:pathLst>
                    <a:path w="747" h="225">
                      <a:moveTo>
                        <a:pt x="0" y="0"/>
                      </a:moveTo>
                      <a:cubicBezTo>
                        <a:pt x="23" y="1"/>
                        <a:pt x="92" y="7"/>
                        <a:pt x="141" y="12"/>
                      </a:cubicBezTo>
                      <a:cubicBezTo>
                        <a:pt x="190" y="17"/>
                        <a:pt x="244" y="21"/>
                        <a:pt x="294" y="30"/>
                      </a:cubicBezTo>
                      <a:cubicBezTo>
                        <a:pt x="344" y="39"/>
                        <a:pt x="395" y="55"/>
                        <a:pt x="441" y="69"/>
                      </a:cubicBezTo>
                      <a:cubicBezTo>
                        <a:pt x="487" y="83"/>
                        <a:pt x="535" y="101"/>
                        <a:pt x="573" y="117"/>
                      </a:cubicBezTo>
                      <a:cubicBezTo>
                        <a:pt x="611" y="133"/>
                        <a:pt x="643" y="150"/>
                        <a:pt x="672" y="168"/>
                      </a:cubicBezTo>
                      <a:cubicBezTo>
                        <a:pt x="701" y="186"/>
                        <a:pt x="732" y="213"/>
                        <a:pt x="747" y="225"/>
                      </a:cubicBezTo>
                    </a:path>
                  </a:pathLst>
                </a:custGeom>
                <a:noFill/>
                <a:ln w="22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2187720" y="3133440"/>
                  <a:ext cx="731520" cy="243000"/>
                </a:xfrm>
                <a:custGeom>
                  <a:avLst/>
                  <a:gdLst/>
                  <a:ahLst/>
                  <a:rect l="l" t="t" r="r" b="b"/>
                  <a:pathLst>
                    <a:path w="461" h="153">
                      <a:moveTo>
                        <a:pt x="461" y="0"/>
                      </a:moveTo>
                      <a:cubicBezTo>
                        <a:pt x="448" y="1"/>
                        <a:pt x="405" y="3"/>
                        <a:pt x="383" y="6"/>
                      </a:cubicBezTo>
                      <a:cubicBezTo>
                        <a:pt x="361" y="9"/>
                        <a:pt x="359" y="7"/>
                        <a:pt x="329" y="15"/>
                      </a:cubicBezTo>
                      <a:cubicBezTo>
                        <a:pt x="299" y="23"/>
                        <a:pt x="239" y="40"/>
                        <a:pt x="200" y="54"/>
                      </a:cubicBezTo>
                      <a:cubicBezTo>
                        <a:pt x="161" y="68"/>
                        <a:pt x="125" y="85"/>
                        <a:pt x="92" y="102"/>
                      </a:cubicBezTo>
                      <a:cubicBezTo>
                        <a:pt x="59" y="119"/>
                        <a:pt x="19" y="143"/>
                        <a:pt x="0" y="153"/>
                      </a:cubicBezTo>
                    </a:path>
                  </a:pathLst>
                </a:custGeom>
                <a:noFill/>
                <a:ln w="22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2895480" y="3133440"/>
                  <a:ext cx="787680" cy="247680"/>
                </a:xfrm>
                <a:custGeom>
                  <a:avLst/>
                  <a:gdLst/>
                  <a:ahLst/>
                  <a:rect l="l" t="t" r="r" b="b"/>
                  <a:pathLst>
                    <a:path w="496" h="156">
                      <a:moveTo>
                        <a:pt x="0" y="0"/>
                      </a:moveTo>
                      <a:cubicBezTo>
                        <a:pt x="15" y="1"/>
                        <a:pt x="63" y="2"/>
                        <a:pt x="93" y="6"/>
                      </a:cubicBezTo>
                      <a:cubicBezTo>
                        <a:pt x="123" y="10"/>
                        <a:pt x="149" y="16"/>
                        <a:pt x="183" y="24"/>
                      </a:cubicBezTo>
                      <a:cubicBezTo>
                        <a:pt x="217" y="32"/>
                        <a:pt x="259" y="43"/>
                        <a:pt x="296" y="57"/>
                      </a:cubicBezTo>
                      <a:cubicBezTo>
                        <a:pt x="333" y="71"/>
                        <a:pt x="371" y="88"/>
                        <a:pt x="404" y="105"/>
                      </a:cubicBezTo>
                      <a:cubicBezTo>
                        <a:pt x="437" y="122"/>
                        <a:pt x="477" y="146"/>
                        <a:pt x="496" y="156"/>
                      </a:cubicBezTo>
                    </a:path>
                  </a:pathLst>
                </a:custGeom>
                <a:noFill/>
                <a:ln w="22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3672000" y="3133440"/>
                  <a:ext cx="731880" cy="243000"/>
                </a:xfrm>
                <a:custGeom>
                  <a:avLst/>
                  <a:gdLst/>
                  <a:ahLst/>
                  <a:rect l="l" t="t" r="r" b="b"/>
                  <a:pathLst>
                    <a:path w="461" h="153">
                      <a:moveTo>
                        <a:pt x="461" y="0"/>
                      </a:moveTo>
                      <a:cubicBezTo>
                        <a:pt x="448" y="1"/>
                        <a:pt x="405" y="3"/>
                        <a:pt x="383" y="6"/>
                      </a:cubicBezTo>
                      <a:cubicBezTo>
                        <a:pt x="361" y="9"/>
                        <a:pt x="359" y="7"/>
                        <a:pt x="329" y="15"/>
                      </a:cubicBezTo>
                      <a:cubicBezTo>
                        <a:pt x="299" y="23"/>
                        <a:pt x="239" y="40"/>
                        <a:pt x="200" y="54"/>
                      </a:cubicBezTo>
                      <a:cubicBezTo>
                        <a:pt x="161" y="68"/>
                        <a:pt x="125" y="85"/>
                        <a:pt x="92" y="102"/>
                      </a:cubicBezTo>
                      <a:cubicBezTo>
                        <a:pt x="59" y="119"/>
                        <a:pt x="19" y="143"/>
                        <a:pt x="0" y="153"/>
                      </a:cubicBezTo>
                    </a:path>
                  </a:pathLst>
                </a:custGeom>
                <a:noFill/>
                <a:ln w="22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4395960" y="3133440"/>
                  <a:ext cx="771480" cy="247680"/>
                </a:xfrm>
                <a:custGeom>
                  <a:avLst/>
                  <a:gdLst/>
                  <a:ahLst/>
                  <a:rect l="l" t="t" r="r" b="b"/>
                  <a:pathLst>
                    <a:path w="486" h="156">
                      <a:moveTo>
                        <a:pt x="0" y="0"/>
                      </a:moveTo>
                      <a:cubicBezTo>
                        <a:pt x="14" y="0"/>
                        <a:pt x="54" y="2"/>
                        <a:pt x="83" y="6"/>
                      </a:cubicBezTo>
                      <a:cubicBezTo>
                        <a:pt x="112" y="10"/>
                        <a:pt x="139" y="16"/>
                        <a:pt x="173" y="24"/>
                      </a:cubicBezTo>
                      <a:cubicBezTo>
                        <a:pt x="207" y="32"/>
                        <a:pt x="249" y="43"/>
                        <a:pt x="286" y="57"/>
                      </a:cubicBezTo>
                      <a:cubicBezTo>
                        <a:pt x="323" y="71"/>
                        <a:pt x="361" y="88"/>
                        <a:pt x="394" y="105"/>
                      </a:cubicBezTo>
                      <a:cubicBezTo>
                        <a:pt x="427" y="122"/>
                        <a:pt x="467" y="146"/>
                        <a:pt x="486" y="156"/>
                      </a:cubicBezTo>
                    </a:path>
                  </a:pathLst>
                </a:custGeom>
                <a:noFill/>
                <a:ln w="22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5181480" y="3143160"/>
                  <a:ext cx="731880" cy="242640"/>
                </a:xfrm>
                <a:custGeom>
                  <a:avLst/>
                  <a:gdLst/>
                  <a:ahLst/>
                  <a:rect l="l" t="t" r="r" b="b"/>
                  <a:pathLst>
                    <a:path w="461" h="153">
                      <a:moveTo>
                        <a:pt x="461" y="0"/>
                      </a:moveTo>
                      <a:cubicBezTo>
                        <a:pt x="448" y="1"/>
                        <a:pt x="405" y="3"/>
                        <a:pt x="383" y="6"/>
                      </a:cubicBezTo>
                      <a:cubicBezTo>
                        <a:pt x="361" y="9"/>
                        <a:pt x="359" y="7"/>
                        <a:pt x="329" y="15"/>
                      </a:cubicBezTo>
                      <a:cubicBezTo>
                        <a:pt x="299" y="23"/>
                        <a:pt x="239" y="40"/>
                        <a:pt x="200" y="54"/>
                      </a:cubicBezTo>
                      <a:cubicBezTo>
                        <a:pt x="161" y="68"/>
                        <a:pt x="125" y="85"/>
                        <a:pt x="92" y="102"/>
                      </a:cubicBezTo>
                      <a:cubicBezTo>
                        <a:pt x="59" y="119"/>
                        <a:pt x="19" y="143"/>
                        <a:pt x="0" y="153"/>
                      </a:cubicBezTo>
                    </a:path>
                  </a:pathLst>
                </a:custGeom>
                <a:noFill/>
                <a:ln w="22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5915160" y="3143160"/>
                  <a:ext cx="761760" cy="247680"/>
                </a:xfrm>
                <a:custGeom>
                  <a:avLst/>
                  <a:gdLst/>
                  <a:ahLst/>
                  <a:rect l="l" t="t" r="r" b="b"/>
                  <a:pathLst>
                    <a:path w="480" h="156">
                      <a:moveTo>
                        <a:pt x="0" y="0"/>
                      </a:moveTo>
                      <a:cubicBezTo>
                        <a:pt x="12" y="1"/>
                        <a:pt x="49" y="2"/>
                        <a:pt x="77" y="6"/>
                      </a:cubicBezTo>
                      <a:cubicBezTo>
                        <a:pt x="105" y="10"/>
                        <a:pt x="133" y="16"/>
                        <a:pt x="167" y="24"/>
                      </a:cubicBezTo>
                      <a:cubicBezTo>
                        <a:pt x="201" y="32"/>
                        <a:pt x="243" y="43"/>
                        <a:pt x="280" y="57"/>
                      </a:cubicBezTo>
                      <a:cubicBezTo>
                        <a:pt x="317" y="71"/>
                        <a:pt x="355" y="88"/>
                        <a:pt x="388" y="105"/>
                      </a:cubicBezTo>
                      <a:cubicBezTo>
                        <a:pt x="421" y="122"/>
                        <a:pt x="461" y="146"/>
                        <a:pt x="480" y="156"/>
                      </a:cubicBezTo>
                    </a:path>
                  </a:pathLst>
                </a:custGeom>
                <a:noFill/>
                <a:ln w="22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flipH="1">
                  <a:off x="6676920" y="3038400"/>
                  <a:ext cx="1185840" cy="357120"/>
                </a:xfrm>
                <a:custGeom>
                  <a:avLst/>
                  <a:gdLst/>
                  <a:ahLst/>
                  <a:rect l="l" t="t" r="r" b="b"/>
                  <a:pathLst>
                    <a:path w="747" h="225">
                      <a:moveTo>
                        <a:pt x="0" y="0"/>
                      </a:moveTo>
                      <a:cubicBezTo>
                        <a:pt x="23" y="1"/>
                        <a:pt x="92" y="7"/>
                        <a:pt x="141" y="12"/>
                      </a:cubicBezTo>
                      <a:cubicBezTo>
                        <a:pt x="190" y="17"/>
                        <a:pt x="244" y="21"/>
                        <a:pt x="294" y="30"/>
                      </a:cubicBezTo>
                      <a:cubicBezTo>
                        <a:pt x="344" y="39"/>
                        <a:pt x="395" y="55"/>
                        <a:pt x="441" y="69"/>
                      </a:cubicBezTo>
                      <a:cubicBezTo>
                        <a:pt x="487" y="83"/>
                        <a:pt x="535" y="101"/>
                        <a:pt x="573" y="117"/>
                      </a:cubicBezTo>
                      <a:cubicBezTo>
                        <a:pt x="611" y="133"/>
                        <a:pt x="643" y="150"/>
                        <a:pt x="672" y="168"/>
                      </a:cubicBezTo>
                      <a:cubicBezTo>
                        <a:pt x="701" y="186"/>
                        <a:pt x="732" y="213"/>
                        <a:pt x="747" y="225"/>
                      </a:cubicBezTo>
                    </a:path>
                  </a:pathLst>
                </a:custGeom>
                <a:noFill/>
                <a:ln w="22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4" name=""/>
              <p:cNvSpPr/>
              <p:nvPr/>
            </p:nvSpPr>
            <p:spPr>
              <a:xfrm>
                <a:off x="2185920" y="3728880"/>
                <a:ext cx="0" cy="258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676680" y="3728880"/>
                <a:ext cx="0" cy="258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119320" y="3862440"/>
                <a:ext cx="1636560" cy="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794320" y="34992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8" name=""/>
            <p:cNvSpPr/>
            <p:nvPr/>
          </p:nvSpPr>
          <p:spPr>
            <a:xfrm>
              <a:off x="4381920" y="26805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Δ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419720" y="2519280"/>
              <a:ext cx="0" cy="72396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4363200" y="3079440"/>
              <a:ext cx="113040" cy="12744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4363200" y="2579400"/>
              <a:ext cx="113040" cy="12744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353040" y="1407600"/>
              <a:ext cx="243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Interferencia de Dren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93120" y="956880"/>
            <a:ext cx="8338680" cy="53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Cálculo del Radio de Influencia del Bombe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Un requerimiento usual en hidrogeología es la determinación del Radio de Influ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que el bombeo de un pozo determinado genera en el tiemp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n régimen de desequilibrio la expresión es la siguiente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R = 1,5 * (T * t / S)</a:t>
            </a:r>
            <a:r>
              <a:rPr b="1" lang="es-ES" sz="1800" spc="-1" strike="noStrike" baseline="30000">
                <a:solidFill>
                  <a:srgbClr val="990033"/>
                </a:solidFill>
                <a:latin typeface="Arial"/>
              </a:rPr>
              <a:t>1/2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on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 (m) es el Radio de Influencia (RI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 (m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/día) es la transmisividad del acuífer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 (días) es el tiempo de bombeo para el que se calcula el RI;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 es el almacenamiento del acuífer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definir el radio de protección de un sondaje, la DGA exige la determinación 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I, el cual suele determinarse para el tiempo que fue requerido para que el ND 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ozo evidenciara tendencia a estabilizarse. Este antecedente se obtiene del regis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ro de la prueba de bombeo de caudal constante practicada en el poz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2541600" y="942840"/>
            <a:ext cx="4064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Infiltración desde la base de un embal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a través de un estrato perme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843280" y="26424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087640" y="2619360"/>
            <a:ext cx="5790960" cy="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041560" y="1886040"/>
            <a:ext cx="6324480" cy="0"/>
          </a:xfrm>
          <a:prstGeom prst="line">
            <a:avLst/>
          </a:prstGeom>
          <a:ln w="22320">
            <a:solidFill>
              <a:srgbClr val="00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082960" y="3143160"/>
            <a:ext cx="5790960" cy="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65320" y="4100400"/>
            <a:ext cx="6294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32800" y="164160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ffff"/>
                </a:solidFill>
                <a:latin typeface="Arial"/>
              </a:rPr>
              <a:t>Nivel de Agu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ffff"/>
                </a:solidFill>
                <a:latin typeface="Arial"/>
              </a:rPr>
              <a:t>en el Embal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81400" y="2352600"/>
            <a:ext cx="1181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Arial"/>
              </a:rPr>
              <a:t>Techo estra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Arial"/>
              </a:rPr>
              <a:t>perme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9680" y="2919240"/>
            <a:ext cx="109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Arial"/>
              </a:rPr>
              <a:t>Base estra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Arial"/>
              </a:rPr>
              <a:t>perme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84720" y="3843360"/>
            <a:ext cx="962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Nivel 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Referenc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2419920" y="2500200"/>
            <a:ext cx="113040" cy="723960"/>
            <a:chOff x="2419920" y="2500200"/>
            <a:chExt cx="113040" cy="723960"/>
          </a:xfrm>
        </p:grpSpPr>
        <p:sp>
          <p:nvSpPr>
            <p:cNvPr id="284" name=""/>
            <p:cNvSpPr/>
            <p:nvPr/>
          </p:nvSpPr>
          <p:spPr>
            <a:xfrm>
              <a:off x="2476440" y="2500200"/>
              <a:ext cx="0" cy="72396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2419920" y="3060720"/>
              <a:ext cx="113040" cy="12708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2419920" y="2560680"/>
              <a:ext cx="113040" cy="12708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2497680" y="2724120"/>
            <a:ext cx="171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990000"/>
                </a:solidFill>
                <a:latin typeface="Arial"/>
              </a:rPr>
              <a:t>e = espesor saturad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2183040" y="1700280"/>
            <a:ext cx="164160" cy="1047240"/>
            <a:chOff x="2183040" y="1700280"/>
            <a:chExt cx="164160" cy="1047240"/>
          </a:xfrm>
        </p:grpSpPr>
        <p:sp>
          <p:nvSpPr>
            <p:cNvPr id="289" name=""/>
            <p:cNvSpPr/>
            <p:nvPr/>
          </p:nvSpPr>
          <p:spPr>
            <a:xfrm>
              <a:off x="2265120" y="1700280"/>
              <a:ext cx="0" cy="104724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2183040" y="2511000"/>
              <a:ext cx="164160" cy="18432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2183040" y="1787400"/>
              <a:ext cx="164160" cy="18432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2308680" y="2076480"/>
            <a:ext cx="150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990000"/>
                </a:solidFill>
                <a:latin typeface="Arial"/>
              </a:rPr>
              <a:t>H = altura de agu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081280" y="272880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990000"/>
                </a:solidFill>
                <a:latin typeface="Arial"/>
              </a:rPr>
              <a:t>H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786000" y="349092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990000"/>
                </a:solidFill>
                <a:latin typeface="Arial"/>
              </a:rPr>
              <a:t>H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7055640" y="3030480"/>
            <a:ext cx="133200" cy="1190520"/>
            <a:chOff x="7055640" y="3030480"/>
            <a:chExt cx="133200" cy="1190520"/>
          </a:xfrm>
        </p:grpSpPr>
        <p:sp>
          <p:nvSpPr>
            <p:cNvPr id="296" name=""/>
            <p:cNvSpPr/>
            <p:nvPr/>
          </p:nvSpPr>
          <p:spPr>
            <a:xfrm>
              <a:off x="7122960" y="3030480"/>
              <a:ext cx="0" cy="119052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7060680" y="4021200"/>
              <a:ext cx="128160" cy="14724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7055640" y="3063960"/>
              <a:ext cx="127800" cy="14724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8003520" y="1762200"/>
            <a:ext cx="137520" cy="2450880"/>
            <a:chOff x="8003520" y="1762200"/>
            <a:chExt cx="137520" cy="2450880"/>
          </a:xfrm>
        </p:grpSpPr>
        <p:sp>
          <p:nvSpPr>
            <p:cNvPr id="300" name=""/>
            <p:cNvSpPr/>
            <p:nvPr/>
          </p:nvSpPr>
          <p:spPr>
            <a:xfrm>
              <a:off x="8077320" y="1762200"/>
              <a:ext cx="0" cy="245088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8013240" y="1802160"/>
              <a:ext cx="127800" cy="14652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8003520" y="4026240"/>
              <a:ext cx="127800" cy="14652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783000" y="4516560"/>
            <a:ext cx="168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Gradiente Hidráulic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163520" y="4906800"/>
            <a:ext cx="1201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H1 – H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i = ----------------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789280" y="5062680"/>
            <a:ext cx="128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H1 – H2 = H + 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41000" y="4888080"/>
            <a:ext cx="1086120" cy="6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i =   ------  +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40240" y="5726160"/>
            <a:ext cx="138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Caudal Infiltrad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15800" y="5719680"/>
            <a:ext cx="10008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Q = k * A * 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271320" y="5724360"/>
            <a:ext cx="4982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donde K es la permeabilidad vertical y A es la superficie inundad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con altura H (K vertical = 0,1 * K horizontal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4305960" y="2737440"/>
            <a:ext cx="564840" cy="115920"/>
          </a:xfrm>
          <a:custGeom>
            <a:avLst/>
            <a:gdLst>
              <a:gd name="textAreaLeft" fmla="*/ 70560 w 564840"/>
              <a:gd name="textAreaRight" fmla="*/ 494280 w 564840"/>
              <a:gd name="textAreaTop" fmla="*/ 28800 h 115920"/>
              <a:gd name="textAreaBottom" fmla="*/ 87120 h 115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631400" y="2685960"/>
            <a:ext cx="96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Infiltració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93840" y="1015920"/>
            <a:ext cx="852156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determinar el potencial hidrogeológico de una cuenca es necesario establec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l balance respectiv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e concepto involucra un análisis comparativo de los ingresos y egresos de agu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l sistema subterráneo, estableciendo la variación del volumen almacenado, todo es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o enmarcado en un período de tiempo determinad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la estructuración de un balance es imperioso definir el sistema físico sobre 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ual se ejecutará éste. Deben determinarse con claridad los límites de dicho sistema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n el objeto de acotarlo y definir para éste, las recargas y descargas correspondie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expresión general del balance hidrogeológico es la siguiente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Entradas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(Recargas)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= Salidas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(Descargas)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± Δ V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(Variación del volumen almacenad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un intervalo de tiempo determinado, deberán evaluarse todas las entradas y s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as de agua al sistema definido, lo que deberá resultar compatible con la variación 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volumen de agua subterránea embalsada en el mism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69360" y="958320"/>
            <a:ext cx="68986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                                      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Mecanismos de Re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43600" y="2634120"/>
            <a:ext cx="71863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nfiltración de un porcentaje de las precipitaciones (Recarga por Pp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nfiltración desde los cursos de escurrimiento superficial (Recarga río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nfiltración a partir de los derrames de riego (Recarga por riego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ngreso al sistema de un caudal subterráneo (Caudal Subt Entrante); 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ngreso de agua artificialmente incorporada (Recarga antrópica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69360" y="958320"/>
            <a:ext cx="68986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                                      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Mecanismos de Des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40720" y="2755800"/>
            <a:ext cx="730836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ecuperaciones en el lecho de los cursos de escurrimiento superficial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vaporación desde superficies de agua libre o con el NE poco profund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vapotranspiración a través de la actividad vegetal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audal subterráneo saliente del sistema;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xplotación artificial de los recurs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60280" y="1185840"/>
            <a:ext cx="8626680" cy="45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mo se indicara anteriormente, para estructurar un balance hidrogeológico, es nec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ario definir el sistema hidrogeológico correspondiente. Esto implica lo siguiente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determinar la geometría de los acuíferos y de las unidades impermeables exis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entes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definir las relaciones que pudiesen existir entre las distintas unidades perme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bles e impermeables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determinar las características hidráulicas de los acuíferos, vale decir el grado 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nfinamiento y las constantes elásticas respectivas;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definir la disposición, en profundidad, de la superficie equipotencial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Una vez ejecutadas las tareas precedentes, se deberán evaluar las recargas y descar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as, para el período de tiempo durante el cual se ejecutará el balance, y en función 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esultado se podrá determinar si para dicho período hubo aumento o disminución 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volumen embalsad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59200" y="827640"/>
            <a:ext cx="8433360" cy="55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Definición del Modelo Hidrogeológico Fís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primera tarea que se ejecuta, si no existen antecedentes confiables a escala ad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uada, es un levantamiento fotogeológico del área de interés. Los objetivos primor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iales de éste son los siguientes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terminar la extensión y características (sedimentológicas y geomorfo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ógicas) de los depósitos detríticos susceptibles de constituir acuíferos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o implica trazar el contacto entre las unidades líticas y los depósi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edimentarios permeables (contacto roca-relleno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finir los tipos litológicos relevantes y las estructuras existentes, de pr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ferencia aquellas que puedan controlar la geometría de los acuífer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terminar la red hidrográfica y la divisoria de aguas de la cuenca que 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udia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Ubicar en el mapa las captaciones existentes y definir áreas homogéne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sde una perspectiva hidrogeológica (zonas de recarga, de recuperacio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es, vertientes, espejos de agua, etc.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nálisis de toda la información de sondajes que exista en el área. Estructuración 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s columnas estratigráficas respectivas y definición de las unidades permeables q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os datos permitan identifica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62800" y="1071000"/>
            <a:ext cx="8488080" cy="50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Definición del Modelo Hidrogeológico Fís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i la cobertura y densidad de los datos de sondajes es escasa, suele ser convenie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e complementar estos antecedentes con información proveniente de levantamien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eofísicos tales como gravimetría y transiente electromagnética (TEM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l respecto es importante advertir que siempre es necesario calibrar los datos geo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físicos con los antecedentes estratigráficos aportados por los sondajes. Una inter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retación geofísica sin apoyo geológico real es, generalmente, poco confiabl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n el caso de la gravimetría, técnica consistente en medir con gran precisión la gr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vedad en un punto, con el objeto de determinar el espesor sedimentario y consecue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emente la profundidad de la roca basal, es siempre importante y necesario consid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ar lo siguiente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os perfiles gravimétricos deben anclarse en sus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extremos en afloramie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tos de roca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, de forma que se asegure que en esos puntos el espesor sedi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entario es nulo. Esto facilita la adecuada interpretación de los puntos in-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ermedi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57760" y="949320"/>
            <a:ext cx="873972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Definición del Modelo Hidrogeológico Fís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n estos puntos extremos deben colectarse muestras de roca con el obje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 practicar en ellas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análisis de densidad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. Este parámetro es altamente se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ible en el cálculo del espesor sedimentario, de forma que su adecuada d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erminación es importante en la obtención de resultados confiabl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os fuertes desniveles topográficos que suelen existir en los puntos ubic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os en los extremos de los perfiles, hacen siempre recomendable determi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ar dichos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desniveles utilizando la plantilla de Hammer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(en círculos A y B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a consideración ayuda luego a la determinación de la corrección de t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reno, cálculo siempre importante de ejecutar en áreas donde los altos topo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ráficos afectan las mediciones de gravedad, y consecuentemente, la bo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ad de los resultados final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Finalmente, siempre es imprescindible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calibrar los resultados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obtenidos m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iante los cálculos gravimétricos, con valores reales entregados por sond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jes que hayan alcanzado la roca que hace de zócalo a los depósitos sedime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arios, cuyo espesor se requiere conoce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61000" y="1353600"/>
            <a:ext cx="8547120" cy="31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Definición del Modelo Hidrogeológico Fís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sondeos geoeléctricos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del tipo transiente electromagnética son muy útiles pa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determinación de la geología de subsuperficie, ya que entregan información de bu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a calidad respecto a la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posición del nivel estátic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, a la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estratigrafía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de los sedimen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y a la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profundidad de la roca basal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n toda la información aportada por las labores indicadas, deberán levantarse perfi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es geológicos, que permitan definir unidades de carácter hidrogeológico, las relacio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es y características de permeabilidad de cada una y la geometría de las mismas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37600" y="761760"/>
            <a:ext cx="689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Definición del Modelo Hidrogeológico Fís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2" name="PerfilGeológico%20L1-L1'_01" descr=""/>
          <p:cNvPicPr/>
          <p:nvPr/>
        </p:nvPicPr>
        <p:blipFill>
          <a:blip r:embed="rId1"/>
          <a:stretch/>
        </p:blipFill>
        <p:spPr>
          <a:xfrm>
            <a:off x="276120" y="1757520"/>
            <a:ext cx="8682120" cy="498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541080" y="913320"/>
            <a:ext cx="7402680" cy="5061960"/>
            <a:chOff x="541080" y="913320"/>
            <a:chExt cx="7402680" cy="5061960"/>
          </a:xfrm>
        </p:grpSpPr>
        <p:sp>
          <p:nvSpPr>
            <p:cNvPr id="48" name=""/>
            <p:cNvSpPr/>
            <p:nvPr/>
          </p:nvSpPr>
          <p:spPr>
            <a:xfrm>
              <a:off x="541080" y="913320"/>
              <a:ext cx="6898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METODOLOGÍAS DE EVALUACIÓN HIDROGEOLÓGIC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Cálculo del Radio de Influencia del Bombe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1127160" y="2004840"/>
              <a:ext cx="6816600" cy="3970440"/>
              <a:chOff x="1127160" y="2004840"/>
              <a:chExt cx="6816600" cy="3970440"/>
            </a:xfrm>
          </p:grpSpPr>
          <p:sp>
            <p:nvSpPr>
              <p:cNvPr id="50" name=""/>
              <p:cNvSpPr/>
              <p:nvPr/>
            </p:nvSpPr>
            <p:spPr>
              <a:xfrm>
                <a:off x="1127160" y="2209680"/>
                <a:ext cx="6816600" cy="0"/>
              </a:xfrm>
              <a:prstGeom prst="line">
                <a:avLst/>
              </a:prstGeom>
              <a:ln w="22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1" name=""/>
              <p:cNvGrpSpPr/>
              <p:nvPr/>
            </p:nvGrpSpPr>
            <p:grpSpPr>
              <a:xfrm>
                <a:off x="4286160" y="2004840"/>
                <a:ext cx="228600" cy="3562560"/>
                <a:chOff x="4286160" y="2004840"/>
                <a:chExt cx="228600" cy="356256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4286160" y="2004840"/>
                  <a:ext cx="228600" cy="132408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4286160" y="3328920"/>
                  <a:ext cx="228600" cy="749160"/>
                </a:xfrm>
                <a:prstGeom prst="rect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4286160" y="4057560"/>
                  <a:ext cx="228600" cy="38880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4286160" y="4441680"/>
                  <a:ext cx="228600" cy="74952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4286160" y="5178240"/>
                  <a:ext cx="228600" cy="38916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1238400" y="2362320"/>
                <a:ext cx="6646680" cy="0"/>
              </a:xfrm>
              <a:prstGeom prst="line">
                <a:avLst/>
              </a:prstGeom>
              <a:ln w="22320">
                <a:solidFill>
                  <a:srgbClr val="00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>
                <a:off x="4507920" y="2376360"/>
                <a:ext cx="3087720" cy="808200"/>
              </a:xfrm>
              <a:custGeom>
                <a:avLst/>
                <a:gdLst/>
                <a:ahLst/>
                <a:rect l="l" t="t" r="r" b="b"/>
                <a:pathLst>
                  <a:path w="1945" h="509">
                    <a:moveTo>
                      <a:pt x="0" y="0"/>
                    </a:moveTo>
                    <a:cubicBezTo>
                      <a:pt x="59" y="9"/>
                      <a:pt x="246" y="37"/>
                      <a:pt x="354" y="54"/>
                    </a:cubicBezTo>
                    <a:cubicBezTo>
                      <a:pt x="462" y="71"/>
                      <a:pt x="547" y="82"/>
                      <a:pt x="645" y="100"/>
                    </a:cubicBezTo>
                    <a:cubicBezTo>
                      <a:pt x="743" y="118"/>
                      <a:pt x="845" y="139"/>
                      <a:pt x="945" y="163"/>
                    </a:cubicBezTo>
                    <a:cubicBezTo>
                      <a:pt x="1045" y="187"/>
                      <a:pt x="1163" y="220"/>
                      <a:pt x="1248" y="243"/>
                    </a:cubicBezTo>
                    <a:cubicBezTo>
                      <a:pt x="1333" y="266"/>
                      <a:pt x="1386" y="279"/>
                      <a:pt x="1454" y="300"/>
                    </a:cubicBezTo>
                    <a:cubicBezTo>
                      <a:pt x="1522" y="321"/>
                      <a:pt x="1597" y="351"/>
                      <a:pt x="1654" y="372"/>
                    </a:cubicBezTo>
                    <a:cubicBezTo>
                      <a:pt x="1711" y="393"/>
                      <a:pt x="1751" y="404"/>
                      <a:pt x="1799" y="427"/>
                    </a:cubicBezTo>
                    <a:cubicBezTo>
                      <a:pt x="1847" y="450"/>
                      <a:pt x="1915" y="492"/>
                      <a:pt x="1945" y="509"/>
                    </a:cubicBezTo>
                  </a:path>
                </a:pathLst>
              </a:custGeom>
              <a:noFill/>
              <a:ln w="22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95560" y="2376360"/>
                <a:ext cx="3087360" cy="808200"/>
              </a:xfrm>
              <a:custGeom>
                <a:avLst/>
                <a:gdLst/>
                <a:ahLst/>
                <a:rect l="l" t="t" r="r" b="b"/>
                <a:pathLst>
                  <a:path w="1945" h="509">
                    <a:moveTo>
                      <a:pt x="0" y="0"/>
                    </a:moveTo>
                    <a:cubicBezTo>
                      <a:pt x="59" y="9"/>
                      <a:pt x="246" y="37"/>
                      <a:pt x="354" y="54"/>
                    </a:cubicBezTo>
                    <a:cubicBezTo>
                      <a:pt x="462" y="71"/>
                      <a:pt x="547" y="82"/>
                      <a:pt x="645" y="100"/>
                    </a:cubicBezTo>
                    <a:cubicBezTo>
                      <a:pt x="743" y="118"/>
                      <a:pt x="845" y="139"/>
                      <a:pt x="945" y="163"/>
                    </a:cubicBezTo>
                    <a:cubicBezTo>
                      <a:pt x="1045" y="187"/>
                      <a:pt x="1163" y="220"/>
                      <a:pt x="1248" y="243"/>
                    </a:cubicBezTo>
                    <a:cubicBezTo>
                      <a:pt x="1333" y="266"/>
                      <a:pt x="1386" y="279"/>
                      <a:pt x="1454" y="300"/>
                    </a:cubicBezTo>
                    <a:cubicBezTo>
                      <a:pt x="1522" y="321"/>
                      <a:pt x="1597" y="351"/>
                      <a:pt x="1654" y="372"/>
                    </a:cubicBezTo>
                    <a:cubicBezTo>
                      <a:pt x="1711" y="393"/>
                      <a:pt x="1751" y="404"/>
                      <a:pt x="1799" y="427"/>
                    </a:cubicBezTo>
                    <a:cubicBezTo>
                      <a:pt x="1847" y="450"/>
                      <a:pt x="1915" y="492"/>
                      <a:pt x="1945" y="509"/>
                    </a:cubicBezTo>
                  </a:path>
                </a:pathLst>
              </a:custGeom>
              <a:noFill/>
              <a:ln w="22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4390920" y="5562720"/>
                <a:ext cx="0" cy="380880"/>
              </a:xfrm>
              <a:prstGeom prst="line">
                <a:avLst/>
              </a:prstGeom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4162320" y="5791320"/>
                <a:ext cx="3670560" cy="0"/>
              </a:xfrm>
              <a:prstGeom prst="line">
                <a:avLst/>
              </a:prstGeom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2376360"/>
                <a:ext cx="0" cy="3598920"/>
              </a:xfrm>
              <a:prstGeom prst="line">
                <a:avLst/>
              </a:prstGeom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940280" y="5513760"/>
                <a:ext cx="2111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990033"/>
                    </a:solidFill>
                    <a:latin typeface="Arial"/>
                  </a:rPr>
                  <a:t>Radio de Influencia (R)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293760" y="882360"/>
            <a:ext cx="3032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48760" y="2467080"/>
            <a:ext cx="236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Definición del Model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Hidrogeológico Fís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5" name="Hidrogeologia_MM2" descr=""/>
          <p:cNvPicPr/>
          <p:nvPr/>
        </p:nvPicPr>
        <p:blipFill>
          <a:blip r:embed="rId1"/>
          <a:srcRect l="0" t="0" r="5332" b="5557"/>
          <a:stretch/>
        </p:blipFill>
        <p:spPr>
          <a:xfrm>
            <a:off x="3560760" y="190440"/>
            <a:ext cx="5411880" cy="647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2600280" y="10728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4600" y="756720"/>
            <a:ext cx="8722800" cy="58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Evaluación de la Re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n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el proces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de determinación de la recarga de los acuíferos de una cuenca, el proc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imiento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más confiable se basa en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los datos aportados por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el control sistemático de l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niveles estáticos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del área. Debido a ésto es que dicha maniobra siempre es aconsej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mplementarla, ya que los datos que aporta en el largo y mediano plazo, tienen gran v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hidrogeológic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i a lo largo del tiempo los niveles presentan fluctuaciones (ascensos y descensos)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a dinámica sólo puede explicarse por la existencia de procesos de recarga y descar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a de los sistemas subterráne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os datos de niveles estáticos permiten determinar el gradiente de la superficie equi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otencial en distintos sectores del acuífero. Este parámetro es indispensable a la ho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 definir la magnitud del flujo subterráneo y permite evidenciar la dinámica hídrica sub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erránea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mportante es indicar que la existencia de gradientes hidráulicos en un acuífero, impli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a que existió recarga en épocas pretéritas, pero que no necesariamente ésta se verif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n forma sistemática y periódica. Existen cuencas en el sector norte del país donde l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rocesos de recarga datan de mucho tiempo y que actualmente se encuentran en proc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o de drenado natural.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63520" y="866160"/>
            <a:ext cx="8736120" cy="58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Evaluación de la Re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8000"/>
                </a:solidFill>
                <a:latin typeface="Arial"/>
              </a:rPr>
              <a:t>Recarga por Precipitac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determinar la magnitud de la recarga que se produce por infiltración profunda, d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una fracción de las precipitaciones, se suelen emplear dos metodología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primera consiste en la implementación de un modelo de simulación hidrológica, q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jecuta un balance a nivel de suelo generando infiltración y escorrentía. Estos modelos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pendiendo del tipo (pluvial o nivopluvial), manejan varios parámetros entre los cu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stacan los siguientes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recipitación, obtenida de las estadísticas disponibles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vaporación, obtenida de las estadísticas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eficiente de transposición de las precipitaciones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vapotranspiración potenc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apacidad de camp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unto de marchitez permanente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eficiente de cultivo; etc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segunda metodología consiste en estudiar un período determinado de precipitacio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es, analizando paralelamente las fluctuaciones del nivel estático durante el mism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60640" y="688680"/>
            <a:ext cx="8690760" cy="24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Evaluación de la Re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8000"/>
                </a:solidFill>
                <a:latin typeface="Arial"/>
              </a:rPr>
              <a:t>Recarga por Precipitac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i el análisis de los niveles permite determinar el ascenso generado por la infiltración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 una fracción de las precipitaciones y se conoce el coeficiente de almacenamiento 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cuífero, se podrá determinar la cantidad de agua incorporada al sistema subterráneo,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or consiguiente la tasa de recarga por este concept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914400" y="3256920"/>
            <a:ext cx="7242840" cy="2935440"/>
            <a:chOff x="914400" y="3256920"/>
            <a:chExt cx="7242840" cy="2935440"/>
          </a:xfrm>
        </p:grpSpPr>
        <p:sp>
          <p:nvSpPr>
            <p:cNvPr id="343" name=""/>
            <p:cNvSpPr/>
            <p:nvPr/>
          </p:nvSpPr>
          <p:spPr>
            <a:xfrm>
              <a:off x="914400" y="3952800"/>
              <a:ext cx="6149880" cy="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914400" y="4495680"/>
              <a:ext cx="6149880" cy="0"/>
            </a:xfrm>
            <a:prstGeom prst="line">
              <a:avLst/>
            </a:prstGeom>
            <a:ln w="2232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914400" y="4672080"/>
              <a:ext cx="6149880" cy="0"/>
            </a:xfrm>
            <a:prstGeom prst="line">
              <a:avLst/>
            </a:prstGeom>
            <a:ln w="22320">
              <a:solidFill>
                <a:srgbClr val="8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914400" y="5815080"/>
              <a:ext cx="61498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217680" y="5885280"/>
              <a:ext cx="175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Base Imperme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8" name=""/>
            <p:cNvGrpSpPr/>
            <p:nvPr/>
          </p:nvGrpSpPr>
          <p:grpSpPr>
            <a:xfrm>
              <a:off x="1143000" y="3529080"/>
              <a:ext cx="2684520" cy="357120"/>
              <a:chOff x="1143000" y="3529080"/>
              <a:chExt cx="2684520" cy="357120"/>
            </a:xfrm>
          </p:grpSpPr>
          <p:sp>
            <p:nvSpPr>
              <p:cNvPr id="349" name=""/>
              <p:cNvSpPr/>
              <p:nvPr/>
            </p:nvSpPr>
            <p:spPr>
              <a:xfrm rot="5400000">
                <a:off x="3604320" y="3658320"/>
                <a:ext cx="352440" cy="93600"/>
              </a:xfrm>
              <a:custGeom>
                <a:avLst/>
                <a:gdLst>
                  <a:gd name="textAreaLeft" fmla="*/ 43920 w 352440"/>
                  <a:gd name="textAreaRight" fmla="*/ 308520 w 352440"/>
                  <a:gd name="textAreaTop" fmla="*/ 23400 h 93600"/>
                  <a:gd name="textAreaBottom" fmla="*/ 70200 h 93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rot="5400000">
                <a:off x="2308680" y="3663000"/>
                <a:ext cx="352440" cy="93960"/>
              </a:xfrm>
              <a:custGeom>
                <a:avLst/>
                <a:gdLst>
                  <a:gd name="textAreaLeft" fmla="*/ 43920 w 352440"/>
                  <a:gd name="textAreaRight" fmla="*/ 308520 w 352440"/>
                  <a:gd name="textAreaTop" fmla="*/ 23400 h 93960"/>
                  <a:gd name="textAreaBottom" fmla="*/ 70560 h 93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rot="5400000">
                <a:off x="1013400" y="3663000"/>
                <a:ext cx="352440" cy="93600"/>
              </a:xfrm>
              <a:custGeom>
                <a:avLst/>
                <a:gdLst>
                  <a:gd name="textAreaLeft" fmla="*/ 43920 w 352440"/>
                  <a:gd name="textAreaRight" fmla="*/ 308520 w 352440"/>
                  <a:gd name="textAreaTop" fmla="*/ 23400 h 93600"/>
                  <a:gd name="textAreaBottom" fmla="*/ 70200 h 93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295640" y="3547080"/>
                <a:ext cx="1140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Arial"/>
                  </a:rPr>
                  <a:t>Precipitación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590920" y="3547080"/>
                <a:ext cx="1140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Arial"/>
                  </a:rPr>
                  <a:t>Precipitación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4" name=""/>
            <p:cNvSpPr/>
            <p:nvPr/>
          </p:nvSpPr>
          <p:spPr>
            <a:xfrm rot="5400000">
              <a:off x="1394280" y="4143960"/>
              <a:ext cx="352440" cy="93960"/>
            </a:xfrm>
            <a:custGeom>
              <a:avLst/>
              <a:gdLst>
                <a:gd name="textAreaLeft" fmla="*/ 43920 w 352440"/>
                <a:gd name="textAreaRight" fmla="*/ 308520 w 352440"/>
                <a:gd name="textAreaTop" fmla="*/ 23400 h 93960"/>
                <a:gd name="textAreaBottom" fmla="*/ 70560 h 9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5400000">
              <a:off x="3223080" y="4143960"/>
              <a:ext cx="352440" cy="93960"/>
            </a:xfrm>
            <a:custGeom>
              <a:avLst/>
              <a:gdLst>
                <a:gd name="textAreaLeft" fmla="*/ 43920 w 352440"/>
                <a:gd name="textAreaRight" fmla="*/ 308520 w 352440"/>
                <a:gd name="textAreaTop" fmla="*/ 23400 h 93960"/>
                <a:gd name="textAreaBottom" fmla="*/ 70560 h 9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644480" y="4087080"/>
              <a:ext cx="1707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Infiltración (Recarga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267080" y="5128200"/>
              <a:ext cx="90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6600"/>
                  </a:solidFill>
                  <a:latin typeface="Arial"/>
                </a:rPr>
                <a:t>Acuífer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752480" y="5128200"/>
              <a:ext cx="90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6600"/>
                  </a:solidFill>
                  <a:latin typeface="Arial"/>
                </a:rPr>
                <a:t>Acuífer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00080" y="3786840"/>
              <a:ext cx="749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990033"/>
                  </a:solidFill>
                  <a:latin typeface="Arial"/>
                </a:rPr>
                <a:t>Terren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337520" y="4330080"/>
              <a:ext cx="749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Arial"/>
                </a:rPr>
                <a:t>NE fina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287840" y="4537800"/>
              <a:ext cx="869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990099"/>
                  </a:solidFill>
                  <a:latin typeface="Arial"/>
                </a:rPr>
                <a:t>NE inicia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505560" y="3776760"/>
              <a:ext cx="352440" cy="93600"/>
            </a:xfrm>
            <a:custGeom>
              <a:avLst/>
              <a:gdLst>
                <a:gd name="textAreaLeft" fmla="*/ 43920 w 352440"/>
                <a:gd name="textAreaRight" fmla="*/ 308520 w 352440"/>
                <a:gd name="textAreaTop" fmla="*/ 23400 h 93600"/>
                <a:gd name="textAreaBottom" fmla="*/ 70200 h 9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455800" y="3668040"/>
              <a:ext cx="1022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Escorrentí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rot="16200000">
              <a:off x="4538160" y="3672720"/>
              <a:ext cx="352080" cy="93600"/>
            </a:xfrm>
            <a:custGeom>
              <a:avLst/>
              <a:gdLst>
                <a:gd name="textAreaLeft" fmla="*/ 43920 w 352080"/>
                <a:gd name="textAreaRight" fmla="*/ 308160 w 352080"/>
                <a:gd name="textAreaTop" fmla="*/ 23400 h 93600"/>
                <a:gd name="textAreaBottom" fmla="*/ 70200 h 9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91120" y="325692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Evaporació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58480" y="946080"/>
            <a:ext cx="857304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Evaluación de la Re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8000"/>
                </a:solidFill>
                <a:latin typeface="Arial"/>
              </a:rPr>
              <a:t>Recarga por Infiltración desde la Escorrentía Superficial (rí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mejor opción para determinar la recarga por este mecanismo ocurre cuando s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uenta con antecedentes fluviométricos, confiables y completos, tanto aguas arrib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mo aguas abajo del sistema hidrogeológico estudiad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i la estación de aforo de aguas arriba presenta siempre caudales mayores que aqu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la ubicada hacia aguas abajo, y no existen canales u otras captaciones que extraiga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gua en el tramo que media entre las estaciones, la zona corresponderá a un área d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ecarga; en caso contrario será una zona de recuperació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e mecanismo de recarga suele ser muy importante en gran número de cuenc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 la zona central (Aconcagua, Cachapoal, Mataquito, Maule, etc.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Otra forma de aproximación para cuantificar este proceso, es el análisis de las fluc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uaciones de niveles asociadas a variaciones fluviométricas detectadas en la estacio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es de control. Conociendo la variación del volumen de acuífero saturado y el coefi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iente de almacenamiento, se determina el volumen de recarga en el períod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5600" y="762120"/>
            <a:ext cx="68986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Evaluación de la Re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8000"/>
                </a:solidFill>
                <a:latin typeface="Arial"/>
              </a:rPr>
              <a:t>Recarga por Infiltración desde la Escorrentía Superficial (rí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1112760" y="2601720"/>
            <a:ext cx="6683400" cy="2406240"/>
            <a:chOff x="1112760" y="2601720"/>
            <a:chExt cx="6683400" cy="2406240"/>
          </a:xfrm>
        </p:grpSpPr>
        <p:sp>
          <p:nvSpPr>
            <p:cNvPr id="371" name=""/>
            <p:cNvSpPr/>
            <p:nvPr/>
          </p:nvSpPr>
          <p:spPr>
            <a:xfrm>
              <a:off x="1112760" y="2601720"/>
              <a:ext cx="6683400" cy="1017360"/>
            </a:xfrm>
            <a:custGeom>
              <a:avLst/>
              <a:gdLst/>
              <a:ahLst/>
              <a:rect l="l" t="t" r="r" b="b"/>
              <a:pathLst>
                <a:path w="4210" h="641">
                  <a:moveTo>
                    <a:pt x="0" y="641"/>
                  </a:moveTo>
                  <a:cubicBezTo>
                    <a:pt x="36" y="622"/>
                    <a:pt x="132" y="555"/>
                    <a:pt x="226" y="528"/>
                  </a:cubicBezTo>
                  <a:cubicBezTo>
                    <a:pt x="320" y="501"/>
                    <a:pt x="458" y="488"/>
                    <a:pt x="562" y="480"/>
                  </a:cubicBezTo>
                  <a:cubicBezTo>
                    <a:pt x="666" y="472"/>
                    <a:pt x="760" y="476"/>
                    <a:pt x="850" y="480"/>
                  </a:cubicBezTo>
                  <a:cubicBezTo>
                    <a:pt x="940" y="484"/>
                    <a:pt x="1017" y="496"/>
                    <a:pt x="1105" y="504"/>
                  </a:cubicBezTo>
                  <a:cubicBezTo>
                    <a:pt x="1193" y="512"/>
                    <a:pt x="1288" y="518"/>
                    <a:pt x="1378" y="528"/>
                  </a:cubicBezTo>
                  <a:cubicBezTo>
                    <a:pt x="1468" y="538"/>
                    <a:pt x="1557" y="556"/>
                    <a:pt x="1645" y="564"/>
                  </a:cubicBezTo>
                  <a:cubicBezTo>
                    <a:pt x="1733" y="572"/>
                    <a:pt x="1813" y="580"/>
                    <a:pt x="1906" y="576"/>
                  </a:cubicBezTo>
                  <a:cubicBezTo>
                    <a:pt x="1999" y="572"/>
                    <a:pt x="2092" y="556"/>
                    <a:pt x="2203" y="538"/>
                  </a:cubicBezTo>
                  <a:cubicBezTo>
                    <a:pt x="2314" y="520"/>
                    <a:pt x="2456" y="509"/>
                    <a:pt x="2571" y="470"/>
                  </a:cubicBezTo>
                  <a:cubicBezTo>
                    <a:pt x="2686" y="431"/>
                    <a:pt x="2798" y="354"/>
                    <a:pt x="2895" y="305"/>
                  </a:cubicBezTo>
                  <a:cubicBezTo>
                    <a:pt x="2992" y="256"/>
                    <a:pt x="3068" y="210"/>
                    <a:pt x="3152" y="176"/>
                  </a:cubicBezTo>
                  <a:cubicBezTo>
                    <a:pt x="3236" y="142"/>
                    <a:pt x="3312" y="117"/>
                    <a:pt x="3401" y="99"/>
                  </a:cubicBezTo>
                  <a:cubicBezTo>
                    <a:pt x="3490" y="81"/>
                    <a:pt x="3589" y="79"/>
                    <a:pt x="3685" y="67"/>
                  </a:cubicBezTo>
                  <a:cubicBezTo>
                    <a:pt x="3781" y="55"/>
                    <a:pt x="3890" y="35"/>
                    <a:pt x="3977" y="24"/>
                  </a:cubicBezTo>
                  <a:cubicBezTo>
                    <a:pt x="4064" y="13"/>
                    <a:pt x="4162" y="5"/>
                    <a:pt x="4210" y="0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151600" y="3357360"/>
              <a:ext cx="2139840" cy="1368000"/>
            </a:xfrm>
            <a:custGeom>
              <a:avLst/>
              <a:gdLst/>
              <a:ahLst/>
              <a:rect l="l" t="t" r="r" b="b"/>
              <a:pathLst>
                <a:path w="1348" h="862">
                  <a:moveTo>
                    <a:pt x="0" y="0"/>
                  </a:moveTo>
                  <a:cubicBezTo>
                    <a:pt x="38" y="13"/>
                    <a:pt x="174" y="55"/>
                    <a:pt x="248" y="86"/>
                  </a:cubicBezTo>
                  <a:cubicBezTo>
                    <a:pt x="322" y="117"/>
                    <a:pt x="369" y="159"/>
                    <a:pt x="445" y="189"/>
                  </a:cubicBezTo>
                  <a:cubicBezTo>
                    <a:pt x="521" y="219"/>
                    <a:pt x="613" y="236"/>
                    <a:pt x="703" y="266"/>
                  </a:cubicBezTo>
                  <a:cubicBezTo>
                    <a:pt x="793" y="296"/>
                    <a:pt x="898" y="333"/>
                    <a:pt x="985" y="369"/>
                  </a:cubicBezTo>
                  <a:cubicBezTo>
                    <a:pt x="1072" y="405"/>
                    <a:pt x="1168" y="403"/>
                    <a:pt x="1228" y="485"/>
                  </a:cubicBezTo>
                  <a:cubicBezTo>
                    <a:pt x="1288" y="567"/>
                    <a:pt x="1323" y="784"/>
                    <a:pt x="1348" y="862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388120" y="3392280"/>
              <a:ext cx="122040" cy="122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430960" y="3135240"/>
              <a:ext cx="122040" cy="121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548000" y="3344760"/>
              <a:ext cx="122040" cy="121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314320" y="2757600"/>
              <a:ext cx="381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1" lang="es-ES_tradnl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271480" y="3524400"/>
              <a:ext cx="381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1" lang="es-ES_tradnl" sz="16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449000" y="2884320"/>
              <a:ext cx="381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1" lang="es-ES_tradnl" sz="16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 flipV="1">
              <a:off x="7054200" y="4309200"/>
              <a:ext cx="102960" cy="32472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 flipV="1">
              <a:off x="2832120" y="3246840"/>
              <a:ext cx="435960" cy="680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6304680" y="2627280"/>
              <a:ext cx="434520" cy="7812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514520" y="4255920"/>
              <a:ext cx="3522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Si   E</a:t>
              </a:r>
              <a:r>
                <a:rPr b="1" lang="es-ES_tradnl" sz="1600" spc="-1" strike="noStrike" baseline="-25000">
                  <a:solidFill>
                    <a:srgbClr val="990033"/>
                  </a:solidFill>
                  <a:latin typeface="Arial"/>
                </a:rPr>
                <a:t>3 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&lt; E</a:t>
              </a:r>
              <a:r>
                <a:rPr b="1" lang="es-ES_tradnl" sz="1600" spc="-1" strike="noStrike" baseline="-25000">
                  <a:solidFill>
                    <a:srgbClr val="990033"/>
                  </a:solidFill>
                  <a:latin typeface="Arial"/>
                </a:rPr>
                <a:t>1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 + E</a:t>
              </a:r>
              <a:r>
                <a:rPr b="1" lang="es-ES_tradnl" sz="1600" spc="-1" strike="noStrike" baseline="-25000">
                  <a:solidFill>
                    <a:srgbClr val="990033"/>
                  </a:solidFill>
                  <a:latin typeface="Arial"/>
                </a:rPr>
                <a:t>2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  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rows2"/>
                  <a:ea typeface="Arrows2"/>
                </a:rPr>
                <a:t>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 tramo de recarga</a:t>
              </a:r>
              <a:r>
                <a:rPr b="1" lang="es-ES_tradnl" sz="1400" spc="-1" strike="noStrike">
                  <a:solidFill>
                    <a:srgbClr val="990033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521720" y="4637160"/>
              <a:ext cx="40622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Si   E</a:t>
              </a:r>
              <a:r>
                <a:rPr b="1" lang="es-ES_tradnl" sz="1600" spc="-1" strike="noStrike" baseline="-25000">
                  <a:solidFill>
                    <a:srgbClr val="990033"/>
                  </a:solidFill>
                  <a:latin typeface="Arial"/>
                </a:rPr>
                <a:t>3 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&gt; E</a:t>
              </a:r>
              <a:r>
                <a:rPr b="1" lang="es-ES_tradnl" sz="1600" spc="-1" strike="noStrike" baseline="-25000">
                  <a:solidFill>
                    <a:srgbClr val="990033"/>
                  </a:solidFill>
                  <a:latin typeface="Arial"/>
                </a:rPr>
                <a:t>1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 + E</a:t>
              </a:r>
              <a:r>
                <a:rPr b="1" lang="es-ES_tradnl" sz="1600" spc="-1" strike="noStrike" baseline="-25000">
                  <a:solidFill>
                    <a:srgbClr val="990033"/>
                  </a:solidFill>
                  <a:latin typeface="Arial"/>
                </a:rPr>
                <a:t>2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  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rows2"/>
                  <a:ea typeface="Arrows2"/>
                </a:rPr>
                <a:t>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 tramo de recuperación</a:t>
              </a:r>
              <a:r>
                <a:rPr b="1" lang="es-ES_tradnl" sz="1400" spc="-1" strike="noStrike">
                  <a:solidFill>
                    <a:srgbClr val="990033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595520" y="3562200"/>
              <a:ext cx="0" cy="34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157720" y="3371760"/>
              <a:ext cx="0" cy="52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533600" y="3809880"/>
              <a:ext cx="369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513880" y="3772080"/>
              <a:ext cx="1473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Tramo de análisi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62800" y="1432800"/>
            <a:ext cx="8610120" cy="43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Evaluación de la Re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8000"/>
                </a:solidFill>
                <a:latin typeface="Arial"/>
              </a:rPr>
              <a:t>Recarga por Infiltración de Derrames de Rieg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la evaluación de la recarga por este mecanismo, al igual que en los otros casos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 necesario asociar las variaciones del nivel estático durante el período, a las labor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 rieg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tasa promedio de riego por tendido en la zona central es de aproximadamente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10.000 m</a:t>
            </a:r>
            <a:r>
              <a:rPr b="1" lang="es-ES" sz="1600" spc="-1" strike="noStrike" baseline="30000">
                <a:solidFill>
                  <a:srgbClr val="990033"/>
                </a:solidFill>
                <a:latin typeface="Arial"/>
              </a:rPr>
              <a:t>3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/Ha al añ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. Esto equivale a 1.000 mm de precipitación anual, aporte que 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roduce durante 6 o 7 mes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e mecanismo es aplicable a las áreas donde el riego se materializa por tendido, v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e decir, en las zonas con riego tecnificado (goteo o microaspersión) el efecto no se g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era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57760" y="687600"/>
            <a:ext cx="850608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Evaluación de la Re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8000"/>
                </a:solidFill>
                <a:latin typeface="Arial"/>
              </a:rPr>
              <a:t>Recarga por Ingreso de un Caudal Subterráneo al Sistem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l caudal subterráneo entrante desde aguas arriba, a través de una sección transver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al, se determina mediante Darcy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2057040" y="2895120"/>
            <a:ext cx="5944320" cy="3657600"/>
            <a:chOff x="2057040" y="2895120"/>
            <a:chExt cx="5944320" cy="3657600"/>
          </a:xfrm>
        </p:grpSpPr>
        <p:grpSp>
          <p:nvGrpSpPr>
            <p:cNvPr id="393" name=""/>
            <p:cNvGrpSpPr/>
            <p:nvPr/>
          </p:nvGrpSpPr>
          <p:grpSpPr>
            <a:xfrm>
              <a:off x="2057040" y="2895120"/>
              <a:ext cx="4419720" cy="3657600"/>
              <a:chOff x="2057040" y="2895120"/>
              <a:chExt cx="4419720" cy="3657600"/>
            </a:xfrm>
          </p:grpSpPr>
          <p:sp>
            <p:nvSpPr>
              <p:cNvPr id="394" name=""/>
              <p:cNvSpPr/>
              <p:nvPr/>
            </p:nvSpPr>
            <p:spPr>
              <a:xfrm>
                <a:off x="4132800" y="4523040"/>
                <a:ext cx="0" cy="1627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V="1">
                <a:off x="4132800" y="3806640"/>
                <a:ext cx="1473120" cy="716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V="1">
                <a:off x="4132800" y="5434920"/>
                <a:ext cx="1473120" cy="716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606280" y="3807000"/>
                <a:ext cx="0" cy="1627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H="1" flipV="1">
                <a:off x="2057040" y="5239800"/>
                <a:ext cx="2075400" cy="911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H="1" flipV="1">
                <a:off x="2057040" y="3611520"/>
                <a:ext cx="2075400" cy="911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068200" y="3611520"/>
                <a:ext cx="0" cy="1627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 flipV="1">
                <a:off x="3530160" y="2895480"/>
                <a:ext cx="2075760" cy="911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V="1">
                <a:off x="2057400" y="2895120"/>
                <a:ext cx="1472760" cy="716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V="1">
                <a:off x="4132800" y="4588200"/>
                <a:ext cx="1473120" cy="71604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 flipV="1">
                <a:off x="2057040" y="4067640"/>
                <a:ext cx="2075400" cy="123696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530160" y="2895480"/>
                <a:ext cx="0" cy="162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H="1" flipV="1">
                <a:off x="3530160" y="4522680"/>
                <a:ext cx="2075760" cy="911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V="1">
                <a:off x="2057400" y="4523040"/>
                <a:ext cx="1472760" cy="716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H="1" flipV="1">
                <a:off x="3530160" y="3350520"/>
                <a:ext cx="2075760" cy="1237320"/>
              </a:xfrm>
              <a:prstGeom prst="line">
                <a:avLst/>
              </a:prstGeom>
              <a:ln w="25560">
                <a:solidFill>
                  <a:srgbClr val="00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V="1">
                <a:off x="2057400" y="3350880"/>
                <a:ext cx="1472760" cy="716400"/>
              </a:xfrm>
              <a:prstGeom prst="line">
                <a:avLst/>
              </a:prstGeom>
              <a:ln w="25560">
                <a:solidFill>
                  <a:srgbClr val="00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rot="17880000">
                <a:off x="5174640" y="5261400"/>
                <a:ext cx="260280" cy="736560"/>
              </a:xfrm>
              <a:prstGeom prst="downArrow">
                <a:avLst>
                  <a:gd name="adj1" fmla="val 50000"/>
                  <a:gd name="adj2" fmla="val 70747"/>
                </a:avLst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144320" y="6162120"/>
                <a:ext cx="870120" cy="390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606280" y="5435280"/>
                <a:ext cx="870480" cy="390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V="1">
                <a:off x="4534920" y="5630400"/>
                <a:ext cx="1874880" cy="9115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511240" y="5955120"/>
                <a:ext cx="289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ff0000"/>
                    </a:solidFill>
                    <a:latin typeface="Arial"/>
                  </a:rPr>
                  <a:t>L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H="1">
                <a:off x="3597120" y="5304600"/>
                <a:ext cx="535320" cy="26028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H="1">
                <a:off x="3585960" y="6140520"/>
                <a:ext cx="535320" cy="26028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731040" y="5435280"/>
                <a:ext cx="0" cy="97668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524760" y="589140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8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 flipV="1">
                <a:off x="2057040" y="4393080"/>
                <a:ext cx="2075400" cy="91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586600" y="4415040"/>
                <a:ext cx="231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ff66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650480" y="5216400"/>
                <a:ext cx="33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993300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H="1" flipV="1">
                <a:off x="3530160" y="3676680"/>
                <a:ext cx="2075760" cy="91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V="1">
                <a:off x="2057400" y="3676320"/>
                <a:ext cx="1472760" cy="716040"/>
              </a:xfrm>
              <a:prstGeom prst="line">
                <a:avLst/>
              </a:prstGeom>
              <a:ln w="25560">
                <a:solidFill>
                  <a:srgbClr val="ff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485600" y="471636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ff"/>
                    </a:solidFill>
                    <a:latin typeface="Arial"/>
                  </a:rPr>
                  <a:t>N.E.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829240" y="437040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ff"/>
                    </a:solidFill>
                    <a:latin typeface="Arial"/>
                  </a:rPr>
                  <a:t>N.E.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26" name=""/>
            <p:cNvSpPr/>
            <p:nvPr/>
          </p:nvSpPr>
          <p:spPr>
            <a:xfrm>
              <a:off x="6273720" y="3304800"/>
              <a:ext cx="1727640" cy="14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Q = k * A * 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Q = k * e * L * 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cc3300"/>
                  </a:solidFill>
                  <a:latin typeface="Arial"/>
                </a:rPr>
                <a:t>Q = T * i * 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83480" y="1109880"/>
            <a:ext cx="8111520" cy="41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Evaluación de la Re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8000"/>
                </a:solidFill>
                <a:latin typeface="Arial"/>
              </a:rPr>
              <a:t>Recarga por Ingreso de un Caudal Subterráneo al Sistem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esta evaluación se requiere conocer el gradiente de la superficie equipote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ial, lo que se determina con la información de niveles estáticos del área; la trans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isividad media en la sección, parámetro que debe determinarse con la inform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ión de ensayos de bombeo; y el largo de la sección, variable que se determina 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finirse la geología de subsuperfici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8000"/>
                </a:solidFill>
                <a:latin typeface="Arial"/>
              </a:rPr>
              <a:t>Recarga por Infiltración Artific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n el caso de existir este mecanismo de recarga, los datos se deben obtener 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l organismo o empresa a cargo del proceso de infiltració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68800" y="754920"/>
            <a:ext cx="8079480" cy="56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NOCIONES DE HIDROQUÍM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Elementos químicos en el agua subterráne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n las aguas naturales, superficiales y subterráneas, es posible reconocer siem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re los siguientes cationes y aniones mayoritarios 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Cationes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An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Calcio (Ca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- Bicarbonatos (HCO</a:t>
            </a:r>
            <a:r>
              <a:rPr b="1" lang="es-ES" sz="1600" spc="-1" strike="noStrike" baseline="-2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Magnesio (Mg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- Sulfatos (SO</a:t>
            </a:r>
            <a:r>
              <a:rPr b="1" lang="es-ES" sz="1600" spc="-1" strike="noStrike" baseline="-20000">
                <a:solidFill>
                  <a:srgbClr val="000000"/>
                </a:solidFill>
                <a:latin typeface="Arial"/>
              </a:rPr>
              <a:t>4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Sodio (Na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- Cloruros (Cl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Potasio (K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- Nitratos (NO</a:t>
            </a:r>
            <a:r>
              <a:rPr b="1" lang="es-ES" sz="1600" spc="-1" strike="noStrike" baseline="-2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demás de los elementos mayores indicados, suelen presentarse elementos mi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oritarios (traza) tales como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Elementos traz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Arsénic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Fluor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Seleni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Mercur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Bor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Hierr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Cianur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Beril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Cobre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Plom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Manganes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Níqu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Zinc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Crom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Cadmi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Alumin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Plata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Bari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Liti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Vanad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- S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91320" y="971280"/>
            <a:ext cx="826416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Determinación de la Eficiencia de un Sondaj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determinar la eficiencia de un sondaje se pueden utilizar varios métodos. 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ás recurrido corresponde al método de determinar el descenso teórico que d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biera experimentar el nivel dinámico, de acuerdo a las constantes elásticas del 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uífero y al diámetro de pozo, para luego comparar éste con el descenso real q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ha experimentado dicho nivel durante las pruebas ejecutadas en el sondaj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asegurar un cálculo representativo en el mediano plazo, se deben determin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os descensos del nivel dinámico a un tiempo largo de bombeo. Para esto se pu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n extrapolar los descensos obtenidos en los ensayos de caudal variable y cons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ante hasta un tiempo de bombeo de 10.000 minutos, para luego comparar és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n los descensos teóricos obtenidos para igual período (10.000 minutos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l descenso teórico, para los distintos caudales, se determina utilizando las ex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resiones de Theis y las constantes elásticas del acuífero sometido a extracción. 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especto es importante recordar que en las fórmulas de Theis está considerada l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istancia existente entre el pozo de bombeo y un pozo de observación, de form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l utilizar sólo los datos del pozo de bombeo deberá considerarse la distancia co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o equivalente al radio del pozo, incluyendo el espacio anular relleno con gravilla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99520" y="837000"/>
            <a:ext cx="688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NOCIONES DE HIDROQUÍM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Validación de Resultados (Balance Aniónico-Catiónic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647640" y="1893960"/>
            <a:ext cx="7772400" cy="3806640"/>
            <a:chOff x="647640" y="1893960"/>
            <a:chExt cx="7772400" cy="3806640"/>
          </a:xfrm>
        </p:grpSpPr>
        <p:graphicFrame>
          <p:nvGraphicFramePr>
            <p:cNvPr id="434" name=""/>
            <p:cNvGraphicFramePr/>
            <p:nvPr/>
          </p:nvGraphicFramePr>
          <p:xfrm>
            <a:off x="838080" y="1893960"/>
            <a:ext cx="7239240" cy="20350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43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38080" y="1893960"/>
                      <a:ext cx="7239240" cy="203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36" name=""/>
            <p:cNvGraphicFramePr/>
            <p:nvPr/>
          </p:nvGraphicFramePr>
          <p:xfrm>
            <a:off x="647640" y="4230720"/>
            <a:ext cx="7772400" cy="146988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43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47640" y="4230720"/>
                      <a:ext cx="7772400" cy="1469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38" name=""/>
          <p:cNvSpPr/>
          <p:nvPr/>
        </p:nvSpPr>
        <p:spPr>
          <a:xfrm>
            <a:off x="319680" y="5886360"/>
            <a:ext cx="8354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Si la diferencia entre la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Σ</a:t>
            </a:r>
            <a:r>
              <a:rPr b="1" lang="es-MX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de los aniones y la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Σ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de los cationes, expresados en me/l, es menor de 6%, el análi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puede considerarse válido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289872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607840" y="741960"/>
            <a:ext cx="395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NOCIONES DE HIDROQUÍM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Normas Chilenas Vigen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2541600" y="1541520"/>
          <a:ext cx="4059360" cy="5087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1600" y="1541520"/>
                    <a:ext cx="4059360" cy="50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4" name="PIPPER" descr=""/>
          <p:cNvPicPr/>
          <p:nvPr/>
        </p:nvPicPr>
        <p:blipFill>
          <a:blip r:embed="rId1"/>
          <a:srcRect l="0" t="3471" r="2830" b="3471"/>
          <a:stretch/>
        </p:blipFill>
        <p:spPr>
          <a:xfrm>
            <a:off x="500040" y="657360"/>
            <a:ext cx="7848720" cy="612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4935600" y="2489040"/>
            <a:ext cx="2836800" cy="2159280"/>
            <a:chOff x="4935600" y="2489040"/>
            <a:chExt cx="2836800" cy="2159280"/>
          </a:xfrm>
        </p:grpSpPr>
        <p:grpSp>
          <p:nvGrpSpPr>
            <p:cNvPr id="447" name=""/>
            <p:cNvGrpSpPr/>
            <p:nvPr/>
          </p:nvGrpSpPr>
          <p:grpSpPr>
            <a:xfrm>
              <a:off x="4935600" y="2489040"/>
              <a:ext cx="2836800" cy="2159280"/>
              <a:chOff x="4935600" y="2489040"/>
              <a:chExt cx="2836800" cy="2159280"/>
            </a:xfrm>
          </p:grpSpPr>
          <p:sp>
            <p:nvSpPr>
              <p:cNvPr id="448" name=""/>
              <p:cNvSpPr/>
              <p:nvPr/>
            </p:nvSpPr>
            <p:spPr>
              <a:xfrm>
                <a:off x="6365880" y="2489040"/>
                <a:ext cx="0" cy="2159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49" name=""/>
              <p:cNvGrpSpPr/>
              <p:nvPr/>
            </p:nvGrpSpPr>
            <p:grpSpPr>
              <a:xfrm>
                <a:off x="4935600" y="2670120"/>
                <a:ext cx="2835000" cy="85320"/>
                <a:chOff x="4935600" y="2670120"/>
                <a:chExt cx="2835000" cy="85320"/>
              </a:xfrm>
            </p:grpSpPr>
            <p:sp>
              <p:nvSpPr>
                <p:cNvPr id="450" name=""/>
                <p:cNvSpPr/>
                <p:nvPr/>
              </p:nvSpPr>
              <p:spPr>
                <a:xfrm>
                  <a:off x="4935600" y="2710440"/>
                  <a:ext cx="2835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4935600" y="267336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508320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522108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536400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550692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564984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579276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5935680" y="267336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608328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622152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636408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650700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664992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679284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693576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707868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722160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736272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749628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763884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776268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2" name=""/>
              <p:cNvGrpSpPr/>
              <p:nvPr/>
            </p:nvGrpSpPr>
            <p:grpSpPr>
              <a:xfrm>
                <a:off x="4937400" y="2946240"/>
                <a:ext cx="2835000" cy="85320"/>
                <a:chOff x="4937400" y="2946240"/>
                <a:chExt cx="2835000" cy="85320"/>
              </a:xfrm>
            </p:grpSpPr>
            <p:sp>
              <p:nvSpPr>
                <p:cNvPr id="473" name=""/>
                <p:cNvSpPr/>
                <p:nvPr/>
              </p:nvSpPr>
              <p:spPr>
                <a:xfrm>
                  <a:off x="4937400" y="2986560"/>
                  <a:ext cx="2835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4937400" y="294948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508500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522288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536580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550872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565164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579456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5937480" y="294948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608508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622332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636588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650880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665172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679464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693756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708048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722340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736452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749808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764064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776448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" name=""/>
              <p:cNvGrpSpPr/>
              <p:nvPr/>
            </p:nvGrpSpPr>
            <p:grpSpPr>
              <a:xfrm>
                <a:off x="4937400" y="3213000"/>
                <a:ext cx="2835000" cy="85320"/>
                <a:chOff x="4937400" y="3213000"/>
                <a:chExt cx="2835000" cy="85320"/>
              </a:xfrm>
            </p:grpSpPr>
            <p:sp>
              <p:nvSpPr>
                <p:cNvPr id="496" name=""/>
                <p:cNvSpPr/>
                <p:nvPr/>
              </p:nvSpPr>
              <p:spPr>
                <a:xfrm>
                  <a:off x="4937400" y="3253320"/>
                  <a:ext cx="2835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4937400" y="321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508500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522288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536580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550872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565164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579456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5937480" y="321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608508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622332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636588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650880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665172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679464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693756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708048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722340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736452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749808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764064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776448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18" name=""/>
            <p:cNvSpPr/>
            <p:nvPr/>
          </p:nvSpPr>
          <p:spPr>
            <a:xfrm>
              <a:off x="5407200" y="2708640"/>
              <a:ext cx="361800" cy="280080"/>
            </a:xfrm>
            <a:prstGeom prst="line">
              <a:avLst/>
            </a:prstGeom>
            <a:ln w="22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>
              <a:off x="5277960" y="2984400"/>
              <a:ext cx="493200" cy="271440"/>
            </a:xfrm>
            <a:prstGeom prst="line">
              <a:avLst/>
            </a:prstGeom>
            <a:ln w="22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H="1">
              <a:off x="6751080" y="2706120"/>
              <a:ext cx="570600" cy="283320"/>
            </a:xfrm>
            <a:prstGeom prst="line">
              <a:avLst/>
            </a:prstGeom>
            <a:ln w="2232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750720" y="2994120"/>
              <a:ext cx="261000" cy="255240"/>
            </a:xfrm>
            <a:prstGeom prst="line">
              <a:avLst/>
            </a:prstGeom>
            <a:ln w="2232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1143000" y="2514600"/>
            <a:ext cx="2836800" cy="2158920"/>
            <a:chOff x="1143000" y="2514600"/>
            <a:chExt cx="2836800" cy="2158920"/>
          </a:xfrm>
        </p:grpSpPr>
        <p:grpSp>
          <p:nvGrpSpPr>
            <p:cNvPr id="523" name=""/>
            <p:cNvGrpSpPr/>
            <p:nvPr/>
          </p:nvGrpSpPr>
          <p:grpSpPr>
            <a:xfrm>
              <a:off x="1143000" y="2514600"/>
              <a:ext cx="2836800" cy="2158920"/>
              <a:chOff x="1143000" y="2514600"/>
              <a:chExt cx="2836800" cy="2158920"/>
            </a:xfrm>
          </p:grpSpPr>
          <p:sp>
            <p:nvSpPr>
              <p:cNvPr id="524" name=""/>
              <p:cNvSpPr/>
              <p:nvPr/>
            </p:nvSpPr>
            <p:spPr>
              <a:xfrm>
                <a:off x="2573280" y="2514600"/>
                <a:ext cx="0" cy="2158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25" name=""/>
              <p:cNvGrpSpPr/>
              <p:nvPr/>
            </p:nvGrpSpPr>
            <p:grpSpPr>
              <a:xfrm>
                <a:off x="1143000" y="2695320"/>
                <a:ext cx="2835000" cy="84960"/>
                <a:chOff x="1143000" y="2695320"/>
                <a:chExt cx="2835000" cy="84960"/>
              </a:xfrm>
            </p:grpSpPr>
            <p:sp>
              <p:nvSpPr>
                <p:cNvPr id="526" name=""/>
                <p:cNvSpPr/>
                <p:nvPr/>
              </p:nvSpPr>
              <p:spPr>
                <a:xfrm>
                  <a:off x="1143000" y="2735640"/>
                  <a:ext cx="2835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1143000" y="269856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129060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142848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157140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171432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185724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200016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2143080" y="269856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229068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242892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257148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271440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285732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300024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314316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328608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342900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357012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370368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384624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397008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8" name=""/>
              <p:cNvGrpSpPr/>
              <p:nvPr/>
            </p:nvGrpSpPr>
            <p:grpSpPr>
              <a:xfrm>
                <a:off x="1144800" y="2971440"/>
                <a:ext cx="2835000" cy="84960"/>
                <a:chOff x="1144800" y="2971440"/>
                <a:chExt cx="2835000" cy="84960"/>
              </a:xfrm>
            </p:grpSpPr>
            <p:sp>
              <p:nvSpPr>
                <p:cNvPr id="549" name=""/>
                <p:cNvSpPr/>
                <p:nvPr/>
              </p:nvSpPr>
              <p:spPr>
                <a:xfrm>
                  <a:off x="1144800" y="3011760"/>
                  <a:ext cx="2835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1144800" y="297468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129240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3028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157320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171612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185904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200196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2144880" y="297468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229248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243072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257328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271620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285912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300204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314496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328788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343080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357192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370548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384804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397188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1" name=""/>
              <p:cNvGrpSpPr/>
              <p:nvPr/>
            </p:nvGrpSpPr>
            <p:grpSpPr>
              <a:xfrm>
                <a:off x="1144800" y="3238200"/>
                <a:ext cx="2835000" cy="84960"/>
                <a:chOff x="1144800" y="3238200"/>
                <a:chExt cx="2835000" cy="84960"/>
              </a:xfrm>
            </p:grpSpPr>
            <p:sp>
              <p:nvSpPr>
                <p:cNvPr id="572" name=""/>
                <p:cNvSpPr/>
                <p:nvPr/>
              </p:nvSpPr>
              <p:spPr>
                <a:xfrm>
                  <a:off x="1144800" y="3278520"/>
                  <a:ext cx="2835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1144800" y="324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129240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143028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157320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171612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185904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200196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2144880" y="324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229248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243072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257328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271620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285912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300204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314496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328788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343080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357192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370548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384804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397188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94" name=""/>
            <p:cNvSpPr/>
            <p:nvPr/>
          </p:nvSpPr>
          <p:spPr>
            <a:xfrm>
              <a:off x="1614600" y="2733840"/>
              <a:ext cx="361800" cy="279720"/>
            </a:xfrm>
            <a:prstGeom prst="line">
              <a:avLst/>
            </a:prstGeom>
            <a:ln w="22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>
              <a:off x="1485360" y="3009600"/>
              <a:ext cx="493200" cy="271080"/>
            </a:xfrm>
            <a:prstGeom prst="line">
              <a:avLst/>
            </a:prstGeom>
            <a:ln w="22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>
              <a:off x="2958480" y="2731320"/>
              <a:ext cx="570240" cy="282960"/>
            </a:xfrm>
            <a:prstGeom prst="line">
              <a:avLst/>
            </a:prstGeom>
            <a:ln w="2232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958120" y="3019320"/>
              <a:ext cx="261000" cy="254880"/>
            </a:xfrm>
            <a:prstGeom prst="line">
              <a:avLst/>
            </a:prstGeom>
            <a:ln w="2232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369360" y="889560"/>
            <a:ext cx="8481240" cy="5053680"/>
            <a:chOff x="369360" y="889560"/>
            <a:chExt cx="8481240" cy="5053680"/>
          </a:xfrm>
        </p:grpSpPr>
        <p:sp>
          <p:nvSpPr>
            <p:cNvPr id="68" name=""/>
            <p:cNvSpPr/>
            <p:nvPr/>
          </p:nvSpPr>
          <p:spPr>
            <a:xfrm>
              <a:off x="4338720" y="4556520"/>
              <a:ext cx="4511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1400" spc="-1" strike="noStrike" baseline="-25000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n-US" sz="14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8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008000"/>
                  </a:solidFill>
                  <a:latin typeface="Arial"/>
                </a:rPr>
                <a:t>2</a:t>
              </a:r>
              <a:r>
                <a:rPr b="1" lang="en-US" sz="14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= sobredescenso por pérdidas en el acuífer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9360" y="889560"/>
              <a:ext cx="6898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METODOLOGÍAS DE EVALUACIÓN HIDROGEOLÓGIC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Determinación de la Eficiencia de un Sondaj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26920" y="2209680"/>
              <a:ext cx="681696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986280" y="2043000"/>
              <a:ext cx="228600" cy="1324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986280" y="3367080"/>
              <a:ext cx="228600" cy="10000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3986280" y="4373640"/>
              <a:ext cx="230040" cy="1569600"/>
              <a:chOff x="3986280" y="4373640"/>
              <a:chExt cx="230040" cy="1569600"/>
            </a:xfrm>
          </p:grpSpPr>
          <p:sp>
            <p:nvSpPr>
              <p:cNvPr id="74" name=""/>
              <p:cNvSpPr/>
              <p:nvPr/>
            </p:nvSpPr>
            <p:spPr>
              <a:xfrm>
                <a:off x="3987720" y="4373640"/>
                <a:ext cx="228600" cy="3888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986280" y="4749840"/>
                <a:ext cx="228600" cy="7488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986280" y="5483160"/>
                <a:ext cx="228600" cy="4600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938160" y="2362320"/>
              <a:ext cx="6647040" cy="0"/>
            </a:xfrm>
            <a:prstGeom prst="line">
              <a:avLst/>
            </a:prstGeom>
            <a:ln w="2232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221000" y="2376360"/>
              <a:ext cx="3076560" cy="1249560"/>
            </a:xfrm>
            <a:custGeom>
              <a:avLst/>
              <a:gdLst/>
              <a:ahLst/>
              <a:rect l="l" t="t" r="r" b="b"/>
              <a:pathLst>
                <a:path w="1938" h="787">
                  <a:moveTo>
                    <a:pt x="1938" y="0"/>
                  </a:moveTo>
                  <a:cubicBezTo>
                    <a:pt x="1879" y="9"/>
                    <a:pt x="1692" y="37"/>
                    <a:pt x="1584" y="54"/>
                  </a:cubicBezTo>
                  <a:cubicBezTo>
                    <a:pt x="1476" y="71"/>
                    <a:pt x="1390" y="82"/>
                    <a:pt x="1293" y="100"/>
                  </a:cubicBezTo>
                  <a:cubicBezTo>
                    <a:pt x="1196" y="118"/>
                    <a:pt x="1095" y="139"/>
                    <a:pt x="1004" y="163"/>
                  </a:cubicBezTo>
                  <a:cubicBezTo>
                    <a:pt x="913" y="187"/>
                    <a:pt x="823" y="214"/>
                    <a:pt x="748" y="243"/>
                  </a:cubicBezTo>
                  <a:cubicBezTo>
                    <a:pt x="673" y="272"/>
                    <a:pt x="613" y="305"/>
                    <a:pt x="552" y="339"/>
                  </a:cubicBezTo>
                  <a:cubicBezTo>
                    <a:pt x="491" y="373"/>
                    <a:pt x="439" y="408"/>
                    <a:pt x="384" y="447"/>
                  </a:cubicBezTo>
                  <a:cubicBezTo>
                    <a:pt x="329" y="486"/>
                    <a:pt x="284" y="518"/>
                    <a:pt x="220" y="575"/>
                  </a:cubicBezTo>
                  <a:cubicBezTo>
                    <a:pt x="156" y="632"/>
                    <a:pt x="46" y="743"/>
                    <a:pt x="0" y="787"/>
                  </a:cubicBezTo>
                </a:path>
              </a:pathLst>
            </a:custGeom>
            <a:noFill/>
            <a:ln w="223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912960" y="2376360"/>
              <a:ext cx="3076560" cy="1249560"/>
            </a:xfrm>
            <a:custGeom>
              <a:avLst/>
              <a:gdLst/>
              <a:ahLst/>
              <a:rect l="l" t="t" r="r" b="b"/>
              <a:pathLst>
                <a:path w="1938" h="787">
                  <a:moveTo>
                    <a:pt x="1938" y="0"/>
                  </a:moveTo>
                  <a:cubicBezTo>
                    <a:pt x="1879" y="9"/>
                    <a:pt x="1692" y="37"/>
                    <a:pt x="1584" y="54"/>
                  </a:cubicBezTo>
                  <a:cubicBezTo>
                    <a:pt x="1476" y="71"/>
                    <a:pt x="1390" y="82"/>
                    <a:pt x="1293" y="100"/>
                  </a:cubicBezTo>
                  <a:cubicBezTo>
                    <a:pt x="1196" y="118"/>
                    <a:pt x="1095" y="139"/>
                    <a:pt x="1004" y="163"/>
                  </a:cubicBezTo>
                  <a:cubicBezTo>
                    <a:pt x="913" y="187"/>
                    <a:pt x="823" y="214"/>
                    <a:pt x="748" y="243"/>
                  </a:cubicBezTo>
                  <a:cubicBezTo>
                    <a:pt x="673" y="272"/>
                    <a:pt x="613" y="305"/>
                    <a:pt x="552" y="339"/>
                  </a:cubicBezTo>
                  <a:cubicBezTo>
                    <a:pt x="491" y="373"/>
                    <a:pt x="439" y="408"/>
                    <a:pt x="384" y="447"/>
                  </a:cubicBezTo>
                  <a:cubicBezTo>
                    <a:pt x="329" y="486"/>
                    <a:pt x="284" y="518"/>
                    <a:pt x="220" y="575"/>
                  </a:cubicBezTo>
                  <a:cubicBezTo>
                    <a:pt x="156" y="632"/>
                    <a:pt x="46" y="743"/>
                    <a:pt x="0" y="787"/>
                  </a:cubicBezTo>
                </a:path>
              </a:pathLst>
            </a:custGeom>
            <a:noFill/>
            <a:ln w="223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214880" y="2647800"/>
              <a:ext cx="1542960" cy="635040"/>
            </a:xfrm>
            <a:custGeom>
              <a:avLst/>
              <a:gdLst/>
              <a:ahLst/>
              <a:rect l="l" t="t" r="r" b="b"/>
              <a:pathLst>
                <a:path w="972" h="400">
                  <a:moveTo>
                    <a:pt x="0" y="400"/>
                  </a:moveTo>
                  <a:cubicBezTo>
                    <a:pt x="22" y="385"/>
                    <a:pt x="95" y="333"/>
                    <a:pt x="136" y="308"/>
                  </a:cubicBezTo>
                  <a:cubicBezTo>
                    <a:pt x="177" y="283"/>
                    <a:pt x="209" y="266"/>
                    <a:pt x="244" y="248"/>
                  </a:cubicBezTo>
                  <a:cubicBezTo>
                    <a:pt x="279" y="230"/>
                    <a:pt x="317" y="214"/>
                    <a:pt x="348" y="200"/>
                  </a:cubicBezTo>
                  <a:cubicBezTo>
                    <a:pt x="379" y="186"/>
                    <a:pt x="395" y="178"/>
                    <a:pt x="432" y="164"/>
                  </a:cubicBezTo>
                  <a:cubicBezTo>
                    <a:pt x="469" y="150"/>
                    <a:pt x="478" y="143"/>
                    <a:pt x="568" y="116"/>
                  </a:cubicBezTo>
                  <a:cubicBezTo>
                    <a:pt x="658" y="89"/>
                    <a:pt x="888" y="24"/>
                    <a:pt x="972" y="0"/>
                  </a:cubicBezTo>
                </a:path>
              </a:pathLst>
            </a:custGeom>
            <a:noFill/>
            <a:ln w="223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468520" y="2654280"/>
              <a:ext cx="1517760" cy="628560"/>
            </a:xfrm>
            <a:custGeom>
              <a:avLst/>
              <a:gdLst/>
              <a:ahLst/>
              <a:rect l="l" t="t" r="r" b="b"/>
              <a:pathLst>
                <a:path w="956" h="396">
                  <a:moveTo>
                    <a:pt x="956" y="396"/>
                  </a:moveTo>
                  <a:cubicBezTo>
                    <a:pt x="934" y="381"/>
                    <a:pt x="861" y="329"/>
                    <a:pt x="820" y="304"/>
                  </a:cubicBezTo>
                  <a:cubicBezTo>
                    <a:pt x="779" y="279"/>
                    <a:pt x="747" y="262"/>
                    <a:pt x="712" y="244"/>
                  </a:cubicBezTo>
                  <a:cubicBezTo>
                    <a:pt x="677" y="226"/>
                    <a:pt x="639" y="210"/>
                    <a:pt x="608" y="196"/>
                  </a:cubicBezTo>
                  <a:cubicBezTo>
                    <a:pt x="577" y="182"/>
                    <a:pt x="561" y="174"/>
                    <a:pt x="524" y="160"/>
                  </a:cubicBezTo>
                  <a:cubicBezTo>
                    <a:pt x="487" y="146"/>
                    <a:pt x="475" y="139"/>
                    <a:pt x="388" y="112"/>
                  </a:cubicBezTo>
                  <a:cubicBezTo>
                    <a:pt x="301" y="85"/>
                    <a:pt x="81" y="23"/>
                    <a:pt x="0" y="0"/>
                  </a:cubicBezTo>
                </a:path>
              </a:pathLst>
            </a:custGeom>
            <a:noFill/>
            <a:ln w="223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3985920" y="4056120"/>
              <a:ext cx="2286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380200" y="2772720"/>
              <a:ext cx="3146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000"/>
                  </a:solidFill>
                  <a:latin typeface="Arial"/>
                </a:rPr>
                <a:t>Perfil de Descenso en Régimen de Darcy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2000" y="3121920"/>
              <a:ext cx="1915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Perfil de Descenso Rea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en el acuífer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332960" y="3910680"/>
              <a:ext cx="3262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ivel Dinámico Medido al Interior del Poz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803240" y="4057560"/>
              <a:ext cx="21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1911240" y="2361960"/>
              <a:ext cx="0" cy="69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911240" y="3430440"/>
              <a:ext cx="0" cy="62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751040" y="3045240"/>
              <a:ext cx="3636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379600" y="3625920"/>
              <a:ext cx="16048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2571840" y="2362320"/>
              <a:ext cx="0" cy="514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577960" y="3138480"/>
              <a:ext cx="0" cy="479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09480" y="282924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711600" y="3282840"/>
              <a:ext cx="272880" cy="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765600" y="2984400"/>
              <a:ext cx="0" cy="29844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19440" y="265788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8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008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3765600" y="2361960"/>
              <a:ext cx="0" cy="29844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055880" y="4556520"/>
              <a:ext cx="2500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8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008000"/>
                  </a:solidFill>
                  <a:latin typeface="Arial"/>
                </a:rPr>
                <a:t>2</a:t>
              </a:r>
              <a:r>
                <a:rPr b="1" lang="en-US" sz="1400" spc="-1" strike="noStrike">
                  <a:solidFill>
                    <a:srgbClr val="008000"/>
                  </a:solidFill>
                  <a:latin typeface="Arial"/>
                </a:rPr>
                <a:t> = descenso según Darc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44000" y="4861080"/>
              <a:ext cx="29512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 = descenso real en el acuífer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059840" y="5185080"/>
              <a:ext cx="23097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= descenso en el poz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359240" y="4923000"/>
              <a:ext cx="4239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n-US" sz="14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= sobredescenso por pérdidas en el poz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404600" y="170784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 rot="16200000">
              <a:off x="4047840" y="1850400"/>
              <a:ext cx="277560" cy="230040"/>
            </a:xfrm>
            <a:custGeom>
              <a:avLst/>
              <a:gdLst>
                <a:gd name="textAreaLeft" fmla="*/ 92520 w 277560"/>
                <a:gd name="textAreaRight" fmla="*/ 237960 w 277560"/>
                <a:gd name="textAreaTop" fmla="*/ 132120 h 230040"/>
                <a:gd name="textAreaBottom" fmla="*/ 196920 h 23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1280" y="1214640"/>
            <a:ext cx="8128440" cy="48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Determinación de la Eficiencia de un Sondaj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mo puede advertirse en el croquis anterior, el nivel que se mide al interior 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ozo incorpora tanto las pérdidas de carga que se generan en el acuífero en l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ercanías del pozo, como aquellas originadas en la circulación al interior del so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aje y al ingreso de la bomba. Estas últimas (sondaje y bomba) suelen ser las má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ignificativa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determinar el descenso teórico se utilizan las expresiones de Theis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S * r</a:t>
            </a:r>
            <a:r>
              <a:rPr b="1" lang="es-ES" sz="1600" spc="-1" strike="noStrike" baseline="30000">
                <a:solidFill>
                  <a:srgbClr val="990033"/>
                </a:solidFill>
                <a:latin typeface="Arial"/>
              </a:rPr>
              <a:t>2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                                                            </a:t>
            </a:r>
            <a:r>
              <a:rPr b="1" lang="es-ES" sz="1600" spc="-1" strike="noStrike">
                <a:solidFill>
                  <a:srgbClr val="009900"/>
                </a:solidFill>
                <a:latin typeface="Arial"/>
              </a:rPr>
              <a:t>  u</a:t>
            </a:r>
            <a:r>
              <a:rPr b="1" lang="es-ES" sz="1600" spc="-1" strike="noStrike" baseline="30000">
                <a:solidFill>
                  <a:srgbClr val="009900"/>
                </a:solidFill>
                <a:latin typeface="Arial"/>
              </a:rPr>
              <a:t>2</a:t>
            </a:r>
            <a:r>
              <a:rPr b="1" lang="es-ES" sz="1600" spc="-1" strike="noStrike">
                <a:solidFill>
                  <a:srgbClr val="009900"/>
                </a:solidFill>
                <a:latin typeface="Arial"/>
              </a:rPr>
              <a:t>              u</a:t>
            </a:r>
            <a:r>
              <a:rPr b="1" lang="es-ES" sz="1600" spc="-1" strike="noStrike" baseline="30000">
                <a:solidFill>
                  <a:srgbClr val="009900"/>
                </a:solidFill>
                <a:latin typeface="Arial"/>
              </a:rPr>
              <a:t>3</a:t>
            </a:r>
            <a:r>
              <a:rPr b="1" lang="es-ES" sz="1600" spc="-1" strike="noStrike">
                <a:solidFill>
                  <a:srgbClr val="009900"/>
                </a:solidFill>
                <a:latin typeface="Arial"/>
              </a:rPr>
              <a:t>            u</a:t>
            </a:r>
            <a:r>
              <a:rPr b="1" lang="es-ES" sz="1600" spc="-1" strike="noStrike" baseline="30000">
                <a:solidFill>
                  <a:srgbClr val="0099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u  =  -----------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;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9900"/>
                </a:solidFill>
                <a:latin typeface="Arial"/>
              </a:rPr>
              <a:t>W(u) =  - 0,5772  -  ln u  +  u  -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9900"/>
                </a:solidFill>
                <a:latin typeface="Arial"/>
              </a:rPr>
              <a:t>---------  +  ---------  -  ---------  +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.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4 * T * t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r>
              <a:rPr b="1" lang="es-ES" sz="1600" spc="-1" strike="noStrike">
                <a:solidFill>
                  <a:srgbClr val="009900"/>
                </a:solidFill>
                <a:latin typeface="Arial"/>
              </a:rPr>
              <a:t> 2 * 2 !       3 * 3 !      4 * 4 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                                       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Q * W(u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                                            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s  =  --------------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                                                        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4 * </a:t>
            </a:r>
            <a:r>
              <a:rPr b="1" lang="es-ES" sz="16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 * 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9880" y="1391400"/>
            <a:ext cx="7943760" cy="44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Determinación de la Eficiencia de un Sondaj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determinar la eficiencia del pozo, asumiendo que las pérdidas mayores 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roducen por efecto del sondaje, tendríamos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s</a:t>
            </a:r>
            <a:r>
              <a:rPr b="1" lang="es-ES" sz="1600" spc="-1" strike="noStrike" baseline="-25000">
                <a:solidFill>
                  <a:srgbClr val="990033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                     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Eficiencia (%) =  ------- * 1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                                                    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s</a:t>
            </a:r>
            <a:r>
              <a:rPr b="1" lang="es-ES" sz="1600" spc="-1" strike="noStrike" baseline="-25000">
                <a:solidFill>
                  <a:srgbClr val="990033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on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= descenso teórico según Theis (m);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= descenso real en el pozo (m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89880" y="735120"/>
            <a:ext cx="8114760" cy="5805720"/>
            <a:chOff x="389880" y="735120"/>
            <a:chExt cx="8114760" cy="5805720"/>
          </a:xfrm>
        </p:grpSpPr>
        <p:sp>
          <p:nvSpPr>
            <p:cNvPr id="110" name=""/>
            <p:cNvSpPr/>
            <p:nvPr/>
          </p:nvSpPr>
          <p:spPr>
            <a:xfrm>
              <a:off x="389880" y="735120"/>
              <a:ext cx="8114760" cy="58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METODOLOGÍAS DE EVALUACIÓN HIDROGEOLÓGIC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Cálculo de Interferencias (Pozos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Un aspecto importante, que comúnmente es necesario determinar, dice relació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con los efectos que produce el bombeo de un pozo en otro o bien los efectos qu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genera una batería de sondajes de explotación, en un área específica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Si se considera una batería de sondajes que habilitan un mismo acuífero, y qu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bombean de manera simultánea, sus conos de depresión se interfieren generand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descensos distintos a los que se producirían con la explotación aislada de cad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pozo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Aplicando el principio de superposición y la ecuación de Theis se obtiene la si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guiente expresión :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Q</a:t>
              </a:r>
              <a:r>
                <a:rPr b="1" lang="es-ES" sz="1800" spc="-1" strike="noStrike" baseline="-25000">
                  <a:solidFill>
                    <a:srgbClr val="990033"/>
                  </a:solidFill>
                  <a:latin typeface="Arial"/>
                </a:rPr>
                <a:t>i</a:t>
              </a:r>
              <a:r>
                <a:rPr b="1" lang="es-ES" sz="1600" spc="-1" strike="noStrike">
                  <a:solidFill>
                    <a:srgbClr val="990033"/>
                  </a:solidFill>
                  <a:latin typeface="Arial"/>
                </a:rPr>
                <a:t>                            2,24 * T * 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990033"/>
                  </a:solidFill>
                  <a:latin typeface="Arial"/>
                </a:rPr>
                <a:t>                             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Δ</a:t>
              </a:r>
              <a:r>
                <a:rPr b="1" lang="es-ES" sz="1600" spc="-1" strike="noStrike">
                  <a:solidFill>
                    <a:srgbClr val="990033"/>
                  </a:solidFill>
                  <a:latin typeface="Arial"/>
                </a:rPr>
                <a:t> = 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Σ  ------------------   Ln   -------------------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                                        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4 * π * T                       r</a:t>
              </a:r>
              <a:r>
                <a:rPr b="1" lang="es-ES" sz="1800" spc="-1" strike="noStrike" baseline="-25000">
                  <a:solidFill>
                    <a:srgbClr val="990033"/>
                  </a:solidFill>
                  <a:latin typeface="Arial"/>
                </a:rPr>
                <a:t>i</a:t>
              </a:r>
              <a:r>
                <a:rPr b="1" lang="es-ES" sz="1800" spc="-1" strike="noStrike" baseline="30000">
                  <a:solidFill>
                    <a:srgbClr val="990033"/>
                  </a:solidFill>
                  <a:latin typeface="Arial"/>
                </a:rPr>
                <a:t>2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 * 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Esta fórmula determina la depresión, que se produce en el acuífero, en un punt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que dista r</a:t>
              </a:r>
              <a:r>
                <a:rPr b="1" lang="es-ES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, r</a:t>
              </a:r>
              <a:r>
                <a:rPr b="1" lang="es-ES" sz="1600" spc="-1" strike="noStrike" baseline="-2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, ........... r</a:t>
              </a:r>
              <a:r>
                <a:rPr b="1" lang="es-ES" sz="16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de los sondajes 1, 2,....... i, de los cuales se bombean cau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dales Q</a:t>
              </a:r>
              <a:r>
                <a:rPr b="1" lang="es-ES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, Q</a:t>
              </a:r>
              <a:r>
                <a:rPr b="1" lang="es-E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, ............ Q</a:t>
              </a:r>
              <a:r>
                <a:rPr b="1" lang="es-ES" sz="16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, durante un tiempo t.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743200" y="4816440"/>
              <a:ext cx="76320" cy="51768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21240 h 517680"/>
                <a:gd name="textAreaBottom" fmla="*/ 4964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 flipV="1">
              <a:off x="6538320" y="4802040"/>
              <a:ext cx="75960" cy="517680"/>
            </a:xfrm>
            <a:custGeom>
              <a:avLst/>
              <a:gdLst>
                <a:gd name="textAreaLeft" fmla="*/ 21960 w 75960"/>
                <a:gd name="textAreaRight" fmla="*/ 75960 w 75960"/>
                <a:gd name="textAreaTop" fmla="*/ 21240 h 517680"/>
                <a:gd name="textAreaBottom" fmla="*/ 4964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083600" y="1189440"/>
            <a:ext cx="6898680" cy="4317120"/>
            <a:chOff x="1083600" y="1189440"/>
            <a:chExt cx="6898680" cy="4317120"/>
          </a:xfrm>
        </p:grpSpPr>
        <p:sp>
          <p:nvSpPr>
            <p:cNvPr id="115" name=""/>
            <p:cNvSpPr/>
            <p:nvPr/>
          </p:nvSpPr>
          <p:spPr>
            <a:xfrm>
              <a:off x="1083600" y="1189440"/>
              <a:ext cx="6898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METODOLOGÍAS DE EVALUACIÓN HIDROGEOLÓGIC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Cálculo de Interferencias (Pozos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314440" y="3476520"/>
              <a:ext cx="150840" cy="15084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305160" y="5001840"/>
              <a:ext cx="150840" cy="15084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583320" y="4392360"/>
              <a:ext cx="150840" cy="15084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678200" y="2485800"/>
              <a:ext cx="150840" cy="15084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83520" y="2121120"/>
              <a:ext cx="403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218320" y="3111840"/>
              <a:ext cx="403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493320" y="4570560"/>
              <a:ext cx="403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197880" y="5135760"/>
              <a:ext cx="403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940200" y="3357360"/>
              <a:ext cx="150480" cy="150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41800" y="2644920"/>
              <a:ext cx="325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r</a:t>
              </a:r>
              <a:r>
                <a:rPr b="1" lang="en-US" sz="16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103560" y="3418200"/>
              <a:ext cx="325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r</a:t>
              </a:r>
              <a:r>
                <a:rPr b="1" lang="en-US" sz="16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733560" y="4078440"/>
              <a:ext cx="325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r</a:t>
              </a:r>
              <a:r>
                <a:rPr b="1" lang="en-US" sz="16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276520" y="3589560"/>
              <a:ext cx="325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r</a:t>
              </a:r>
              <a:r>
                <a:rPr b="1" lang="en-US" sz="1600" spc="-1" strike="noStrike" baseline="-25000">
                  <a:solidFill>
                    <a:srgbClr val="ffff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3406680" y="3493440"/>
              <a:ext cx="583560" cy="150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2478960" y="3452040"/>
              <a:ext cx="1452240" cy="10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4080960" y="2609640"/>
              <a:ext cx="6094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081320" y="3447720"/>
              <a:ext cx="25146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118760" y="3246840"/>
              <a:ext cx="153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Punto problem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711840" y="4327920"/>
              <a:ext cx="75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ozo 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571480" y="4923000"/>
              <a:ext cx="75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ozo 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582560" y="3399120"/>
              <a:ext cx="75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ozo 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62160" y="2403720"/>
              <a:ext cx="75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ozo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2T13:27:49Z</dcterms:created>
  <dc:creator>usuario</dc:creator>
  <dc:description/>
  <dc:language>en-US</dc:language>
  <cp:lastModifiedBy>Carlos Parraguez D</cp:lastModifiedBy>
  <dcterms:modified xsi:type="dcterms:W3CDTF">2005-02-13T19:06:07Z</dcterms:modified>
  <cp:revision>707</cp:revision>
  <dc:subject/>
  <dc:title>Sin título de diapositiva</dc:title>
</cp:coreProperties>
</file>