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20E-4FC8-47C5-BC3E-4C32635E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C2E-1978-4780-9723-CF63FDD1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94A-75A9-4E0E-871B-12407C82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337-9FDB-4353-B5AC-BC3A95DC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9A4-56A2-4163-BE9F-BEFF489F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3DD-8609-4361-B0F1-956D7192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19B-E00B-4682-96C4-6BB46587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338-CF61-4471-81AB-ADCBFEE5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E7C-055E-4370-8B9B-8B85D9CA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81C-AB3C-46BF-BE2D-678AE8E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0C6-08A3-49C9-9E6E-C6595D69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955-CA3F-4B90-A616-49275215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EE53-C428-49F0-8D97-6DB080AC6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541600" y="94284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filtración desde la base de un emb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 través de un estrato perm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87640" y="26193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1560" y="1886040"/>
            <a:ext cx="6324480" cy="0"/>
          </a:xfrm>
          <a:prstGeom prst="line">
            <a:avLst/>
          </a:prstGeom>
          <a:ln w="2232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82960" y="31431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65320" y="4100400"/>
            <a:ext cx="6294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800" y="164160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Nivel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en el Embal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400" y="2352600"/>
            <a:ext cx="11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echo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680" y="29192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Base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720" y="384336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ivel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19920" y="2500200"/>
            <a:ext cx="113040" cy="723960"/>
            <a:chOff x="2419920" y="2500200"/>
            <a:chExt cx="113040" cy="723960"/>
          </a:xfrm>
        </p:grpSpPr>
        <p:sp>
          <p:nvSpPr>
            <p:cNvPr id="284" name=""/>
            <p:cNvSpPr/>
            <p:nvPr/>
          </p:nvSpPr>
          <p:spPr>
            <a:xfrm>
              <a:off x="2476440" y="250020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19920" y="306072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419920" y="256068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97680" y="27241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e = espesor satu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83040" y="1700280"/>
            <a:ext cx="164160" cy="1047240"/>
            <a:chOff x="2183040" y="1700280"/>
            <a:chExt cx="164160" cy="1047240"/>
          </a:xfrm>
        </p:grpSpPr>
        <p:sp>
          <p:nvSpPr>
            <p:cNvPr id="289" name=""/>
            <p:cNvSpPr/>
            <p:nvPr/>
          </p:nvSpPr>
          <p:spPr>
            <a:xfrm>
              <a:off x="2265120" y="1700280"/>
              <a:ext cx="0" cy="10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183040" y="25110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83040" y="17874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308680" y="20764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 = altura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81280" y="27288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6000" y="34909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55640" y="3030480"/>
            <a:ext cx="133200" cy="1190520"/>
            <a:chOff x="7055640" y="3030480"/>
            <a:chExt cx="133200" cy="1190520"/>
          </a:xfrm>
        </p:grpSpPr>
        <p:sp>
          <p:nvSpPr>
            <p:cNvPr id="296" name=""/>
            <p:cNvSpPr/>
            <p:nvPr/>
          </p:nvSpPr>
          <p:spPr>
            <a:xfrm>
              <a:off x="7122960" y="3030480"/>
              <a:ext cx="0" cy="1190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60680" y="4021200"/>
              <a:ext cx="12816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55640" y="3063960"/>
              <a:ext cx="12780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003520" y="1762200"/>
            <a:ext cx="137520" cy="2450880"/>
            <a:chOff x="8003520" y="1762200"/>
            <a:chExt cx="137520" cy="2450880"/>
          </a:xfrm>
        </p:grpSpPr>
        <p:sp>
          <p:nvSpPr>
            <p:cNvPr id="300" name=""/>
            <p:cNvSpPr/>
            <p:nvPr/>
          </p:nvSpPr>
          <p:spPr>
            <a:xfrm>
              <a:off x="8077320" y="1762200"/>
              <a:ext cx="0" cy="24508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13240" y="180216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03520" y="402624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83000" y="451656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radiente Hidráu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4906800"/>
            <a:ext cx="120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-------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50626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 = H +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41000" y="4888080"/>
            <a:ext cx="10861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  ------  +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240" y="5726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dal Infilt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5800" y="5719680"/>
            <a:ext cx="1000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1320" y="5724360"/>
            <a:ext cx="49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onde K es la permeabilidad vertical y A es la superficie inund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 altura H (K vertical = 0,1 * K horizonta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05960" y="2737440"/>
            <a:ext cx="564840" cy="115920"/>
          </a:xfrm>
          <a:custGeom>
            <a:avLst/>
            <a:gdLst>
              <a:gd name="textAreaLeft" fmla="*/ 70560 w 564840"/>
              <a:gd name="textAreaRight" fmla="*/ 494280 w 5648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31400" y="268596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ilt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43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49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71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93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94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8800" y="754920"/>
            <a:ext cx="8079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 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9520" y="837000"/>
            <a:ext cx="688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alidación de Resultados (Balance Aniónico-Catión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1893960"/>
            <a:ext cx="7772400" cy="3806640"/>
            <a:chOff x="647640" y="1893960"/>
            <a:chExt cx="7772400" cy="3806640"/>
          </a:xfrm>
        </p:grpSpPr>
        <p:graphicFrame>
          <p:nvGraphicFramePr>
            <p:cNvPr id="434" name=""/>
            <p:cNvGraphicFramePr/>
            <p:nvPr/>
          </p:nvGraphicFramePr>
          <p:xfrm>
            <a:off x="838080" y="1893960"/>
            <a:ext cx="7239240" cy="203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93960"/>
                      <a:ext cx="7239240" cy="20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647640" y="4230720"/>
            <a:ext cx="7772400" cy="1469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640" y="4230720"/>
                      <a:ext cx="777240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319680" y="5886360"/>
            <a:ext cx="83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 la diferencia entre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os aniones y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de los cationes, expresados en me/l, es menor de 6%, el análi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uede considerarse válid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35600" y="2489040"/>
            <a:ext cx="2836800" cy="2159280"/>
            <a:chOff x="4935600" y="2489040"/>
            <a:chExt cx="2836800" cy="2159280"/>
          </a:xfrm>
        </p:grpSpPr>
        <p:grpSp>
          <p:nvGrpSpPr>
            <p:cNvPr id="447" name=""/>
            <p:cNvGrpSpPr/>
            <p:nvPr/>
          </p:nvGrpSpPr>
          <p:grpSpPr>
            <a:xfrm>
              <a:off x="4935600" y="2489040"/>
              <a:ext cx="2836800" cy="2159280"/>
              <a:chOff x="4935600" y="2489040"/>
              <a:chExt cx="2836800" cy="2159280"/>
            </a:xfrm>
          </p:grpSpPr>
          <p:sp>
            <p:nvSpPr>
              <p:cNvPr id="448" name=""/>
              <p:cNvSpPr/>
              <p:nvPr/>
            </p:nvSpPr>
            <p:spPr>
              <a:xfrm>
                <a:off x="6365880" y="2489040"/>
                <a:ext cx="0" cy="2159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4935600" y="2670120"/>
                <a:ext cx="2835000" cy="85320"/>
                <a:chOff x="4935600" y="2670120"/>
                <a:chExt cx="2835000" cy="85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935600" y="27104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3560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832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221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364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506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649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792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3568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083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2215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64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07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49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92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35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078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2216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3627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96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38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762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937400" y="2946240"/>
                <a:ext cx="2835000" cy="85320"/>
                <a:chOff x="4937400" y="2946240"/>
                <a:chExt cx="2835000" cy="853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37400" y="29865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3740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0850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222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365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508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51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94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93748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85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2233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365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08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51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94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937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080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2234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3645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498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640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764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937400" y="3213000"/>
                <a:ext cx="2835000" cy="85320"/>
                <a:chOff x="4937400" y="3213000"/>
                <a:chExt cx="2835000" cy="85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937400" y="32533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93740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0850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222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65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08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651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94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3748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085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233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65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08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651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794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7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80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234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3645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498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640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764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5407200" y="2708640"/>
              <a:ext cx="361800" cy="280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277960" y="2984400"/>
              <a:ext cx="493200" cy="271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751080" y="2706120"/>
              <a:ext cx="570600" cy="28332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50720" y="2994120"/>
              <a:ext cx="261000" cy="25524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143000" y="2514600"/>
            <a:ext cx="2836800" cy="2158920"/>
            <a:chOff x="1143000" y="2514600"/>
            <a:chExt cx="2836800" cy="2158920"/>
          </a:xfrm>
        </p:grpSpPr>
        <p:grpSp>
          <p:nvGrpSpPr>
            <p:cNvPr id="523" name=""/>
            <p:cNvGrpSpPr/>
            <p:nvPr/>
          </p:nvGrpSpPr>
          <p:grpSpPr>
            <a:xfrm>
              <a:off x="1143000" y="2514600"/>
              <a:ext cx="2836800" cy="2158920"/>
              <a:chOff x="1143000" y="2514600"/>
              <a:chExt cx="2836800" cy="2158920"/>
            </a:xfrm>
          </p:grpSpPr>
          <p:sp>
            <p:nvSpPr>
              <p:cNvPr id="524" name=""/>
              <p:cNvSpPr/>
              <p:nvPr/>
            </p:nvSpPr>
            <p:spPr>
              <a:xfrm>
                <a:off x="2573280" y="2514600"/>
                <a:ext cx="0" cy="2158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1143000" y="2695320"/>
                <a:ext cx="2835000" cy="84960"/>
                <a:chOff x="1143000" y="2695320"/>
                <a:chExt cx="2835000" cy="849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143000" y="27356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4300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906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428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571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714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857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00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14308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90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4289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571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14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57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000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143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86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290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5701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703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846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970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144800" y="2971440"/>
                <a:ext cx="2835000" cy="84960"/>
                <a:chOff x="1144800" y="2971440"/>
                <a:chExt cx="2835000" cy="84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144800" y="30117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4480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924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30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73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16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859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01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4488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292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4307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573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16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59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02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44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87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4308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5719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705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848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971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1144800" y="3238200"/>
                <a:ext cx="2835000" cy="84960"/>
                <a:chOff x="1144800" y="3238200"/>
                <a:chExt cx="2835000" cy="849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144800" y="32785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14480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2924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30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573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716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859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01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14488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2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4307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73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16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859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02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44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87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308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5719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705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848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971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1614600" y="2733840"/>
              <a:ext cx="361800" cy="27972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485360" y="3009600"/>
              <a:ext cx="493200" cy="271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958480" y="2731320"/>
              <a:ext cx="570240" cy="28296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58120" y="3019320"/>
              <a:ext cx="261000" cy="25488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 D</cp:lastModifiedBy>
  <dcterms:modified xsi:type="dcterms:W3CDTF">2005-02-13T19:06:07Z</dcterms:modified>
  <cp:revision>707</cp:revision>
  <dc:subject/>
  <dc:title>Sin título de diapositiva</dc:title>
</cp:coreProperties>
</file>