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86B-E75A-4982-8213-F05952BD9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308F-D3A0-473A-AB86-D56B38C54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A3C9-BF45-4E70-9894-25738D6CD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F3BD-51C6-46CB-BC7F-478299319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578-D617-4E5F-A1E9-A9F9B5E5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E104-BF3C-4CD5-B2BE-20A0D4B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B22-1AAA-4FC4-AA8E-3AAD3980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F39-225F-4A4E-9C93-1D947C97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3770-1B67-4FEA-86DD-950F8669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F633-F2BD-4DEE-8831-8A4BBEA9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AC67-CE72-44E4-8E04-580FA700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28C6-73D8-4873-AE38-105CFE27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54BED-AEDB-404C-A421-B7467702D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060280" y="1481040"/>
            <a:ext cx="4702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CURS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ÍDRIC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epartamento de Geolog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Universidad de Chi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26160" y="1221480"/>
            <a:ext cx="8564400" cy="4285080"/>
            <a:chOff x="326160" y="1221480"/>
            <a:chExt cx="8564400" cy="4285080"/>
          </a:xfrm>
        </p:grpSpPr>
        <p:sp>
          <p:nvSpPr>
            <p:cNvPr id="140" name=""/>
            <p:cNvSpPr/>
            <p:nvPr/>
          </p:nvSpPr>
          <p:spPr>
            <a:xfrm>
              <a:off x="326160" y="1221480"/>
              <a:ext cx="8564400" cy="21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entregado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l caudal que entregará un dren, por metro de longitud y en condiciones de desequ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librio, depende de los siguientes parámetros : la permeabilidad del acuífero, el co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ficiente de almacenamiento del mismo,  del radio del dren y de la magnitud del desc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o del nivel estático para alcanzar la clave de la tuberí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1347840" y="3689280"/>
              <a:ext cx="6324480" cy="1817280"/>
              <a:chOff x="1347840" y="3689280"/>
              <a:chExt cx="6324480" cy="181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1393920" y="3689280"/>
                <a:ext cx="614988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347840" y="387036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6000" y="3946680"/>
                <a:ext cx="308772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4466520" y="395280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32160" y="4775040"/>
                <a:ext cx="48276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768760" y="47102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5714280" y="471492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33960" y="501480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724280" y="5024520"/>
                <a:ext cx="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362480" y="5199480"/>
                <a:ext cx="25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4481640" y="38858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1640" y="443304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59240" y="41709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2760" y="1009800"/>
            <a:ext cx="840096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entregado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caudal por metro de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 * π  * 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2000" spc="-1" strike="noStrike" baseline="-25000">
                <a:solidFill>
                  <a:srgbClr val="990033"/>
                </a:solidFill>
                <a:latin typeface="Arial"/>
              </a:rPr>
              <a:t>u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=  --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Ln (0,88 * (K*t/S*r)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 (m) es el descenso del NE hasta la clave del dre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l dre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caudal aportado por todo el dren (Q), deberá hacerse el produc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tre Q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el largo de la ob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1680" y="927360"/>
            <a:ext cx="8042760" cy="54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 la depresión generada por un dr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que permite determinar el descenso de la superficie freática, en u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ubicado a cierta distancia de un dren,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                      0,882 * K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Δ =  ---------      Ln ----------------------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π * K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S * 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Δ (m) es el descenso generado en el punto problema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 por metro de dren) es el caudal unitari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x (m) es la distancia al dren del punto donde se calcula el descens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K (m/día) es la permeabil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operación del dren para el cual se calcula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ens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704520" y="1370520"/>
            <a:ext cx="6972480" cy="3658320"/>
            <a:chOff x="704520" y="1370520"/>
            <a:chExt cx="6972480" cy="3658320"/>
          </a:xfrm>
        </p:grpSpPr>
        <p:sp>
          <p:nvSpPr>
            <p:cNvPr id="161" name=""/>
            <p:cNvSpPr/>
            <p:nvPr/>
          </p:nvSpPr>
          <p:spPr>
            <a:xfrm>
              <a:off x="704520" y="13705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la depresión generada por un dr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1352520" y="2790720"/>
              <a:ext cx="6324480" cy="2238120"/>
              <a:chOff x="1352520" y="2790720"/>
              <a:chExt cx="6324480" cy="2238120"/>
            </a:xfrm>
          </p:grpSpPr>
          <p:sp>
            <p:nvSpPr>
              <p:cNvPr id="163" name=""/>
              <p:cNvSpPr/>
              <p:nvPr/>
            </p:nvSpPr>
            <p:spPr>
              <a:xfrm>
                <a:off x="1428480" y="2790720"/>
                <a:ext cx="61495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52520" y="3095280"/>
                <a:ext cx="63244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460160" y="354780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4541400" y="3554280"/>
                <a:ext cx="3087360" cy="80784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98760" y="4365360"/>
                <a:ext cx="482040" cy="482760"/>
              </a:xfrm>
              <a:prstGeom prst="donut">
                <a:avLst>
                  <a:gd name="adj" fmla="val 25000"/>
                </a:avLst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01680" y="4344840"/>
                <a:ext cx="507600" cy="198360"/>
              </a:xfrm>
              <a:prstGeom prst="rightArrow">
                <a:avLst>
                  <a:gd name="adj1" fmla="val 50000"/>
                  <a:gd name="adj2" fmla="val 63975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5947200" y="4344840"/>
                <a:ext cx="507960" cy="198360"/>
              </a:xfrm>
              <a:prstGeom prst="rightArrow">
                <a:avLst>
                  <a:gd name="adj1" fmla="val 50000"/>
                  <a:gd name="adj2" fmla="val 64020"/>
                </a:avLst>
              </a:prstGeom>
              <a:solidFill>
                <a:srgbClr val="ff99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3814560" y="3090240"/>
                <a:ext cx="0" cy="33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14560" y="37288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639960" y="339012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990033"/>
                    </a:solidFill>
                    <a:latin typeface="Arial"/>
                  </a:rPr>
                  <a:t>Δ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819240" y="4474800"/>
                <a:ext cx="0" cy="55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8520" y="4619520"/>
                <a:ext cx="0" cy="40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719160" y="4952880"/>
                <a:ext cx="894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004640" y="46753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0080" y="849240"/>
            <a:ext cx="83768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ndo un río cruza un área de recuperación de agua subterránea, su caudal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imenta de los aportes provenientes del acuífero, de forma que si se proyecta un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 partir de un pozo cercano, parte importante de los recursos obtenid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 pozo pueden estarse consiguiendo a expensas del rí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l impacto en el río se utiliza el método de Jenk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1968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tiene los mismos supuestos de los métodos de interpretación de en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os de bombeo y en estricto rigor debiera aplicarse a acuíferos confinados, sin 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argo es una válida aproximación para acuíferos libr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solución del problema el autor estructuró un ábaco al cual converg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uientes variabl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constante bombeado por el poz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el caudal derivado del rí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Q*t es el volumen bombeado hasta el tiempo t (días)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) es el volumen total aportado por el río en el tiempo 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/día) es la transmisividad del acuíf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 es el almacenamiento del acuífero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 (días) es el tiempo desde que se inicia el bombeo; 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 (m) es la distancia del pozo al río o borde de recarg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517760" y="1294560"/>
            <a:ext cx="5986440" cy="5105880"/>
            <a:chOff x="1517760" y="1294560"/>
            <a:chExt cx="5986440" cy="5105880"/>
          </a:xfrm>
        </p:grpSpPr>
        <p:sp>
          <p:nvSpPr>
            <p:cNvPr id="181" name=""/>
            <p:cNvSpPr/>
            <p:nvPr/>
          </p:nvSpPr>
          <p:spPr>
            <a:xfrm>
              <a:off x="1593720" y="367200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89520" y="3672000"/>
              <a:ext cx="3379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1640" y="367200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3760920" y="3652560"/>
              <a:ext cx="228600" cy="66492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62320" y="431640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17760" y="4100400"/>
              <a:ext cx="236376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4613400" y="3519360"/>
              <a:ext cx="152280" cy="2881080"/>
              <a:chOff x="4613400" y="3519360"/>
              <a:chExt cx="152280" cy="2881080"/>
            </a:xfrm>
          </p:grpSpPr>
          <p:sp>
            <p:nvSpPr>
              <p:cNvPr id="188" name=""/>
              <p:cNvSpPr/>
              <p:nvPr/>
            </p:nvSpPr>
            <p:spPr>
              <a:xfrm>
                <a:off x="4613400" y="3519360"/>
                <a:ext cx="152280" cy="1800000"/>
              </a:xfrm>
              <a:prstGeom prst="rect">
                <a:avLst/>
              </a:prstGeom>
              <a:solidFill>
                <a:srgbClr val="ff9900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89" name=""/>
              <p:cNvGrpSpPr/>
              <p:nvPr/>
            </p:nvGrpSpPr>
            <p:grpSpPr>
              <a:xfrm>
                <a:off x="4613400" y="5321160"/>
                <a:ext cx="152280" cy="1079280"/>
                <a:chOff x="4613400" y="5321160"/>
                <a:chExt cx="152280" cy="107928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613400" y="5321160"/>
                  <a:ext cx="152280" cy="1079280"/>
                </a:xfrm>
                <a:prstGeom prst="rect">
                  <a:avLst/>
                </a:prstGeom>
                <a:noFill/>
                <a:ln w="223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3400" y="54097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613400" y="54860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13400" y="55623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13400" y="56383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613400" y="57146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613400" y="57909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613400" y="58669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13400" y="59432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613400" y="60195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3400" y="60955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3400" y="617184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613400" y="624816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3400" y="6324120"/>
                  <a:ext cx="1522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4" name=""/>
            <p:cNvSpPr/>
            <p:nvPr/>
          </p:nvSpPr>
          <p:spPr>
            <a:xfrm>
              <a:off x="3851280" y="4086360"/>
              <a:ext cx="754200" cy="1054080"/>
            </a:xfrm>
            <a:custGeom>
              <a:avLst/>
              <a:gdLst/>
              <a:ahLst/>
              <a:rect l="l" t="t" r="r" b="b"/>
              <a:pathLst>
                <a:path w="475" h="664">
                  <a:moveTo>
                    <a:pt x="0" y="0"/>
                  </a:moveTo>
                  <a:cubicBezTo>
                    <a:pt x="32" y="12"/>
                    <a:pt x="63" y="22"/>
                    <a:pt x="96" y="48"/>
                  </a:cubicBezTo>
                  <a:cubicBezTo>
                    <a:pt x="129" y="74"/>
                    <a:pt x="168" y="121"/>
                    <a:pt x="199" y="159"/>
                  </a:cubicBezTo>
                  <a:cubicBezTo>
                    <a:pt x="230" y="197"/>
                    <a:pt x="256" y="237"/>
                    <a:pt x="280" y="276"/>
                  </a:cubicBezTo>
                  <a:cubicBezTo>
                    <a:pt x="304" y="315"/>
                    <a:pt x="322" y="352"/>
                    <a:pt x="343" y="393"/>
                  </a:cubicBezTo>
                  <a:cubicBezTo>
                    <a:pt x="364" y="434"/>
                    <a:pt x="387" y="480"/>
                    <a:pt x="409" y="525"/>
                  </a:cubicBezTo>
                  <a:cubicBezTo>
                    <a:pt x="431" y="570"/>
                    <a:pt x="461" y="635"/>
                    <a:pt x="475" y="664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599000" y="5143680"/>
              <a:ext cx="17928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65680" y="4129200"/>
              <a:ext cx="2682720" cy="1009440"/>
            </a:xfrm>
            <a:custGeom>
              <a:avLst/>
              <a:gdLst/>
              <a:ahLst/>
              <a:rect l="l" t="t" r="r" b="b"/>
              <a:pathLst>
                <a:path w="1690" h="636">
                  <a:moveTo>
                    <a:pt x="0" y="636"/>
                  </a:moveTo>
                  <a:cubicBezTo>
                    <a:pt x="22" y="618"/>
                    <a:pt x="84" y="562"/>
                    <a:pt x="135" y="527"/>
                  </a:cubicBezTo>
                  <a:cubicBezTo>
                    <a:pt x="186" y="492"/>
                    <a:pt x="244" y="460"/>
                    <a:pt x="308" y="427"/>
                  </a:cubicBezTo>
                  <a:cubicBezTo>
                    <a:pt x="372" y="394"/>
                    <a:pt x="452" y="356"/>
                    <a:pt x="517" y="327"/>
                  </a:cubicBezTo>
                  <a:cubicBezTo>
                    <a:pt x="582" y="298"/>
                    <a:pt x="634" y="278"/>
                    <a:pt x="699" y="254"/>
                  </a:cubicBezTo>
                  <a:cubicBezTo>
                    <a:pt x="764" y="230"/>
                    <a:pt x="838" y="205"/>
                    <a:pt x="909" y="182"/>
                  </a:cubicBezTo>
                  <a:cubicBezTo>
                    <a:pt x="980" y="159"/>
                    <a:pt x="1046" y="139"/>
                    <a:pt x="1126" y="118"/>
                  </a:cubicBezTo>
                  <a:cubicBezTo>
                    <a:pt x="1206" y="97"/>
                    <a:pt x="1296" y="74"/>
                    <a:pt x="1390" y="54"/>
                  </a:cubicBezTo>
                  <a:cubicBezTo>
                    <a:pt x="1484" y="34"/>
                    <a:pt x="1640" y="9"/>
                    <a:pt x="1690" y="0"/>
                  </a:cubicBezTo>
                </a:path>
              </a:pathLst>
            </a:custGeom>
            <a:noFill/>
            <a:ln w="2232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44800" y="4081320"/>
              <a:ext cx="35528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56160" y="4314960"/>
              <a:ext cx="676080" cy="1174680"/>
            </a:xfrm>
            <a:custGeom>
              <a:avLst/>
              <a:gdLst/>
              <a:ahLst/>
              <a:rect l="l" t="t" r="r" b="b"/>
              <a:pathLst>
                <a:path w="426" h="740">
                  <a:moveTo>
                    <a:pt x="0" y="0"/>
                  </a:moveTo>
                  <a:lnTo>
                    <a:pt x="44" y="176"/>
                  </a:lnTo>
                  <a:lnTo>
                    <a:pt x="135" y="395"/>
                  </a:lnTo>
                  <a:lnTo>
                    <a:pt x="235" y="577"/>
                  </a:lnTo>
                  <a:lnTo>
                    <a:pt x="426" y="74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10600" y="4262400"/>
              <a:ext cx="576720" cy="80964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452760" y="4314960"/>
              <a:ext cx="746280" cy="1490400"/>
            </a:xfrm>
            <a:custGeom>
              <a:avLst/>
              <a:gdLst/>
              <a:ahLst/>
              <a:rect l="l" t="t" r="r" b="b"/>
              <a:pathLst>
                <a:path w="470" h="939">
                  <a:moveTo>
                    <a:pt x="0" y="0"/>
                  </a:moveTo>
                  <a:lnTo>
                    <a:pt x="37" y="236"/>
                  </a:lnTo>
                  <a:lnTo>
                    <a:pt x="73" y="436"/>
                  </a:lnTo>
                  <a:lnTo>
                    <a:pt x="155" y="618"/>
                  </a:lnTo>
                  <a:lnTo>
                    <a:pt x="237" y="754"/>
                  </a:lnTo>
                  <a:lnTo>
                    <a:pt x="337" y="854"/>
                  </a:lnTo>
                  <a:lnTo>
                    <a:pt x="470" y="939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76560" y="4314960"/>
              <a:ext cx="1079280" cy="603000"/>
            </a:xfrm>
            <a:custGeom>
              <a:avLst/>
              <a:gdLst/>
              <a:ahLst/>
              <a:rect l="l" t="t" r="r" b="b"/>
              <a:pathLst>
                <a:path w="680" h="380">
                  <a:moveTo>
                    <a:pt x="0" y="380"/>
                  </a:moveTo>
                  <a:lnTo>
                    <a:pt x="170" y="345"/>
                  </a:lnTo>
                  <a:lnTo>
                    <a:pt x="352" y="254"/>
                  </a:lnTo>
                  <a:lnTo>
                    <a:pt x="498" y="154"/>
                  </a:lnTo>
                  <a:lnTo>
                    <a:pt x="68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352600" y="4230720"/>
              <a:ext cx="75096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89120" y="1314360"/>
              <a:ext cx="14716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84560" y="1314360"/>
              <a:ext cx="338004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37040" y="131436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855960" y="1295280"/>
              <a:ext cx="228600" cy="66528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357720" y="1967040"/>
              <a:ext cx="49680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12800" y="1743120"/>
              <a:ext cx="5891400" cy="0"/>
            </a:xfrm>
            <a:prstGeom prst="line">
              <a:avLst/>
            </a:prstGeom>
            <a:ln w="2232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505240" y="1871640"/>
              <a:ext cx="750600" cy="158760"/>
            </a:xfrm>
            <a:custGeom>
              <a:avLst/>
              <a:gdLst/>
              <a:ahLst/>
              <a:rect l="l" t="t" r="r" b="b"/>
              <a:pathLst>
                <a:path w="473" h="100">
                  <a:moveTo>
                    <a:pt x="0" y="100"/>
                  </a:moveTo>
                  <a:lnTo>
                    <a:pt x="244" y="64"/>
                  </a:lnTo>
                  <a:lnTo>
                    <a:pt x="473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179800" y="1990800"/>
              <a:ext cx="1185840" cy="563400"/>
            </a:xfrm>
            <a:custGeom>
              <a:avLst/>
              <a:gdLst/>
              <a:ahLst/>
              <a:rect l="l" t="t" r="r" b="b"/>
              <a:pathLst>
                <a:path w="747" h="355">
                  <a:moveTo>
                    <a:pt x="0" y="355"/>
                  </a:moveTo>
                  <a:lnTo>
                    <a:pt x="227" y="319"/>
                  </a:lnTo>
                  <a:lnTo>
                    <a:pt x="419" y="254"/>
                  </a:lnTo>
                  <a:lnTo>
                    <a:pt x="565" y="154"/>
                  </a:lnTo>
                  <a:lnTo>
                    <a:pt x="747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57400" y="2117880"/>
              <a:ext cx="1434960" cy="87300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3595680" y="2123640"/>
              <a:ext cx="0" cy="762120"/>
            </a:xfrm>
            <a:prstGeom prst="line">
              <a:avLst/>
            </a:prstGeom>
            <a:ln w="22320">
              <a:solidFill>
                <a:srgbClr val="ff99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3766320" y="2147760"/>
              <a:ext cx="1435320" cy="873360"/>
            </a:xfrm>
            <a:custGeom>
              <a:avLst/>
              <a:gdLst/>
              <a:ahLst/>
              <a:rect l="l" t="t" r="r" b="b"/>
              <a:pathLst>
                <a:path w="904" h="550">
                  <a:moveTo>
                    <a:pt x="0" y="550"/>
                  </a:moveTo>
                  <a:lnTo>
                    <a:pt x="245" y="496"/>
                  </a:lnTo>
                  <a:lnTo>
                    <a:pt x="454" y="414"/>
                  </a:lnTo>
                  <a:lnTo>
                    <a:pt x="627" y="286"/>
                  </a:lnTo>
                  <a:lnTo>
                    <a:pt x="763" y="159"/>
                  </a:lnTo>
                  <a:lnTo>
                    <a:pt x="904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81600" y="1893960"/>
              <a:ext cx="2438280" cy="706320"/>
            </a:xfrm>
            <a:custGeom>
              <a:avLst/>
              <a:gdLst/>
              <a:ahLst/>
              <a:rect l="l" t="t" r="r" b="b"/>
              <a:pathLst>
                <a:path w="1536" h="445">
                  <a:moveTo>
                    <a:pt x="1536" y="445"/>
                  </a:moveTo>
                  <a:lnTo>
                    <a:pt x="1209" y="445"/>
                  </a:lnTo>
                  <a:lnTo>
                    <a:pt x="927" y="418"/>
                  </a:lnTo>
                  <a:lnTo>
                    <a:pt x="691" y="364"/>
                  </a:lnTo>
                  <a:lnTo>
                    <a:pt x="463" y="291"/>
                  </a:lnTo>
                  <a:lnTo>
                    <a:pt x="227" y="17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27560" y="129456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26040" y="3666240"/>
              <a:ext cx="375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rí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789080" y="3749040"/>
              <a:ext cx="535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52880" y="4503600"/>
              <a:ext cx="2435400" cy="870120"/>
            </a:xfrm>
            <a:custGeom>
              <a:avLst/>
              <a:gdLst/>
              <a:ahLst/>
              <a:rect l="l" t="t" r="r" b="b"/>
              <a:pathLst>
                <a:path w="1534" h="548">
                  <a:moveTo>
                    <a:pt x="1534" y="0"/>
                  </a:moveTo>
                  <a:lnTo>
                    <a:pt x="1180" y="73"/>
                  </a:lnTo>
                  <a:lnTo>
                    <a:pt x="952" y="128"/>
                  </a:lnTo>
                  <a:lnTo>
                    <a:pt x="725" y="191"/>
                  </a:lnTo>
                  <a:lnTo>
                    <a:pt x="489" y="282"/>
                  </a:lnTo>
                  <a:lnTo>
                    <a:pt x="261" y="382"/>
                  </a:lnTo>
                  <a:lnTo>
                    <a:pt x="0" y="54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948200" y="5254560"/>
              <a:ext cx="2425680" cy="441360"/>
            </a:xfrm>
            <a:custGeom>
              <a:avLst/>
              <a:gdLst/>
              <a:ahLst/>
              <a:rect l="l" t="t" r="r" b="b"/>
              <a:pathLst>
                <a:path w="1528" h="278">
                  <a:moveTo>
                    <a:pt x="1528" y="0"/>
                  </a:moveTo>
                  <a:lnTo>
                    <a:pt x="1346" y="18"/>
                  </a:lnTo>
                  <a:lnTo>
                    <a:pt x="1101" y="45"/>
                  </a:lnTo>
                  <a:lnTo>
                    <a:pt x="792" y="91"/>
                  </a:lnTo>
                  <a:lnTo>
                    <a:pt x="510" y="145"/>
                  </a:lnTo>
                  <a:lnTo>
                    <a:pt x="265" y="200"/>
                  </a:lnTo>
                  <a:lnTo>
                    <a:pt x="0" y="278"/>
                  </a:lnTo>
                </a:path>
              </a:pathLst>
            </a:custGeom>
            <a:noFill/>
            <a:ln w="22320">
              <a:solidFill>
                <a:srgbClr val="ff99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 rot="16200000">
              <a:off x="4632480" y="3358080"/>
              <a:ext cx="277920" cy="266760"/>
            </a:xfrm>
            <a:custGeom>
              <a:avLst/>
              <a:gdLst>
                <a:gd name="textAreaLeft" fmla="*/ 92520 w 277920"/>
                <a:gd name="textAreaRight" fmla="*/ 238320 w 277920"/>
                <a:gd name="textAreaTop" fmla="*/ 153360 h 266760"/>
                <a:gd name="textAreaBottom" fmla="*/ 228240 h 26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79800" y="3275640"/>
              <a:ext cx="319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370080" y="751320"/>
            <a:ext cx="8376840" cy="5878080"/>
            <a:chOff x="370080" y="751320"/>
            <a:chExt cx="8376840" cy="5878080"/>
          </a:xfrm>
        </p:grpSpPr>
        <p:sp>
          <p:nvSpPr>
            <p:cNvPr id="234" name=""/>
            <p:cNvSpPr/>
            <p:nvPr/>
          </p:nvSpPr>
          <p:spPr>
            <a:xfrm>
              <a:off x="370080" y="751320"/>
              <a:ext cx="8376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audal aportado por un río drenante al bombeo de un pozo aledañ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35" name=""/>
            <p:cNvGraphicFramePr/>
            <p:nvPr/>
          </p:nvGraphicFramePr>
          <p:xfrm>
            <a:off x="1978200" y="1523880"/>
            <a:ext cx="5062320" cy="51055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8200" y="1523880"/>
                      <a:ext cx="506232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0080" y="1407600"/>
            <a:ext cx="837684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udal aportado por un río drenante al bombeo de un pozo aled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método consiste en determinar el parámetro auxiliar del ábac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800" spc="-1" strike="noStrike" u="sng">
                <a:solidFill>
                  <a:srgbClr val="990033"/>
                </a:solidFill>
                <a:uFillTx/>
                <a:latin typeface="Arial"/>
              </a:rPr>
              <a:t>    </a:t>
            </a:r>
            <a:r>
              <a:rPr b="1" lang="es-ES" sz="2000" spc="-1" strike="noStrike" u="sng">
                <a:solidFill>
                  <a:srgbClr val="990033"/>
                </a:solidFill>
                <a:uFillTx/>
                <a:latin typeface="Arial"/>
              </a:rPr>
              <a:t>T * t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                                             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x</a:t>
            </a:r>
            <a:r>
              <a:rPr b="1" lang="es-ES" sz="2000" spc="-1" strike="noStrike" baseline="30000">
                <a:solidFill>
                  <a:srgbClr val="990033"/>
                </a:solidFill>
                <a:latin typeface="Arial"/>
              </a:rPr>
              <a:t>2 </a:t>
            </a:r>
            <a:r>
              <a:rPr b="1" lang="es-ES" sz="2000" spc="-1" strike="noStrike">
                <a:solidFill>
                  <a:srgbClr val="990033"/>
                </a:solidFill>
                <a:latin typeface="Arial"/>
              </a:rPr>
              <a:t>* 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valor de dicho parámetro se entra al ábaco para determina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Q*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diante los cuales se pueden determinar las variables de interés (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Q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V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i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 ya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 y t son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70440" y="863640"/>
            <a:ext cx="8338680" cy="5634360"/>
            <a:chOff x="370440" y="863640"/>
            <a:chExt cx="8338680" cy="5634360"/>
          </a:xfrm>
        </p:grpSpPr>
        <p:sp>
          <p:nvSpPr>
            <p:cNvPr id="241" name=""/>
            <p:cNvSpPr/>
            <p:nvPr/>
          </p:nvSpPr>
          <p:spPr>
            <a:xfrm>
              <a:off x="370440" y="863640"/>
              <a:ext cx="8338680" cy="56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Interferencia generada por una serie de drenes paralel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uando se requiere deprimir la superficie freática en un área, con el objeto de util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zar los terrenos en actividades agrícolas, industriales o urbanas, el método más 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iente consiste en diseñar sistemas de drenes, que al interferirse, generen la depr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ón necesaria en cada cas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La depresión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que se produce </a:t>
              </a:r>
              <a:r>
                <a:rPr b="1" lang="es-ES" sz="1600" spc="-1" strike="noStrike">
                  <a:solidFill>
                    <a:srgbClr val="ffcc00"/>
                  </a:solidFill>
                  <a:latin typeface="Arial"/>
                </a:rPr>
                <a:t>en el punto medio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entre dos drenes consecutivo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da definida por la si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2 * Q                  1,764 * K * t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</a:t>
              </a:r>
              <a:r>
                <a:rPr b="1" lang="es-ES" sz="2400" spc="-1" strike="noStrike" baseline="30000">
                  <a:solidFill>
                    <a:srgbClr val="990033"/>
                  </a:solidFill>
                  <a:latin typeface="Arial"/>
                </a:rPr>
                <a:t>n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=   -----------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Ln        ---------------------    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π * K                       S * D                (2n - 1) !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ond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Q (m</a:t>
              </a:r>
              <a:r>
                <a:rPr b="1" lang="es-ES" sz="14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/día) es el caudal que entrega cada dren por unidad de longitud al tiempo t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K (m/día) es la permeabilidad del acuífero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S es el coeficiente de almacenamiento y D (m) la distancia entre drenes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t (días) es el tiempo de extracción para el cual se desea calcular la depresión Δ (m); 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n es el número de drenes existentes hacia cada costado del punto problema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57600" y="396252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72280" y="396252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62520" y="3962520"/>
              <a:ext cx="75960" cy="914400"/>
            </a:xfrm>
            <a:custGeom>
              <a:avLst/>
              <a:gdLst>
                <a:gd name="textAreaLeft" fmla="*/ 22320 w 75960"/>
                <a:gd name="textAreaRight" fmla="*/ 76320 w 7596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8680" y="3962520"/>
              <a:ext cx="76320" cy="914400"/>
            </a:xfrm>
            <a:custGeom>
              <a:avLst/>
              <a:gdLst>
                <a:gd name="textAreaLeft" fmla="*/ 0 w 76320"/>
                <a:gd name="textAreaRight" fmla="*/ 53640 w 76320"/>
                <a:gd name="textAreaTop" fmla="*/ 37800 h 914400"/>
                <a:gd name="textAreaBottom" fmla="*/ 87660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004760" y="1407600"/>
            <a:ext cx="6858000" cy="2580120"/>
            <a:chOff x="1004760" y="1407600"/>
            <a:chExt cx="6858000" cy="2580120"/>
          </a:xfrm>
        </p:grpSpPr>
        <p:sp>
          <p:nvSpPr>
            <p:cNvPr id="248" name=""/>
            <p:cNvSpPr/>
            <p:nvPr/>
          </p:nvSpPr>
          <p:spPr>
            <a:xfrm>
              <a:off x="1393920" y="2338200"/>
              <a:ext cx="61498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347840" y="2643120"/>
              <a:ext cx="632448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1004760" y="3024000"/>
              <a:ext cx="6858000" cy="963720"/>
              <a:chOff x="1004760" y="3024000"/>
              <a:chExt cx="6858000" cy="96372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004760" y="3024000"/>
                <a:ext cx="6858000" cy="638280"/>
                <a:chOff x="1004760" y="3024000"/>
                <a:chExt cx="6858000" cy="638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20574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543480" y="3385800"/>
                  <a:ext cx="26640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043600" y="338580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6548400" y="3395520"/>
                  <a:ext cx="266760" cy="2667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004760" y="30240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87720" y="3133440"/>
                  <a:ext cx="73152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895480" y="3133440"/>
                  <a:ext cx="787680" cy="247680"/>
                </a:xfrm>
                <a:custGeom>
                  <a:avLst/>
                  <a:gdLst/>
                  <a:ahLst/>
                  <a:rect l="l" t="t" r="r" b="b"/>
                  <a:pathLst>
                    <a:path w="496" h="156">
                      <a:moveTo>
                        <a:pt x="0" y="0"/>
                      </a:moveTo>
                      <a:cubicBezTo>
                        <a:pt x="15" y="1"/>
                        <a:pt x="63" y="2"/>
                        <a:pt x="93" y="6"/>
                      </a:cubicBezTo>
                      <a:cubicBezTo>
                        <a:pt x="123" y="10"/>
                        <a:pt x="149" y="16"/>
                        <a:pt x="183" y="24"/>
                      </a:cubicBezTo>
                      <a:cubicBezTo>
                        <a:pt x="217" y="32"/>
                        <a:pt x="259" y="43"/>
                        <a:pt x="296" y="57"/>
                      </a:cubicBezTo>
                      <a:cubicBezTo>
                        <a:pt x="333" y="71"/>
                        <a:pt x="371" y="88"/>
                        <a:pt x="404" y="105"/>
                      </a:cubicBezTo>
                      <a:cubicBezTo>
                        <a:pt x="437" y="122"/>
                        <a:pt x="477" y="146"/>
                        <a:pt x="49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672000" y="3133440"/>
                  <a:ext cx="731880" cy="24300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395960" y="3133440"/>
                  <a:ext cx="771480" cy="247680"/>
                </a:xfrm>
                <a:custGeom>
                  <a:avLst/>
                  <a:gdLst/>
                  <a:ahLst/>
                  <a:rect l="l" t="t" r="r" b="b"/>
                  <a:pathLst>
                    <a:path w="486" h="156">
                      <a:moveTo>
                        <a:pt x="0" y="0"/>
                      </a:moveTo>
                      <a:cubicBezTo>
                        <a:pt x="14" y="0"/>
                        <a:pt x="54" y="2"/>
                        <a:pt x="83" y="6"/>
                      </a:cubicBezTo>
                      <a:cubicBezTo>
                        <a:pt x="112" y="10"/>
                        <a:pt x="139" y="16"/>
                        <a:pt x="173" y="24"/>
                      </a:cubicBezTo>
                      <a:cubicBezTo>
                        <a:pt x="207" y="32"/>
                        <a:pt x="249" y="43"/>
                        <a:pt x="286" y="57"/>
                      </a:cubicBezTo>
                      <a:cubicBezTo>
                        <a:pt x="323" y="71"/>
                        <a:pt x="361" y="88"/>
                        <a:pt x="394" y="105"/>
                      </a:cubicBezTo>
                      <a:cubicBezTo>
                        <a:pt x="427" y="122"/>
                        <a:pt x="467" y="146"/>
                        <a:pt x="486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5181480" y="3143160"/>
                  <a:ext cx="731880" cy="242640"/>
                </a:xfrm>
                <a:custGeom>
                  <a:avLst/>
                  <a:gdLst/>
                  <a:ahLst/>
                  <a:rect l="l" t="t" r="r" b="b"/>
                  <a:pathLst>
                    <a:path w="461" h="153">
                      <a:moveTo>
                        <a:pt x="461" y="0"/>
                      </a:moveTo>
                      <a:cubicBezTo>
                        <a:pt x="448" y="1"/>
                        <a:pt x="405" y="3"/>
                        <a:pt x="383" y="6"/>
                      </a:cubicBezTo>
                      <a:cubicBezTo>
                        <a:pt x="361" y="9"/>
                        <a:pt x="359" y="7"/>
                        <a:pt x="329" y="15"/>
                      </a:cubicBezTo>
                      <a:cubicBezTo>
                        <a:pt x="299" y="23"/>
                        <a:pt x="239" y="40"/>
                        <a:pt x="200" y="54"/>
                      </a:cubicBezTo>
                      <a:cubicBezTo>
                        <a:pt x="161" y="68"/>
                        <a:pt x="125" y="85"/>
                        <a:pt x="92" y="102"/>
                      </a:cubicBezTo>
                      <a:cubicBezTo>
                        <a:pt x="59" y="119"/>
                        <a:pt x="19" y="143"/>
                        <a:pt x="0" y="153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915160" y="3143160"/>
                  <a:ext cx="761760" cy="247680"/>
                </a:xfrm>
                <a:custGeom>
                  <a:avLst/>
                  <a:gdLst/>
                  <a:ahLst/>
                  <a:rect l="l" t="t" r="r" b="b"/>
                  <a:pathLst>
                    <a:path w="480" h="156">
                      <a:moveTo>
                        <a:pt x="0" y="0"/>
                      </a:moveTo>
                      <a:cubicBezTo>
                        <a:pt x="12" y="1"/>
                        <a:pt x="49" y="2"/>
                        <a:pt x="77" y="6"/>
                      </a:cubicBezTo>
                      <a:cubicBezTo>
                        <a:pt x="105" y="10"/>
                        <a:pt x="133" y="16"/>
                        <a:pt x="167" y="24"/>
                      </a:cubicBezTo>
                      <a:cubicBezTo>
                        <a:pt x="201" y="32"/>
                        <a:pt x="243" y="43"/>
                        <a:pt x="280" y="57"/>
                      </a:cubicBezTo>
                      <a:cubicBezTo>
                        <a:pt x="317" y="71"/>
                        <a:pt x="355" y="88"/>
                        <a:pt x="388" y="105"/>
                      </a:cubicBezTo>
                      <a:cubicBezTo>
                        <a:pt x="421" y="122"/>
                        <a:pt x="461" y="146"/>
                        <a:pt x="480" y="156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flipH="1">
                  <a:off x="6676920" y="3038400"/>
                  <a:ext cx="1185840" cy="357120"/>
                </a:xfrm>
                <a:custGeom>
                  <a:avLst/>
                  <a:gdLst/>
                  <a:ahLst/>
                  <a:rect l="l" t="t" r="r" b="b"/>
                  <a:pathLst>
                    <a:path w="747" h="225">
                      <a:moveTo>
                        <a:pt x="0" y="0"/>
                      </a:moveTo>
                      <a:cubicBezTo>
                        <a:pt x="23" y="1"/>
                        <a:pt x="92" y="7"/>
                        <a:pt x="141" y="12"/>
                      </a:cubicBezTo>
                      <a:cubicBezTo>
                        <a:pt x="190" y="17"/>
                        <a:pt x="244" y="21"/>
                        <a:pt x="294" y="30"/>
                      </a:cubicBezTo>
                      <a:cubicBezTo>
                        <a:pt x="344" y="39"/>
                        <a:pt x="395" y="55"/>
                        <a:pt x="441" y="69"/>
                      </a:cubicBezTo>
                      <a:cubicBezTo>
                        <a:pt x="487" y="83"/>
                        <a:pt x="535" y="101"/>
                        <a:pt x="573" y="117"/>
                      </a:cubicBezTo>
                      <a:cubicBezTo>
                        <a:pt x="611" y="133"/>
                        <a:pt x="643" y="150"/>
                        <a:pt x="672" y="168"/>
                      </a:cubicBezTo>
                      <a:cubicBezTo>
                        <a:pt x="701" y="186"/>
                        <a:pt x="732" y="213"/>
                        <a:pt x="747" y="225"/>
                      </a:cubicBezTo>
                    </a:path>
                  </a:pathLst>
                </a:custGeom>
                <a:noFill/>
                <a:ln w="223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218592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76680" y="3728880"/>
                <a:ext cx="0" cy="25884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19320" y="3862440"/>
                <a:ext cx="163656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794320" y="3499200"/>
                <a:ext cx="308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68" name=""/>
            <p:cNvSpPr/>
            <p:nvPr/>
          </p:nvSpPr>
          <p:spPr>
            <a:xfrm>
              <a:off x="4381920" y="26805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419720" y="251928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363200" y="307944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4363200" y="2579400"/>
              <a:ext cx="113040" cy="1274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3040" y="1407600"/>
              <a:ext cx="243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Interferencia de Dren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93120" y="956880"/>
            <a:ext cx="8338680" cy="53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álculo del Radio de Influencia del Bombe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 requerimiento usual en hidrogeología es la determinación del Radio de Influenc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que el bombeo de un pozo determinado genera en el tiemp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régimen de desequilibrio la expresión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R = 1,5 * (T * t / S)</a:t>
            </a:r>
            <a:r>
              <a:rPr b="1" lang="es-ES" sz="1800" spc="-1" strike="noStrike" baseline="30000">
                <a:solidFill>
                  <a:srgbClr val="990033"/>
                </a:solidFill>
                <a:latin typeface="Arial"/>
              </a:rPr>
              <a:t>1/2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 (m) es el Radio de Influencia (RI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m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/día) es la transmisividad del acuífer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 (días) es el tiempo de bombeo para el que se calcula el RI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 es el almacenamiento del acuífer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finir el radio de protección de un sondaje, la DGA exige la determin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I, el cual suele determinarse para el tiempo que fue requerido para que el ND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evidenciara tendencia a estabilizarse. Este antecedente se obtiene del reg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ro de la prueba de bombeo de caudal constante practicada en el poz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541600" y="942840"/>
            <a:ext cx="40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Infiltración desde la base de un embal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a través de un estrato perme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43280" y="26424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87640" y="26193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41560" y="1886040"/>
            <a:ext cx="6324480" cy="0"/>
          </a:xfrm>
          <a:prstGeom prst="line">
            <a:avLst/>
          </a:prstGeom>
          <a:ln w="22320">
            <a:solidFill>
              <a:srgbClr val="00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082960" y="3143160"/>
            <a:ext cx="579096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65320" y="4100400"/>
            <a:ext cx="62946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2800" y="164160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Nivel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ffff"/>
                </a:solidFill>
                <a:latin typeface="Arial"/>
              </a:rPr>
              <a:t>en el Embal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2352600"/>
            <a:ext cx="11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Techo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9680" y="29192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Base estra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ffffff"/>
                </a:solidFill>
                <a:latin typeface="Arial"/>
              </a:rPr>
              <a:t>permeab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4720" y="3843360"/>
            <a:ext cx="96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Nivel 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Referenc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2419920" y="2500200"/>
            <a:ext cx="113040" cy="723960"/>
            <a:chOff x="2419920" y="2500200"/>
            <a:chExt cx="113040" cy="723960"/>
          </a:xfrm>
        </p:grpSpPr>
        <p:sp>
          <p:nvSpPr>
            <p:cNvPr id="284" name=""/>
            <p:cNvSpPr/>
            <p:nvPr/>
          </p:nvSpPr>
          <p:spPr>
            <a:xfrm>
              <a:off x="2476440" y="2500200"/>
              <a:ext cx="0" cy="72396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2419920" y="306072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2419920" y="2560680"/>
              <a:ext cx="113040" cy="1270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497680" y="2724120"/>
            <a:ext cx="17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e = espesor satu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2183040" y="1700280"/>
            <a:ext cx="164160" cy="1047240"/>
            <a:chOff x="2183040" y="1700280"/>
            <a:chExt cx="164160" cy="1047240"/>
          </a:xfrm>
        </p:grpSpPr>
        <p:sp>
          <p:nvSpPr>
            <p:cNvPr id="289" name=""/>
            <p:cNvSpPr/>
            <p:nvPr/>
          </p:nvSpPr>
          <p:spPr>
            <a:xfrm>
              <a:off x="2265120" y="1700280"/>
              <a:ext cx="0" cy="10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183040" y="25110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183040" y="1787400"/>
              <a:ext cx="164160" cy="1843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2308680" y="2076480"/>
            <a:ext cx="150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 = altura de agu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081280" y="272880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86000" y="34909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990000"/>
                </a:solidFill>
                <a:latin typeface="Arial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55640" y="3030480"/>
            <a:ext cx="133200" cy="1190520"/>
            <a:chOff x="7055640" y="3030480"/>
            <a:chExt cx="133200" cy="1190520"/>
          </a:xfrm>
        </p:grpSpPr>
        <p:sp>
          <p:nvSpPr>
            <p:cNvPr id="296" name=""/>
            <p:cNvSpPr/>
            <p:nvPr/>
          </p:nvSpPr>
          <p:spPr>
            <a:xfrm>
              <a:off x="7122960" y="3030480"/>
              <a:ext cx="0" cy="1190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060680" y="4021200"/>
              <a:ext cx="12816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055640" y="3063960"/>
              <a:ext cx="127800" cy="14724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3520" y="1762200"/>
            <a:ext cx="137520" cy="2450880"/>
            <a:chOff x="8003520" y="1762200"/>
            <a:chExt cx="137520" cy="2450880"/>
          </a:xfrm>
        </p:grpSpPr>
        <p:sp>
          <p:nvSpPr>
            <p:cNvPr id="300" name=""/>
            <p:cNvSpPr/>
            <p:nvPr/>
          </p:nvSpPr>
          <p:spPr>
            <a:xfrm>
              <a:off x="8077320" y="1762200"/>
              <a:ext cx="0" cy="245088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013240" y="180216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03520" y="4026240"/>
              <a:ext cx="127800" cy="14652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783000" y="451656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Gradiente Hidráulic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163520" y="4906800"/>
            <a:ext cx="1201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----------------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789280" y="50626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1 – H2 = H + 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41000" y="4888080"/>
            <a:ext cx="1086120" cy="64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 =   ------  + 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40240" y="5726160"/>
            <a:ext cx="138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audal Infiltrad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15800" y="5719680"/>
            <a:ext cx="10008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Q = k * A * 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271320" y="5724360"/>
            <a:ext cx="498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onde K es la permeabilidad vertical y A es la superficie inunda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con altura H (K vertical = 0,1 * K horizontal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4305960" y="2737440"/>
            <a:ext cx="564840" cy="115920"/>
          </a:xfrm>
          <a:custGeom>
            <a:avLst/>
            <a:gdLst>
              <a:gd name="textAreaLeft" fmla="*/ 70560 w 564840"/>
              <a:gd name="textAreaRight" fmla="*/ 494280 w 564840"/>
              <a:gd name="textAreaTop" fmla="*/ 28800 h 115920"/>
              <a:gd name="textAreaBottom" fmla="*/ 87120 h 11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520" bIns="11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631400" y="268596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Infiltració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93840" y="1015920"/>
            <a:ext cx="85215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potencial hidrogeológico de una cuenca es necesario establec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balance respectiv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concepto involucra un análisis comparativo de los ingresos y egresos de agu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sistema subterráneo, estableciendo la variación del volumen almacenado, todo e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 enmarcado en un período de tiempo determin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structuración de un balance es imperioso definir el sistema físico sobre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l se ejecutará éste. Deben determinarse con claridad los límites de dicho sistema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el objeto de acotarlo y definir para éste, las recargas y descargas correspond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expresión general del balance hidrogeológico es la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ntra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Re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= Salidas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Descargas)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± Δ V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(Variación del volumen almacenad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un intervalo de tiempo determinado, deberán evaluarse todas las entradas y s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s de agua al sistema definido, lo que deberá resultar compatible con la varia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de agua subterránea embalsada en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43600" y="2634120"/>
            <a:ext cx="7186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 un porcentaje de las precipitaciones (Recarga por Pp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desde los cursos de escurrimiento superficial (Recarga rí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filtración a partir de los derrames de riego (Recarga por riego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al sistema de un caudal subterráneo (Caudal Subt Entrante);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greso de agua artificialmente incorporada (Recarga antrópica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9360" y="958320"/>
            <a:ext cx="68986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Mecanismos de Des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0720" y="2755800"/>
            <a:ext cx="73083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uperaciones en el lecho de los cursos de escurrimiento superfici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 desde superficies de agua libre o con el NE poco profund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a través de la actividad vegetal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udal subterráneo saliente del sistema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tación artificial de los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60280" y="1185840"/>
            <a:ext cx="862668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se indicara anteriormente, para estructurar un balance hidrogeológico, es ne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rio definir el sistema hidrogeológico correspondiente. Esto implica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 geometría de los acuíferos y de las unidades impermeables exi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nt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s relaciones que pudiesen existir entre las distintas unidades perme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les e impermea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terminar las características hidráulicas de los acuíferos, vale decir el grad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namiento y las constantes elásticas respectivas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definir la disposición, en profundidad, de la superficie equipotencia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vez ejecutadas las tareas precedentes, se deberán evaluar las recargas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s, para el período de tiempo durante el cual se ejecutará el balance, y en fun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ultado se podrá determinar si para dicho período hubo aumento o disminución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olumen embals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9200" y="827640"/>
            <a:ext cx="8433360" cy="55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tarea que se ejecuta, si no existen antecedentes confiables a escala a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ada, es un levantamiento fotogeológico del área de interés. Los objetivos primo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les de éste so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extensión y características (sedimentológicas y geomorf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ógicas) de los depósitos detríticos susceptibles de constituir acuífero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 implica trazar el contacto entre las unidades líticas y los depósi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dimentarios permeables (contacto roca-rellen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 los tipos litológicos relevantes y las estructuras existentes, de pr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rencia aquellas que puedan controlar la geometría de los acuífer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terminar la red hidrográfica y la divisoria de aguas de la cuenca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udi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bicar en el mapa las captaciones existentes y definir áreas homogéne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de una perspectiva hidrogeológica (zonas de recarga, de recuper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vertientes, espejos de agua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álisis de toda la información de sondajes que exista en el área. Estructuración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columnas estratigráficas respectivas y definición de las unidades permeables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os datos permitan identifica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62800" y="1071000"/>
            <a:ext cx="8488080" cy="50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cobertura y densidad de los datos de sondajes es escasa, suele ser conven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 complementar estos antecedentes con información proveniente de levantami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eofísicos tales como gravimetría y transiente electromagnética (TEM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respecto es importante advertir que siempre es necesario calibrar los datos ge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ísicos con los antecedentes estratigráficos aportados por los sondajes. Una int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tación geofísica sin apoyo geológico real es, generalmente, poco confiabl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la gravimetría, técnica consistente en medir con gran precisión la gr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dad en un punto, con el objeto de determinar el espesor sedimentario y consecu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ente la profundidad de la roca basal, es siempre importante y necesario consi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ar lo siguiente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perfiles gravimétricos deben anclarse en su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xtremos en aflorami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tos de ro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de forma que se asegure que en esos puntos el espesor sed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entario es nulo. Esto facilita la adecuada interpretación de los puntos in-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edi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7760" y="949320"/>
            <a:ext cx="8739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stos puntos extremos deben colectarse muestras de roca con el obje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practicar en ella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análisis de dens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e parámetro es altamente s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ble en el cálculo del espesor sedimentario, de forma que su adecuada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minación es importante en la obtención de resultados confiab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fuertes desniveles topográficos que suelen existir en los puntos ubic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s en los extremos de los perfiles, hacen siempre recomendable deter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r dich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desniveles utilizando la plantilla de Hamme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(en círculos A y B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consideración ayuda luego a la determinación de la corrección de t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reno, cálculo siempre importante de ejecutar en áreas donde los altos top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ráficos afectan las mediciones de gravedad, y consecuentemente, la b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d de los resultados fi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inalmente, siempre es imprescindible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calibrar los resultad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obtenidos m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ante los cálculos gravimétricos, con valores reales entregados por sond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es que hayan alcanzado la roca que hace de zócalo a los depósitos sedim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rios, cuyo espesor se requiere conocer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1000" y="1353600"/>
            <a:ext cx="8547120" cy="31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ondeos geoeléctr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tipo transiente electromagnética son muy útiles pa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terminación de la geología de subsuperficie, ya que entregan información de b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a calidad respecto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osición del nivel estát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stratigrafí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los sedimen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a la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profundidad de la roca basa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toda la información aportada por las labores indicadas, deberán levantarse per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s geológicos, que permitan definir unidades de carácter hidrogeológico, las rel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y características de permeabilidad de cada una y la geometría de las misma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7600" y="761760"/>
            <a:ext cx="689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 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erfilGeológico%20L1-L1'_01" descr=""/>
          <p:cNvPicPr/>
          <p:nvPr/>
        </p:nvPicPr>
        <p:blipFill>
          <a:blip r:embed="rId1"/>
          <a:stretch/>
        </p:blipFill>
        <p:spPr>
          <a:xfrm>
            <a:off x="276120" y="1757520"/>
            <a:ext cx="8682120" cy="49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541080" y="913320"/>
            <a:ext cx="7402680" cy="5061960"/>
            <a:chOff x="541080" y="913320"/>
            <a:chExt cx="7402680" cy="5061960"/>
          </a:xfrm>
        </p:grpSpPr>
        <p:sp>
          <p:nvSpPr>
            <p:cNvPr id="48" name=""/>
            <p:cNvSpPr/>
            <p:nvPr/>
          </p:nvSpPr>
          <p:spPr>
            <a:xfrm>
              <a:off x="541080" y="91332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l Radio de Influencia del Bombe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1127160" y="2004840"/>
              <a:ext cx="6816600" cy="3970440"/>
              <a:chOff x="1127160" y="2004840"/>
              <a:chExt cx="6816600" cy="3970440"/>
            </a:xfrm>
          </p:grpSpPr>
          <p:sp>
            <p:nvSpPr>
              <p:cNvPr id="50" name=""/>
              <p:cNvSpPr/>
              <p:nvPr/>
            </p:nvSpPr>
            <p:spPr>
              <a:xfrm>
                <a:off x="1127160" y="2209680"/>
                <a:ext cx="681660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1" name=""/>
              <p:cNvGrpSpPr/>
              <p:nvPr/>
            </p:nvGrpSpPr>
            <p:grpSpPr>
              <a:xfrm>
                <a:off x="4286160" y="2004840"/>
                <a:ext cx="228600" cy="3562560"/>
                <a:chOff x="4286160" y="2004840"/>
                <a:chExt cx="228600" cy="356256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4286160" y="2004840"/>
                  <a:ext cx="228600" cy="13240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286160" y="3328920"/>
                  <a:ext cx="228600" cy="74916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4286160" y="4057560"/>
                  <a:ext cx="228600" cy="38880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4286160" y="4441680"/>
                  <a:ext cx="228600" cy="749520"/>
                </a:xfrm>
                <a:prstGeom prst="rect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4286160" y="5178240"/>
                  <a:ext cx="228600" cy="38916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1238400" y="2362320"/>
                <a:ext cx="6646680" cy="0"/>
              </a:xfrm>
              <a:prstGeom prst="line">
                <a:avLst/>
              </a:prstGeom>
              <a:ln w="2232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4507920" y="2376360"/>
                <a:ext cx="308772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95560" y="2376360"/>
                <a:ext cx="3087360" cy="808200"/>
              </a:xfrm>
              <a:custGeom>
                <a:avLst/>
                <a:gdLst/>
                <a:ahLst/>
                <a:rect l="l" t="t" r="r" b="b"/>
                <a:pathLst>
                  <a:path w="1945" h="509">
                    <a:moveTo>
                      <a:pt x="0" y="0"/>
                    </a:moveTo>
                    <a:cubicBezTo>
                      <a:pt x="59" y="9"/>
                      <a:pt x="246" y="37"/>
                      <a:pt x="354" y="54"/>
                    </a:cubicBezTo>
                    <a:cubicBezTo>
                      <a:pt x="462" y="71"/>
                      <a:pt x="547" y="82"/>
                      <a:pt x="645" y="100"/>
                    </a:cubicBezTo>
                    <a:cubicBezTo>
                      <a:pt x="743" y="118"/>
                      <a:pt x="845" y="139"/>
                      <a:pt x="945" y="163"/>
                    </a:cubicBezTo>
                    <a:cubicBezTo>
                      <a:pt x="1045" y="187"/>
                      <a:pt x="1163" y="220"/>
                      <a:pt x="1248" y="243"/>
                    </a:cubicBezTo>
                    <a:cubicBezTo>
                      <a:pt x="1333" y="266"/>
                      <a:pt x="1386" y="279"/>
                      <a:pt x="1454" y="300"/>
                    </a:cubicBezTo>
                    <a:cubicBezTo>
                      <a:pt x="1522" y="321"/>
                      <a:pt x="1597" y="351"/>
                      <a:pt x="1654" y="372"/>
                    </a:cubicBezTo>
                    <a:cubicBezTo>
                      <a:pt x="1711" y="393"/>
                      <a:pt x="1751" y="404"/>
                      <a:pt x="1799" y="427"/>
                    </a:cubicBezTo>
                    <a:cubicBezTo>
                      <a:pt x="1847" y="450"/>
                      <a:pt x="1915" y="492"/>
                      <a:pt x="1945" y="509"/>
                    </a:cubicBezTo>
                  </a:path>
                </a:pathLst>
              </a:custGeom>
              <a:noFill/>
              <a:ln w="2232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390920" y="5562720"/>
                <a:ext cx="0" cy="38088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4162320" y="5791320"/>
                <a:ext cx="3670560" cy="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2376360"/>
                <a:ext cx="0" cy="3598920"/>
              </a:xfrm>
              <a:prstGeom prst="line">
                <a:avLst/>
              </a:prstGeom>
              <a:ln w="93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940280" y="5513760"/>
                <a:ext cx="2111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990033"/>
                    </a:solidFill>
                    <a:latin typeface="Arial"/>
                  </a:rPr>
                  <a:t>Radio de Influencia (R)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293760" y="882360"/>
            <a:ext cx="3032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48760" y="2467080"/>
            <a:ext cx="236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Definición del Mode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Hidrogeológico Fís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5" name="Hidrogeologia_MM2" descr=""/>
          <p:cNvPicPr/>
          <p:nvPr/>
        </p:nvPicPr>
        <p:blipFill>
          <a:blip r:embed="rId1"/>
          <a:srcRect l="0" t="0" r="5332" b="5557"/>
          <a:stretch/>
        </p:blipFill>
        <p:spPr>
          <a:xfrm>
            <a:off x="3560760" y="190440"/>
            <a:ext cx="5411880" cy="64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600280" y="10728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4600" y="756720"/>
            <a:ext cx="872280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proc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 determinación de la recarga de los acuíferos de una cuenca, el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miento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más confiable se basa en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os datos aportados por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l control sistemático de l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niveles estático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 área. Debido a ésto es que dicha maniobra siempre es aconsej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lementarla, ya que los datos que aporta en el largo y mediano plazo, tienen gran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idrogeo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a lo largo del tiempo los niveles presentan fluctuaciones (ascensos y descensos)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a dinámica sólo puede explicarse por la existencia de procesos de recarga y desca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 de los sistemas subterráne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atos de niveles estáticos permiten determinar el gradiente de la superficie equ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tencial en distintos sectores del acuífero. Este parámetro es indispensable a la ho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definir la magnitud del flujo subterráneo y permite evidenciar la dinámica hídrica sub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rráne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mportante es indicar que la existencia de gradientes hidráulicos en un acuífero, impl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 que existió recarga en épocas pretéritas, pero que no necesariamente ésta se verif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forma sistemática y periódica. Existen cuencas en el sector norte del país donde lo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cesos de recarga datan de mucho tiempo y que actualmente se encuentran en proc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o de drenado natural.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63520" y="866160"/>
            <a:ext cx="8736120" cy="58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magnitud de la recarga que se produce por infiltración profunda,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una fracción de las precipitaciones, se suelen emplear dos metodologí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primera consiste en la implementación de un modelo de simulación hidrológica,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jecuta un balance a nivel de suelo generando infiltración y escorrentía. Estos modelos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pendiendo del tipo (pluvial o nivopluvial), manejan varios parámetros entre los cu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tacan los siguiente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cipitación, obtenida de las estadísticas disponibl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ración, obtenida de las estadística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transposición de las precipitaciones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vapotranspiración poten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apacidad de campo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unto de marchitez permanente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+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eficiente de cultivo; et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segunda metodología consiste en estudiar un período determinado de precipi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, analizando paralelamente las fluctuaciones del nivel estático durante el mism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60640" y="688680"/>
            <a:ext cx="8690760" cy="24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Precipitac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el análisis de los niveles permite determinar el ascenso generado por la infiltración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una fracción de las precipitaciones y se conoce el coeficiente de almacenamiento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cuífero, se podrá determinar la cantidad de agua incorporada al sistema subterráneo,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consiguiente la tasa de recarga por este concep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914400" y="3256920"/>
            <a:ext cx="7242840" cy="2935440"/>
            <a:chOff x="914400" y="3256920"/>
            <a:chExt cx="7242840" cy="2935440"/>
          </a:xfrm>
        </p:grpSpPr>
        <p:sp>
          <p:nvSpPr>
            <p:cNvPr id="343" name=""/>
            <p:cNvSpPr/>
            <p:nvPr/>
          </p:nvSpPr>
          <p:spPr>
            <a:xfrm>
              <a:off x="914400" y="3952800"/>
              <a:ext cx="6149880" cy="0"/>
            </a:xfrm>
            <a:prstGeom prst="line">
              <a:avLst/>
            </a:prstGeom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914400" y="4495680"/>
              <a:ext cx="6149880" cy="0"/>
            </a:xfrm>
            <a:prstGeom prst="line">
              <a:avLst/>
            </a:prstGeom>
            <a:ln w="2232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914400" y="4672080"/>
              <a:ext cx="6149880" cy="0"/>
            </a:xfrm>
            <a:prstGeom prst="line">
              <a:avLst/>
            </a:prstGeom>
            <a:ln w="22320">
              <a:solidFill>
                <a:srgbClr val="800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14400" y="5815080"/>
              <a:ext cx="614988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217680" y="5885280"/>
              <a:ext cx="1756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Arial"/>
                </a:rPr>
                <a:t>Base Imperme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1143000" y="3529080"/>
              <a:ext cx="2684520" cy="357120"/>
              <a:chOff x="1143000" y="3529080"/>
              <a:chExt cx="2684520" cy="357120"/>
            </a:xfrm>
          </p:grpSpPr>
          <p:sp>
            <p:nvSpPr>
              <p:cNvPr id="349" name=""/>
              <p:cNvSpPr/>
              <p:nvPr/>
            </p:nvSpPr>
            <p:spPr>
              <a:xfrm rot="5400000">
                <a:off x="3604320" y="365832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5400000">
                <a:off x="2308680" y="3663000"/>
                <a:ext cx="352440" cy="9396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960"/>
                  <a:gd name="textAreaBottom" fmla="*/ 70560 h 9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rot="5400000">
                <a:off x="1013400" y="3663000"/>
                <a:ext cx="352440" cy="93600"/>
              </a:xfrm>
              <a:custGeom>
                <a:avLst/>
                <a:gdLst>
                  <a:gd name="textAreaLeft" fmla="*/ 43920 w 352440"/>
                  <a:gd name="textAreaRight" fmla="*/ 308520 w 352440"/>
                  <a:gd name="textAreaTop" fmla="*/ 23400 h 93600"/>
                  <a:gd name="textAreaBottom" fmla="*/ 70200 h 9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5400"/>
                    </a:moveTo>
                    <a:lnTo>
                      <a:pt x="16200" y="5400"/>
                    </a:lnTo>
                    <a:lnTo>
                      <a:pt x="16200" y="0"/>
                    </a:lnTo>
                    <a:lnTo>
                      <a:pt x="21600" y="10800"/>
                    </a:lnTo>
                    <a:lnTo>
                      <a:pt x="16200" y="21600"/>
                    </a:lnTo>
                    <a:lnTo>
                      <a:pt x="16200" y="16200"/>
                    </a:lnTo>
                    <a:lnTo>
                      <a:pt x="0" y="16200"/>
                    </a:lnTo>
                    <a:lnTo>
                      <a:pt x="2700" y="10800"/>
                    </a:lnTo>
                    <a:lnTo>
                      <a:pt x="0" y="5400"/>
                    </a:lnTo>
                    <a:close/>
                  </a:path>
                </a:pathLst>
              </a:cu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9564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590920" y="3547080"/>
                <a:ext cx="1140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Arial"/>
                  </a:rPr>
                  <a:t>Precipitació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 rot="5400000">
              <a:off x="13942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5400000">
              <a:off x="3223080" y="4143960"/>
              <a:ext cx="352440" cy="9396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960"/>
                <a:gd name="textAreaBottom" fmla="*/ 7056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644480" y="4087080"/>
              <a:ext cx="1707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filtración (Recarga)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70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752480" y="5128200"/>
              <a:ext cx="90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6600"/>
                  </a:solidFill>
                  <a:latin typeface="Arial"/>
                </a:rPr>
                <a:t>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00080" y="378684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33"/>
                  </a:solidFill>
                  <a:latin typeface="Arial"/>
                </a:rPr>
                <a:t>Terren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37520" y="4330080"/>
              <a:ext cx="749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Arial"/>
                </a:rPr>
                <a:t>NE fin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87840" y="4537800"/>
              <a:ext cx="869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990099"/>
                  </a:solidFill>
                  <a:latin typeface="Arial"/>
                </a:rPr>
                <a:t>NE inici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776760"/>
              <a:ext cx="352440" cy="93600"/>
            </a:xfrm>
            <a:custGeom>
              <a:avLst/>
              <a:gdLst>
                <a:gd name="textAreaLeft" fmla="*/ 43920 w 352440"/>
                <a:gd name="textAreaRight" fmla="*/ 308520 w 35244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55800" y="366804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scorrentí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4538160" y="3672720"/>
              <a:ext cx="352080" cy="93600"/>
            </a:xfrm>
            <a:custGeom>
              <a:avLst/>
              <a:gdLst>
                <a:gd name="textAreaLeft" fmla="*/ 43920 w 352080"/>
                <a:gd name="textAreaRight" fmla="*/ 308160 w 352080"/>
                <a:gd name="textAreaTop" fmla="*/ 23400 h 93600"/>
                <a:gd name="textAreaBottom" fmla="*/ 70200 h 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91120" y="3256920"/>
              <a:ext cx="109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Evaporación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8480" y="946080"/>
            <a:ext cx="857304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mejor opción para determinar la recarga por este mecanismo ocurre cuando 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enta con antecedentes fluviométricos, confiables y completos, tanto aguas arrib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aguas abajo del sistema hidrogeológico estudia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 la estación de aforo de aguas arriba presenta siempre caudales mayores que aq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la ubicada hacia aguas abajo, y no existen canales u otras captaciones que extraiga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gua en el tramo que media entre las estaciones, la zona corresponderá a un área d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carga; en caso contrario será una zona de recu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de recarga suele ser muy importante en gran número de cuenc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zona central (Aconcagua, Cachapoal, Mataquito, Maule, etc.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tra forma de aproximación para cuantificar este proceso, es el análisis de las fluc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uaciones de niveles asociadas a variaciones fluviométricas detectadas en la estaci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s de control. Conociendo la variación del volumen de acuífero saturado y el coef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ente de almacenamiento, se determina el volumen de recarga en el períod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5600" y="762120"/>
            <a:ext cx="68986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sde la Escorrentía Superficial (rí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112760" y="2601720"/>
            <a:ext cx="6683400" cy="2406240"/>
            <a:chOff x="1112760" y="2601720"/>
            <a:chExt cx="6683400" cy="2406240"/>
          </a:xfrm>
        </p:grpSpPr>
        <p:sp>
          <p:nvSpPr>
            <p:cNvPr id="371" name=""/>
            <p:cNvSpPr/>
            <p:nvPr/>
          </p:nvSpPr>
          <p:spPr>
            <a:xfrm>
              <a:off x="1112760" y="2601720"/>
              <a:ext cx="6683400" cy="1017360"/>
            </a:xfrm>
            <a:custGeom>
              <a:avLst/>
              <a:gdLst/>
              <a:ahLst/>
              <a:rect l="l" t="t" r="r" b="b"/>
              <a:pathLst>
                <a:path w="4210" h="641">
                  <a:moveTo>
                    <a:pt x="0" y="641"/>
                  </a:moveTo>
                  <a:cubicBezTo>
                    <a:pt x="36" y="622"/>
                    <a:pt x="132" y="555"/>
                    <a:pt x="226" y="528"/>
                  </a:cubicBezTo>
                  <a:cubicBezTo>
                    <a:pt x="320" y="501"/>
                    <a:pt x="458" y="488"/>
                    <a:pt x="562" y="480"/>
                  </a:cubicBezTo>
                  <a:cubicBezTo>
                    <a:pt x="666" y="472"/>
                    <a:pt x="760" y="476"/>
                    <a:pt x="850" y="480"/>
                  </a:cubicBezTo>
                  <a:cubicBezTo>
                    <a:pt x="940" y="484"/>
                    <a:pt x="1017" y="496"/>
                    <a:pt x="1105" y="504"/>
                  </a:cubicBezTo>
                  <a:cubicBezTo>
                    <a:pt x="1193" y="512"/>
                    <a:pt x="1288" y="518"/>
                    <a:pt x="1378" y="528"/>
                  </a:cubicBezTo>
                  <a:cubicBezTo>
                    <a:pt x="1468" y="538"/>
                    <a:pt x="1557" y="556"/>
                    <a:pt x="1645" y="564"/>
                  </a:cubicBezTo>
                  <a:cubicBezTo>
                    <a:pt x="1733" y="572"/>
                    <a:pt x="1813" y="580"/>
                    <a:pt x="1906" y="576"/>
                  </a:cubicBezTo>
                  <a:cubicBezTo>
                    <a:pt x="1999" y="572"/>
                    <a:pt x="2092" y="556"/>
                    <a:pt x="2203" y="538"/>
                  </a:cubicBezTo>
                  <a:cubicBezTo>
                    <a:pt x="2314" y="520"/>
                    <a:pt x="2456" y="509"/>
                    <a:pt x="2571" y="470"/>
                  </a:cubicBezTo>
                  <a:cubicBezTo>
                    <a:pt x="2686" y="431"/>
                    <a:pt x="2798" y="354"/>
                    <a:pt x="2895" y="305"/>
                  </a:cubicBezTo>
                  <a:cubicBezTo>
                    <a:pt x="2992" y="256"/>
                    <a:pt x="3068" y="210"/>
                    <a:pt x="3152" y="176"/>
                  </a:cubicBezTo>
                  <a:cubicBezTo>
                    <a:pt x="3236" y="142"/>
                    <a:pt x="3312" y="117"/>
                    <a:pt x="3401" y="99"/>
                  </a:cubicBezTo>
                  <a:cubicBezTo>
                    <a:pt x="3490" y="81"/>
                    <a:pt x="3589" y="79"/>
                    <a:pt x="3685" y="67"/>
                  </a:cubicBezTo>
                  <a:cubicBezTo>
                    <a:pt x="3781" y="55"/>
                    <a:pt x="3890" y="35"/>
                    <a:pt x="3977" y="24"/>
                  </a:cubicBezTo>
                  <a:cubicBezTo>
                    <a:pt x="4064" y="13"/>
                    <a:pt x="4162" y="5"/>
                    <a:pt x="4210" y="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51600" y="3357360"/>
              <a:ext cx="2139840" cy="1368000"/>
            </a:xfrm>
            <a:custGeom>
              <a:avLst/>
              <a:gdLst/>
              <a:ahLst/>
              <a:rect l="l" t="t" r="r" b="b"/>
              <a:pathLst>
                <a:path w="1348" h="862">
                  <a:moveTo>
                    <a:pt x="0" y="0"/>
                  </a:moveTo>
                  <a:cubicBezTo>
                    <a:pt x="38" y="13"/>
                    <a:pt x="174" y="55"/>
                    <a:pt x="248" y="86"/>
                  </a:cubicBezTo>
                  <a:cubicBezTo>
                    <a:pt x="322" y="117"/>
                    <a:pt x="369" y="159"/>
                    <a:pt x="445" y="189"/>
                  </a:cubicBezTo>
                  <a:cubicBezTo>
                    <a:pt x="521" y="219"/>
                    <a:pt x="613" y="236"/>
                    <a:pt x="703" y="266"/>
                  </a:cubicBezTo>
                  <a:cubicBezTo>
                    <a:pt x="793" y="296"/>
                    <a:pt x="898" y="333"/>
                    <a:pt x="985" y="369"/>
                  </a:cubicBezTo>
                  <a:cubicBezTo>
                    <a:pt x="1072" y="405"/>
                    <a:pt x="1168" y="403"/>
                    <a:pt x="1228" y="485"/>
                  </a:cubicBezTo>
                  <a:cubicBezTo>
                    <a:pt x="1288" y="567"/>
                    <a:pt x="1323" y="784"/>
                    <a:pt x="1348" y="862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388120" y="3392280"/>
              <a:ext cx="122040" cy="12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30960" y="313524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48000" y="3344760"/>
              <a:ext cx="122040" cy="121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14320" y="27576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271480" y="352440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449000" y="2884320"/>
              <a:ext cx="381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1" lang="es-ES_tradnl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7054200" y="4309200"/>
              <a:ext cx="102960" cy="324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2832120" y="3246840"/>
              <a:ext cx="435960" cy="680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6304680" y="2627280"/>
              <a:ext cx="434520" cy="781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14520" y="4255920"/>
              <a:ext cx="3522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l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arga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21720" y="4637160"/>
              <a:ext cx="40622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Si  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3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&gt;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1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+ E</a:t>
              </a:r>
              <a:r>
                <a:rPr b="1" lang="es-ES_tradnl" sz="1600" spc="-1" strike="noStrike" baseline="-25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 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rows2"/>
                  <a:ea typeface="Arrows2"/>
                </a:rPr>
                <a:t></a:t>
              </a:r>
              <a:r>
                <a:rPr b="1" lang="es-ES_tradnl" sz="1600" spc="-1" strike="noStrike">
                  <a:solidFill>
                    <a:srgbClr val="990033"/>
                  </a:solidFill>
                  <a:latin typeface="Arial"/>
                </a:rPr>
                <a:t> tramo de recuperación</a:t>
              </a:r>
              <a:r>
                <a:rPr b="1" lang="es-ES_tradnl" sz="1400" spc="-1" strike="noStrike">
                  <a:solidFill>
                    <a:srgbClr val="990033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95520" y="3562200"/>
              <a:ext cx="0" cy="34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7720" y="3371760"/>
              <a:ext cx="0" cy="52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533600" y="3809880"/>
              <a:ext cx="369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513880" y="3772080"/>
              <a:ext cx="147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Tramo de análisis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2800" y="1432800"/>
            <a:ext cx="8610120" cy="43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de Derrames de Rieg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la evaluación de la recarga por este mecanismo, al igual que en los otros caso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necesario asociar las variaciones del nivel estático durante el período, a las labo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rieg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tasa promedio de riego por tendido en la zona central es de aproximadamente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10.000 m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/Ha al añ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Esto equivale a 1.000 mm de precipitación anual, aporte que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 durante 6 o 7 mes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te mecanismo es aplicable a las áreas donde el riego se materializa por tendido, v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 decir, en las zonas con riego tecnificado (goteo o microaspersión) el efecto no se g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e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7760" y="687600"/>
            <a:ext cx="85060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caudal subterráneo entrante desde aguas arriba, a través de una sección transver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al, se determina mediante Darcy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2057040" y="2895120"/>
            <a:ext cx="5944320" cy="3657600"/>
            <a:chOff x="2057040" y="2895120"/>
            <a:chExt cx="5944320" cy="3657600"/>
          </a:xfrm>
        </p:grpSpPr>
        <p:grpSp>
          <p:nvGrpSpPr>
            <p:cNvPr id="393" name=""/>
            <p:cNvGrpSpPr/>
            <p:nvPr/>
          </p:nvGrpSpPr>
          <p:grpSpPr>
            <a:xfrm>
              <a:off x="2057040" y="2895120"/>
              <a:ext cx="4419720" cy="3657600"/>
              <a:chOff x="2057040" y="2895120"/>
              <a:chExt cx="4419720" cy="3657600"/>
            </a:xfrm>
          </p:grpSpPr>
          <p:sp>
            <p:nvSpPr>
              <p:cNvPr id="394" name=""/>
              <p:cNvSpPr/>
              <p:nvPr/>
            </p:nvSpPr>
            <p:spPr>
              <a:xfrm>
                <a:off x="4132800" y="452304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4132800" y="380664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4132800" y="5434920"/>
                <a:ext cx="147312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06280" y="380700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H="1" flipV="1">
                <a:off x="2057040" y="523980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 flipV="1">
                <a:off x="2057040" y="3611520"/>
                <a:ext cx="207540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068200" y="3611520"/>
                <a:ext cx="0" cy="1627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 flipV="1">
                <a:off x="3530160" y="2895480"/>
                <a:ext cx="2075760" cy="911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2057400" y="2895120"/>
                <a:ext cx="1472760" cy="7160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4132800" y="4588200"/>
                <a:ext cx="1473120" cy="71604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 flipV="1">
                <a:off x="2057040" y="4067640"/>
                <a:ext cx="2075400" cy="123696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530160" y="2895480"/>
                <a:ext cx="0" cy="1627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 flipV="1">
                <a:off x="3530160" y="4522680"/>
                <a:ext cx="2075760" cy="911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2057400" y="4523040"/>
                <a:ext cx="1472760" cy="716400"/>
              </a:xfrm>
              <a:prstGeom prst="line">
                <a:avLst/>
              </a:prstGeom>
              <a:ln w="255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 flipV="1">
                <a:off x="3530160" y="3350520"/>
                <a:ext cx="2075760" cy="123732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2057400" y="3350880"/>
                <a:ext cx="1472760" cy="716400"/>
              </a:xfrm>
              <a:prstGeom prst="line">
                <a:avLst/>
              </a:prstGeom>
              <a:ln w="25560">
                <a:solidFill>
                  <a:srgbClr val="0000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17880000">
                <a:off x="5174640" y="5261400"/>
                <a:ext cx="260280" cy="736560"/>
              </a:xfrm>
              <a:prstGeom prst="downArrow">
                <a:avLst>
                  <a:gd name="adj1" fmla="val 50000"/>
                  <a:gd name="adj2" fmla="val 70747"/>
                </a:avLst>
              </a:prstGeom>
              <a:solidFill>
                <a:srgbClr val="99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44320" y="6162120"/>
                <a:ext cx="87012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06280" y="5435280"/>
                <a:ext cx="870480" cy="390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4534920" y="5630400"/>
                <a:ext cx="1874880" cy="91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511240" y="5955120"/>
                <a:ext cx="28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0000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3597120" y="530460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H="1">
                <a:off x="3585960" y="6140520"/>
                <a:ext cx="535320" cy="2602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731040" y="5435280"/>
                <a:ext cx="0" cy="97668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524760" y="58914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8000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 flipV="1">
                <a:off x="2057040" y="4393080"/>
                <a:ext cx="207540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2586600" y="441504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6600"/>
                    </a:solidFill>
                    <a:latin typeface="Arial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650480" y="5216400"/>
                <a:ext cx="337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600" spc="-1" strike="noStrike">
                    <a:solidFill>
                      <a:srgbClr val="993300"/>
                    </a:solidFill>
                    <a:latin typeface="Arial"/>
                  </a:rPr>
                  <a:t>Q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3530160" y="3676680"/>
                <a:ext cx="2075760" cy="91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2057400" y="3676320"/>
                <a:ext cx="1472760" cy="716040"/>
              </a:xfrm>
              <a:prstGeom prst="line">
                <a:avLst/>
              </a:prstGeom>
              <a:ln w="25560">
                <a:solidFill>
                  <a:srgbClr val="ff66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485600" y="471636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829240" y="437040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Arial"/>
                  </a:rPr>
                  <a:t>N.E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426" name=""/>
            <p:cNvSpPr/>
            <p:nvPr/>
          </p:nvSpPr>
          <p:spPr>
            <a:xfrm>
              <a:off x="6273720" y="3304800"/>
              <a:ext cx="1727640" cy="14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A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 = k * e * L * 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cc3300"/>
                  </a:solidFill>
                  <a:latin typeface="Arial"/>
                </a:rPr>
                <a:t>Q = T * i * 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3480" y="1109880"/>
            <a:ext cx="811152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al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Arial"/>
              </a:rPr>
              <a:t>Evaluación de la Recar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greso de un Caudal Subterráneo al Sistem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esta evaluación se requiere conocer el gradiente de la superficie equipote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al, lo que se determina con la información de niveles estáticos del área; la tra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isividad media en la sección, parámetro que debe determinarse con la inform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ión de ensayos de bombeo; y el largo de la sección, variable que se determina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finirse la geología de subsuperfici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8000"/>
                </a:solidFill>
                <a:latin typeface="Arial"/>
              </a:rPr>
              <a:t>Recarga por Infiltración Artific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el caso de existir este mecanismo de recarga, los datos se deben obtener 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organismo o empresa a cargo del proceso de infilt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68800" y="754920"/>
            <a:ext cx="807948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ementos químicos en el agua subterrá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n las aguas naturales, superficiales y subterráneas, es posible reconocer siem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 los siguientes cationes y aniones mayoritarios :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Catione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Anion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lcio (C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Bicarbonatos (HC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gnesio (Mg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Sulfatos (S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2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odio (Na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Cloruros (Cl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otasio (K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+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- Nitratos (NO</a:t>
            </a:r>
            <a:r>
              <a:rPr b="1" lang="es-ES" sz="1600" spc="-1" strike="noStrike" baseline="-20000">
                <a:solidFill>
                  <a:srgbClr val="000000"/>
                </a:solidFill>
                <a:latin typeface="Arial"/>
              </a:rPr>
              <a:t>3</a:t>
            </a:r>
            <a:r>
              <a:rPr b="1" lang="es-ES" sz="16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emás de los elementos mayores indicados, suelen presentarse elementos mi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oritarios (traza) tales como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Elementos traz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rsén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Fluo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Selen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ercur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o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Hier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ianur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eril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Manganes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Níqu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Zinc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rom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Cadm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Alumin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Plat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Bar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Liti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 Vana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 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1320" y="971280"/>
            <a:ext cx="82641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 un sondaje se pueden utilizar varios métodos.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ás recurrido corresponde al método de determinar el descenso teórico que d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iera experimentar el nivel dinámico, de acuerdo a las constantes elásticas del a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uífero y al diámetro de pozo, para luego comparar éste con el descenso real qu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a experimentado dicho nivel durante las pruebas ejecutadas en el sondaje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asegurar un cálculo representativo en el mediano plazo, se deben determin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s descensos del nivel dinámico a un tiempo largo de bombeo. Para esto se pue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n extrapolar los descensos obtenidos en los ensayos de caudal variable y cons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ante hasta un tiempo de bombeo de 10.000 minutos, para luego comparar ést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 los descensos teóricos obtenidos para igual período (10.000 minutos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descenso teórico, para los distintos caudales, se determina utilizando las ex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esiones de Theis y las constantes elásticas del acuífero sometido a extracción. 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specto es importante recordar que en las fórmulas de Theis está considerada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tancia existente entre el pozo de bombeo y un pozo de observación, de form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l utilizar sólo los datos del pozo de bombeo deberá considerarse la distancia co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o equivalente al radio del pozo, incluyendo el espacio anular relleno con gravill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99520" y="837000"/>
            <a:ext cx="688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alidación de Resultados (Balance Aniónico-Catiónic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647640" y="1893960"/>
            <a:ext cx="7772400" cy="3806640"/>
            <a:chOff x="647640" y="1893960"/>
            <a:chExt cx="7772400" cy="3806640"/>
          </a:xfrm>
        </p:grpSpPr>
        <p:graphicFrame>
          <p:nvGraphicFramePr>
            <p:cNvPr id="434" name=""/>
            <p:cNvGraphicFramePr/>
            <p:nvPr/>
          </p:nvGraphicFramePr>
          <p:xfrm>
            <a:off x="838080" y="1893960"/>
            <a:ext cx="7239240" cy="203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38080" y="1893960"/>
                      <a:ext cx="7239240" cy="203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647640" y="4230720"/>
            <a:ext cx="7772400" cy="14698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4230720"/>
                      <a:ext cx="7772400" cy="1469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38" name=""/>
          <p:cNvSpPr/>
          <p:nvPr/>
        </p:nvSpPr>
        <p:spPr>
          <a:xfrm>
            <a:off x="319680" y="5886360"/>
            <a:ext cx="8354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Si la diferencia entre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de los aniones y la </a:t>
            </a:r>
            <a:r>
              <a:rPr b="1" lang="es-ES" sz="1800" spc="-1" strike="noStrike">
                <a:solidFill>
                  <a:srgbClr val="990033"/>
                </a:solidFill>
                <a:latin typeface="Arial"/>
              </a:rPr>
              <a:t>Σ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de los cationes, expresados en me/l, es menor de 6%, el análi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puede considerarse válido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89872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607840" y="741960"/>
            <a:ext cx="3957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NOCIONES DE HIDROQUÍM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s Chilenas Vig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2541600" y="1541520"/>
          <a:ext cx="4059360" cy="508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1600" y="1541520"/>
                    <a:ext cx="4059360" cy="508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PIPPER" descr=""/>
          <p:cNvPicPr/>
          <p:nvPr/>
        </p:nvPicPr>
        <p:blipFill>
          <a:blip r:embed="rId1"/>
          <a:srcRect l="0" t="3471" r="2830" b="3471"/>
          <a:stretch/>
        </p:blipFill>
        <p:spPr>
          <a:xfrm>
            <a:off x="500040" y="657360"/>
            <a:ext cx="7848720" cy="612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4935600" y="2489040"/>
            <a:ext cx="2836800" cy="2159280"/>
            <a:chOff x="4935600" y="2489040"/>
            <a:chExt cx="2836800" cy="2159280"/>
          </a:xfrm>
        </p:grpSpPr>
        <p:grpSp>
          <p:nvGrpSpPr>
            <p:cNvPr id="447" name=""/>
            <p:cNvGrpSpPr/>
            <p:nvPr/>
          </p:nvGrpSpPr>
          <p:grpSpPr>
            <a:xfrm>
              <a:off x="4935600" y="2489040"/>
              <a:ext cx="2836800" cy="2159280"/>
              <a:chOff x="4935600" y="2489040"/>
              <a:chExt cx="2836800" cy="2159280"/>
            </a:xfrm>
          </p:grpSpPr>
          <p:sp>
            <p:nvSpPr>
              <p:cNvPr id="448" name=""/>
              <p:cNvSpPr/>
              <p:nvPr/>
            </p:nvSpPr>
            <p:spPr>
              <a:xfrm>
                <a:off x="6365880" y="2489040"/>
                <a:ext cx="0" cy="215928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49" name=""/>
              <p:cNvGrpSpPr/>
              <p:nvPr/>
            </p:nvGrpSpPr>
            <p:grpSpPr>
              <a:xfrm>
                <a:off x="4935600" y="2670120"/>
                <a:ext cx="2835000" cy="85320"/>
                <a:chOff x="4935600" y="2670120"/>
                <a:chExt cx="2835000" cy="85320"/>
              </a:xfrm>
            </p:grpSpPr>
            <p:sp>
              <p:nvSpPr>
                <p:cNvPr id="450" name=""/>
                <p:cNvSpPr/>
                <p:nvPr/>
              </p:nvSpPr>
              <p:spPr>
                <a:xfrm>
                  <a:off x="4935600" y="27104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493560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50832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5221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5364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5506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5649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5792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5935680" y="267336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083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2215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3640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5070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6499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792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93576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7078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722160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736272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962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763884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7762680" y="267012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4937400" y="2946240"/>
                <a:ext cx="2835000" cy="85320"/>
                <a:chOff x="4937400" y="2946240"/>
                <a:chExt cx="2835000" cy="85320"/>
              </a:xfrm>
            </p:grpSpPr>
            <p:sp>
              <p:nvSpPr>
                <p:cNvPr id="473" name=""/>
                <p:cNvSpPr/>
                <p:nvPr/>
              </p:nvSpPr>
              <p:spPr>
                <a:xfrm>
                  <a:off x="4937400" y="29865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493740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0850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5222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5365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5508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5651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5794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937480" y="294948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085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2233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3658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5088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6517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6794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693756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7080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22340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736452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74980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764064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7764480" y="294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4937400" y="3213000"/>
                <a:ext cx="2835000" cy="85320"/>
                <a:chOff x="4937400" y="3213000"/>
                <a:chExt cx="2835000" cy="853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4937400" y="32533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493740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50850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222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5365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5508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51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794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5937480" y="321624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6085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2233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3658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5088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6517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794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3756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80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22340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36452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4980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764064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7764480" y="3213000"/>
                  <a:ext cx="0" cy="82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18" name=""/>
            <p:cNvSpPr/>
            <p:nvPr/>
          </p:nvSpPr>
          <p:spPr>
            <a:xfrm>
              <a:off x="5407200" y="2708640"/>
              <a:ext cx="361800" cy="280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277960" y="2984400"/>
              <a:ext cx="493200" cy="27144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6751080" y="2706120"/>
              <a:ext cx="570600" cy="28332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750720" y="2994120"/>
              <a:ext cx="261000" cy="25524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143000" y="2514600"/>
            <a:ext cx="2836800" cy="2158920"/>
            <a:chOff x="1143000" y="2514600"/>
            <a:chExt cx="2836800" cy="2158920"/>
          </a:xfrm>
        </p:grpSpPr>
        <p:grpSp>
          <p:nvGrpSpPr>
            <p:cNvPr id="523" name=""/>
            <p:cNvGrpSpPr/>
            <p:nvPr/>
          </p:nvGrpSpPr>
          <p:grpSpPr>
            <a:xfrm>
              <a:off x="1143000" y="2514600"/>
              <a:ext cx="2836800" cy="2158920"/>
              <a:chOff x="1143000" y="2514600"/>
              <a:chExt cx="2836800" cy="2158920"/>
            </a:xfrm>
          </p:grpSpPr>
          <p:sp>
            <p:nvSpPr>
              <p:cNvPr id="524" name=""/>
              <p:cNvSpPr/>
              <p:nvPr/>
            </p:nvSpPr>
            <p:spPr>
              <a:xfrm>
                <a:off x="2573280" y="2514600"/>
                <a:ext cx="0" cy="215892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25" name=""/>
              <p:cNvGrpSpPr/>
              <p:nvPr/>
            </p:nvGrpSpPr>
            <p:grpSpPr>
              <a:xfrm>
                <a:off x="1143000" y="2695320"/>
                <a:ext cx="2835000" cy="84960"/>
                <a:chOff x="1143000" y="2695320"/>
                <a:chExt cx="2835000" cy="8496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1143000" y="273564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114300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12906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1428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1571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1714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1857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2000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143080" y="269856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2290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4289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5714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7144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8573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000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314316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3286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342900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357012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37036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384624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3970080" y="269532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144800" y="2971440"/>
                <a:ext cx="2835000" cy="84960"/>
                <a:chOff x="1144800" y="2971440"/>
                <a:chExt cx="2835000" cy="849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144800" y="301176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4480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924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30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573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716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59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2001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2144880" y="297468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2292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4307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5732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7162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28591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3002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314496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3287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343080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357192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37054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384804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3971880" y="297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1" name=""/>
              <p:cNvGrpSpPr/>
              <p:nvPr/>
            </p:nvGrpSpPr>
            <p:grpSpPr>
              <a:xfrm>
                <a:off x="1144800" y="3238200"/>
                <a:ext cx="2835000" cy="84960"/>
                <a:chOff x="1144800" y="3238200"/>
                <a:chExt cx="2835000" cy="84960"/>
              </a:xfrm>
            </p:grpSpPr>
            <p:sp>
              <p:nvSpPr>
                <p:cNvPr id="572" name=""/>
                <p:cNvSpPr/>
                <p:nvPr/>
              </p:nvSpPr>
              <p:spPr>
                <a:xfrm>
                  <a:off x="1144800" y="3278520"/>
                  <a:ext cx="283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114480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2924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1430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573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1716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859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01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144880" y="324144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292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4307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5732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27162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8591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02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14496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287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343080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357192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37054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84804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971880" y="3238200"/>
                  <a:ext cx="0" cy="81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4" name=""/>
            <p:cNvSpPr/>
            <p:nvPr/>
          </p:nvSpPr>
          <p:spPr>
            <a:xfrm>
              <a:off x="1614600" y="2733840"/>
              <a:ext cx="361800" cy="27972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>
              <a:off x="1485360" y="3009600"/>
              <a:ext cx="493200" cy="27108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2958480" y="2731320"/>
              <a:ext cx="570240" cy="28296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2958120" y="3019320"/>
              <a:ext cx="261000" cy="254880"/>
            </a:xfrm>
            <a:prstGeom prst="line">
              <a:avLst/>
            </a:prstGeom>
            <a:ln w="2232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369360" y="889560"/>
            <a:ext cx="8481240" cy="5053680"/>
            <a:chOff x="369360" y="889560"/>
            <a:chExt cx="8481240" cy="5053680"/>
          </a:xfrm>
        </p:grpSpPr>
        <p:sp>
          <p:nvSpPr>
            <p:cNvPr id="68" name=""/>
            <p:cNvSpPr/>
            <p:nvPr/>
          </p:nvSpPr>
          <p:spPr>
            <a:xfrm>
              <a:off x="4338720" y="4556520"/>
              <a:ext cx="4511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 baseline="-25000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9360" y="88956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Determinación de la Eficiencia de un Sondaj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26920" y="2209680"/>
              <a:ext cx="68169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986280" y="2043000"/>
              <a:ext cx="228600" cy="13240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986280" y="3367080"/>
              <a:ext cx="228600" cy="10000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3986280" y="4373640"/>
              <a:ext cx="230040" cy="1569600"/>
              <a:chOff x="3986280" y="4373640"/>
              <a:chExt cx="230040" cy="1569600"/>
            </a:xfrm>
          </p:grpSpPr>
          <p:sp>
            <p:nvSpPr>
              <p:cNvPr id="74" name=""/>
              <p:cNvSpPr/>
              <p:nvPr/>
            </p:nvSpPr>
            <p:spPr>
              <a:xfrm>
                <a:off x="3987720" y="4373640"/>
                <a:ext cx="228600" cy="3888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986280" y="4749840"/>
                <a:ext cx="228600" cy="74880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986280" y="5483160"/>
                <a:ext cx="228600" cy="4600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938160" y="2362320"/>
              <a:ext cx="6647040" cy="0"/>
            </a:xfrm>
            <a:prstGeom prst="line">
              <a:avLst/>
            </a:prstGeom>
            <a:ln w="2232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2100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912960" y="2376360"/>
              <a:ext cx="3076560" cy="1249560"/>
            </a:xfrm>
            <a:custGeom>
              <a:avLst/>
              <a:gdLst/>
              <a:ahLst/>
              <a:rect l="l" t="t" r="r" b="b"/>
              <a:pathLst>
                <a:path w="1938" h="787">
                  <a:moveTo>
                    <a:pt x="1938" y="0"/>
                  </a:moveTo>
                  <a:cubicBezTo>
                    <a:pt x="1879" y="9"/>
                    <a:pt x="1692" y="37"/>
                    <a:pt x="1584" y="54"/>
                  </a:cubicBezTo>
                  <a:cubicBezTo>
                    <a:pt x="1476" y="71"/>
                    <a:pt x="1390" y="82"/>
                    <a:pt x="1293" y="100"/>
                  </a:cubicBezTo>
                  <a:cubicBezTo>
                    <a:pt x="1196" y="118"/>
                    <a:pt x="1095" y="139"/>
                    <a:pt x="1004" y="163"/>
                  </a:cubicBezTo>
                  <a:cubicBezTo>
                    <a:pt x="913" y="187"/>
                    <a:pt x="823" y="214"/>
                    <a:pt x="748" y="243"/>
                  </a:cubicBezTo>
                  <a:cubicBezTo>
                    <a:pt x="673" y="272"/>
                    <a:pt x="613" y="305"/>
                    <a:pt x="552" y="339"/>
                  </a:cubicBezTo>
                  <a:cubicBezTo>
                    <a:pt x="491" y="373"/>
                    <a:pt x="439" y="408"/>
                    <a:pt x="384" y="447"/>
                  </a:cubicBezTo>
                  <a:cubicBezTo>
                    <a:pt x="329" y="486"/>
                    <a:pt x="284" y="518"/>
                    <a:pt x="220" y="575"/>
                  </a:cubicBezTo>
                  <a:cubicBezTo>
                    <a:pt x="156" y="632"/>
                    <a:pt x="46" y="743"/>
                    <a:pt x="0" y="787"/>
                  </a:cubicBezTo>
                </a:path>
              </a:pathLst>
            </a:custGeom>
            <a:noFill/>
            <a:ln w="223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214880" y="2647800"/>
              <a:ext cx="1542960" cy="635040"/>
            </a:xfrm>
            <a:custGeom>
              <a:avLst/>
              <a:gdLst/>
              <a:ahLst/>
              <a:rect l="l" t="t" r="r" b="b"/>
              <a:pathLst>
                <a:path w="972" h="400">
                  <a:moveTo>
                    <a:pt x="0" y="400"/>
                  </a:moveTo>
                  <a:cubicBezTo>
                    <a:pt x="22" y="385"/>
                    <a:pt x="95" y="333"/>
                    <a:pt x="136" y="308"/>
                  </a:cubicBezTo>
                  <a:cubicBezTo>
                    <a:pt x="177" y="283"/>
                    <a:pt x="209" y="266"/>
                    <a:pt x="244" y="248"/>
                  </a:cubicBezTo>
                  <a:cubicBezTo>
                    <a:pt x="279" y="230"/>
                    <a:pt x="317" y="214"/>
                    <a:pt x="348" y="200"/>
                  </a:cubicBezTo>
                  <a:cubicBezTo>
                    <a:pt x="379" y="186"/>
                    <a:pt x="395" y="178"/>
                    <a:pt x="432" y="164"/>
                  </a:cubicBezTo>
                  <a:cubicBezTo>
                    <a:pt x="469" y="150"/>
                    <a:pt x="478" y="143"/>
                    <a:pt x="568" y="116"/>
                  </a:cubicBezTo>
                  <a:cubicBezTo>
                    <a:pt x="658" y="89"/>
                    <a:pt x="888" y="24"/>
                    <a:pt x="972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68520" y="2654280"/>
              <a:ext cx="1517760" cy="628560"/>
            </a:xfrm>
            <a:custGeom>
              <a:avLst/>
              <a:gdLst/>
              <a:ahLst/>
              <a:rect l="l" t="t" r="r" b="b"/>
              <a:pathLst>
                <a:path w="956" h="396">
                  <a:moveTo>
                    <a:pt x="956" y="396"/>
                  </a:moveTo>
                  <a:cubicBezTo>
                    <a:pt x="934" y="381"/>
                    <a:pt x="861" y="329"/>
                    <a:pt x="820" y="304"/>
                  </a:cubicBezTo>
                  <a:cubicBezTo>
                    <a:pt x="779" y="279"/>
                    <a:pt x="747" y="262"/>
                    <a:pt x="712" y="244"/>
                  </a:cubicBezTo>
                  <a:cubicBezTo>
                    <a:pt x="677" y="226"/>
                    <a:pt x="639" y="210"/>
                    <a:pt x="608" y="196"/>
                  </a:cubicBezTo>
                  <a:cubicBezTo>
                    <a:pt x="577" y="182"/>
                    <a:pt x="561" y="174"/>
                    <a:pt x="524" y="160"/>
                  </a:cubicBezTo>
                  <a:cubicBezTo>
                    <a:pt x="487" y="146"/>
                    <a:pt x="475" y="139"/>
                    <a:pt x="388" y="112"/>
                  </a:cubicBezTo>
                  <a:cubicBezTo>
                    <a:pt x="301" y="85"/>
                    <a:pt x="81" y="23"/>
                    <a:pt x="0" y="0"/>
                  </a:cubicBezTo>
                </a:path>
              </a:pathLst>
            </a:custGeom>
            <a:noFill/>
            <a:ln w="2232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3985920" y="4056120"/>
              <a:ext cx="228600" cy="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380200" y="2772720"/>
              <a:ext cx="3146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8000"/>
                  </a:solidFill>
                  <a:latin typeface="Arial"/>
                </a:rPr>
                <a:t>Perfil de Descenso en Régimen de Darcy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2000" y="3121920"/>
              <a:ext cx="1915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Perfil de Descenso Real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s-ES_tradnl" sz="1200" spc="-1" strike="noStrike">
                  <a:solidFill>
                    <a:srgbClr val="ff0000"/>
                  </a:solidFill>
                  <a:latin typeface="Arial"/>
                </a:rPr>
                <a:t>en el acuífer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332960" y="3910680"/>
              <a:ext cx="3262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ivel Dinámico Medido al Interior del Poz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03240" y="4057560"/>
              <a:ext cx="21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911240" y="2361960"/>
              <a:ext cx="0" cy="69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911240" y="3430440"/>
              <a:ext cx="0" cy="622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51040" y="30452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9600" y="3625920"/>
              <a:ext cx="1604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571840" y="2362320"/>
              <a:ext cx="0" cy="514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77960" y="3138480"/>
              <a:ext cx="0" cy="479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09480" y="282924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711600" y="3282840"/>
              <a:ext cx="272880" cy="0"/>
            </a:xfrm>
            <a:prstGeom prst="line">
              <a:avLst/>
            </a:prstGeom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765600" y="298440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19440" y="2657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3765600" y="2361960"/>
              <a:ext cx="0" cy="29844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55880" y="4556520"/>
              <a:ext cx="2500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8000"/>
                  </a:solidFill>
                  <a:latin typeface="Arial"/>
                </a:rPr>
                <a:t>2</a:t>
              </a:r>
              <a:r>
                <a:rPr b="1" lang="en-US" sz="1400" spc="-1" strike="noStrike">
                  <a:solidFill>
                    <a:srgbClr val="008000"/>
                  </a:solidFill>
                  <a:latin typeface="Arial"/>
                </a:rPr>
                <a:t> = descenso según Darc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44000" y="4861080"/>
              <a:ext cx="2951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 = descenso real en el acuífe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59840" y="5185080"/>
              <a:ext cx="2309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= descenso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59240" y="4923000"/>
              <a:ext cx="4239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0000"/>
                  </a:solidFill>
                  <a:latin typeface="Arial"/>
                </a:rPr>
                <a:t>1</a:t>
              </a:r>
              <a:r>
                <a:rPr b="1" lang="en-US" sz="1400" spc="-1" strike="noStrike">
                  <a:solidFill>
                    <a:srgbClr val="0066ff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= sobredescenso por pérdidas en el poz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04600" y="1707840"/>
              <a:ext cx="33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 rot="16200000">
              <a:off x="4047840" y="1850400"/>
              <a:ext cx="277560" cy="230040"/>
            </a:xfrm>
            <a:custGeom>
              <a:avLst/>
              <a:gdLst>
                <a:gd name="textAreaLeft" fmla="*/ 92520 w 277560"/>
                <a:gd name="textAreaRight" fmla="*/ 237960 w 277560"/>
                <a:gd name="textAreaTop" fmla="*/ 132120 h 230040"/>
                <a:gd name="textAreaBottom" fmla="*/ 196920 h 23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5540"/>
                  </a:moveTo>
                  <a:lnTo>
                    <a:pt x="12440" y="15540"/>
                  </a:lnTo>
                  <a:lnTo>
                    <a:pt x="12440" y="7200"/>
                  </a:lnTo>
                  <a:lnTo>
                    <a:pt x="9340" y="7200"/>
                  </a:lnTo>
                  <a:lnTo>
                    <a:pt x="15470" y="0"/>
                  </a:lnTo>
                  <a:lnTo>
                    <a:pt x="21600" y="7200"/>
                  </a:lnTo>
                  <a:lnTo>
                    <a:pt x="18500" y="7200"/>
                  </a:lnTo>
                  <a:lnTo>
                    <a:pt x="185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1280" y="1214640"/>
            <a:ext cx="81284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o puede advertirse en el croquis anterior, el nivel que se mide al interior d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zo incorpora tanto las pérdidas de carga que se generan en el acuífero en l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ercanías del pozo, como aquellas originadas en la circulación al interior del son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aje y al ingreso de la bomba. Estas últimas (sondaje y bomba) suelen ser las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ignificativa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el descenso teórico se utilizan las expresiones de Thei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 * r</a:t>
            </a:r>
            <a:r>
              <a:rPr b="1" lang="es-ES" sz="1600" spc="-1" strike="noStrike" baseline="30000">
                <a:solidFill>
                  <a:srgbClr val="990033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2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3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           u</a:t>
            </a:r>
            <a:r>
              <a:rPr b="1" lang="es-ES" sz="1600" spc="-1" strike="noStrike" baseline="30000">
                <a:solidFill>
                  <a:srgbClr val="0099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u  =  -----------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;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W(u) =  - 0,5772  -  ln u  +  u  -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---------  +  ---------  -  ---------  +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4 * T * t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 2 * 2 !       3 * 3 !      4 * 4 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Q * W(u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s  =  ----------------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                                                        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4 * </a:t>
            </a:r>
            <a:r>
              <a:rPr b="1" lang="es-ES" sz="16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1" lang="es-ES" sz="1600" spc="-1" strike="noStrike">
                <a:solidFill>
                  <a:srgbClr val="0000ff"/>
                </a:solidFill>
                <a:latin typeface="Arial"/>
              </a:rPr>
              <a:t> * 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9880" y="1391400"/>
            <a:ext cx="7943760" cy="44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METODOLOGÍAS DE EVALUACIÓN HIDROGE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terminación de la Eficiencia de un Sond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ara determinar la eficiencia del pozo, asumiendo que las pérdidas mayores 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roducen por efecto del sondaje, tendríamo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Eficiencia (%) =  ------- * 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                                                                </a:t>
            </a:r>
            <a:r>
              <a:rPr b="1" lang="es-ES" sz="1600" spc="-1" strike="noStrike">
                <a:solidFill>
                  <a:srgbClr val="990033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990033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on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= descenso teórico según Theis (m);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= descenso real en el pozo (m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89880" y="735120"/>
            <a:ext cx="8114760" cy="5805720"/>
            <a:chOff x="389880" y="735120"/>
            <a:chExt cx="8114760" cy="5805720"/>
          </a:xfrm>
        </p:grpSpPr>
        <p:sp>
          <p:nvSpPr>
            <p:cNvPr id="110" name=""/>
            <p:cNvSpPr/>
            <p:nvPr/>
          </p:nvSpPr>
          <p:spPr>
            <a:xfrm>
              <a:off x="389880" y="735120"/>
              <a:ext cx="8114760" cy="58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Un aspecto importante, que comúnmente es necesario determinar, dice relació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con los efectos que produce el bombeo de un pozo en otro o bien los efectos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enera una batería de sondajes de explotación, en un área específica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Si se considera una batería de sondajes que habilitan un mismo acuífero, y qu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bombean de manera simultánea, sus conos de depresión se interfieren generan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escensos distintos a los que se producirían con la explotación aislada de ca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pozo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plicando el principio de superposición y la ecuación de Theis se obtiene la s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guiente expresión 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Q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2,24 * T * 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Δ</a:t>
              </a:r>
              <a:r>
                <a:rPr b="1" lang="es-ES" sz="1600" spc="-1" strike="noStrike">
                  <a:solidFill>
                    <a:srgbClr val="990033"/>
                  </a:solidFill>
                  <a:latin typeface="Arial"/>
                </a:rPr>
                <a:t> =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Σ  ------------------   Ln   -------------------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                                       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4 * π * T                       r</a:t>
              </a:r>
              <a:r>
                <a:rPr b="1" lang="es-ES" sz="1800" spc="-1" strike="noStrike" baseline="-25000">
                  <a:solidFill>
                    <a:srgbClr val="990033"/>
                  </a:solidFill>
                  <a:latin typeface="Arial"/>
                </a:rPr>
                <a:t>i</a:t>
              </a:r>
              <a:r>
                <a:rPr b="1" lang="es-ES" sz="1800" spc="-1" strike="noStrike" baseline="30000">
                  <a:solidFill>
                    <a:srgbClr val="990033"/>
                  </a:solidFill>
                  <a:latin typeface="Arial"/>
                </a:rPr>
                <a:t>2</a:t>
              </a:r>
              <a:r>
                <a:rPr b="1" lang="es-ES" sz="1800" spc="-1" strike="noStrike">
                  <a:solidFill>
                    <a:srgbClr val="990033"/>
                  </a:solidFill>
                  <a:latin typeface="Arial"/>
                </a:rPr>
                <a:t> * 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sta fórmula determina la depresión, que se produce en el acuífero, en un pu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que dista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r</a:t>
              </a:r>
              <a:r>
                <a:rPr b="1" lang="es-ES" sz="1600" spc="-1" strike="noStrike" baseline="-2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 r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 de los sondajes 1, 2,....... i, de los cuales se bombean cau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dales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............ Q</a:t>
              </a:r>
              <a:r>
                <a:rPr b="1" lang="es-ES" sz="16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, durante un tiempo t.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43200" y="4816440"/>
              <a:ext cx="76320" cy="517680"/>
            </a:xfrm>
            <a:custGeom>
              <a:avLst/>
              <a:gdLst>
                <a:gd name="textAreaLeft" fmla="*/ 22320 w 76320"/>
                <a:gd name="textAreaRight" fmla="*/ 76320 w 7632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 flipV="1">
              <a:off x="6538320" y="4802040"/>
              <a:ext cx="75960" cy="517680"/>
            </a:xfrm>
            <a:custGeom>
              <a:avLst/>
              <a:gdLst>
                <a:gd name="textAreaLeft" fmla="*/ 21960 w 75960"/>
                <a:gd name="textAreaRight" fmla="*/ 75960 w 75960"/>
                <a:gd name="textAreaTop" fmla="*/ 21240 h 517680"/>
                <a:gd name="textAreaBottom" fmla="*/ 4964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223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5e75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600280" y="150120"/>
            <a:ext cx="346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IDROGEOLOGÍA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083600" y="1189440"/>
            <a:ext cx="6898680" cy="4317120"/>
            <a:chOff x="1083600" y="1189440"/>
            <a:chExt cx="6898680" cy="4317120"/>
          </a:xfrm>
        </p:grpSpPr>
        <p:sp>
          <p:nvSpPr>
            <p:cNvPr id="115" name=""/>
            <p:cNvSpPr/>
            <p:nvPr/>
          </p:nvSpPr>
          <p:spPr>
            <a:xfrm>
              <a:off x="1083600" y="1189440"/>
              <a:ext cx="689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00"/>
                  </a:solidFill>
                  <a:latin typeface="Arial"/>
                </a:rPr>
                <a:t>METODOLOGÍAS DE EVALUACIÓN HIDROGEOLÓGIC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Cálculo de Interferencias (Pozo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314440" y="347652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305160" y="500184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83320" y="439236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678200" y="2485800"/>
              <a:ext cx="150840" cy="15084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3520" y="212112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18320" y="311184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493320" y="45705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97880" y="5135760"/>
              <a:ext cx="4032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Q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40200" y="3357360"/>
              <a:ext cx="150480" cy="150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41800" y="264492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03560" y="341820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733560" y="407844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6520" y="3589560"/>
              <a:ext cx="325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3406680" y="3493440"/>
              <a:ext cx="583560" cy="150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2478960" y="3452040"/>
              <a:ext cx="145224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80960" y="2609640"/>
              <a:ext cx="6094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081320" y="3447720"/>
              <a:ext cx="2514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118760" y="3246840"/>
              <a:ext cx="153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Punto problem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711840" y="43279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1480" y="492300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82560" y="33991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62160" y="2403720"/>
              <a:ext cx="75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ozo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3:27:49Z</dcterms:created>
  <dc:creator>usuario</dc:creator>
  <dc:description/>
  <dc:language>en-US</dc:language>
  <cp:lastModifiedBy>Carlos Parraguez D</cp:lastModifiedBy>
  <dcterms:modified xsi:type="dcterms:W3CDTF">2005-02-13T19:06:07Z</dcterms:modified>
  <cp:revision>707</cp:revision>
  <dc:subject/>
  <dc:title>Sin título de diapositiva</dc:title>
</cp:coreProperties>
</file>