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668A-3E67-4B5A-8385-C0E41EFF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B9F6-7208-46EB-AC19-D6438276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C7BF-5B8E-4481-A81A-3C1402CC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A2B6-FDE4-400F-B6C1-639B6C64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5F5D-B9FE-43EA-AA79-3D0F8BEF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22D9-82A2-4CEA-8BE7-3B8D785F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F381-8483-468C-8246-4CABE7AF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9F0F-8B52-4B3E-804C-F3779878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4169-8B67-44BE-B8CD-5FC52606E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FD17-56A7-412D-80CD-469E76E7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A040-6F55-42BB-9449-4F0E7980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514B-129A-4F41-9E11-3BA71970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1D7F-D9F2-41DC-8C9F-2010AB929E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812880" y="1149480"/>
          <a:ext cx="7467480" cy="499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2880" y="1149480"/>
                    <a:ext cx="746748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95440" y="762120"/>
            <a:ext cx="7894440" cy="5562360"/>
            <a:chOff x="595440" y="762120"/>
            <a:chExt cx="7894440" cy="5562360"/>
          </a:xfrm>
        </p:grpSpPr>
        <p:graphicFrame>
          <p:nvGraphicFramePr>
            <p:cNvPr id="98" name=""/>
            <p:cNvGraphicFramePr/>
            <p:nvPr/>
          </p:nvGraphicFramePr>
          <p:xfrm>
            <a:off x="4694400" y="762120"/>
            <a:ext cx="3795480" cy="5562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94400" y="762120"/>
                      <a:ext cx="3795480" cy="556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" name=""/>
            <p:cNvGraphicFramePr/>
            <p:nvPr/>
          </p:nvGraphicFramePr>
          <p:xfrm>
            <a:off x="595440" y="762120"/>
            <a:ext cx="3709800" cy="5562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5440" y="762120"/>
                      <a:ext cx="3709800" cy="556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1000" y="1049040"/>
            <a:ext cx="820296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6600"/>
                </a:solidFill>
                <a:latin typeface="Arial"/>
              </a:rPr>
              <a:t>- Determinación de la CURVA de DESCARGA del Pozo de Bombe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Las pruebas de bombeo practicadas en el pozo permiten determ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ar la Curva de Descarga de és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Para realizar esta tarea es necesario seguir los siguientes paso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graficar en un papel semilog de 4 ciclos, todas las pruebas (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Qvar y Qcte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trazar la línea de tendencia del tramo final de la nube de punto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xtrapolándola hasta los 10.000 minuto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eterminar mediante este procedimiento la depresión que s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eneraría en el pozo, para el respectivo caudal, a los 10.000 m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utos de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 este conjunto de pares ordenados estructurar el gráfic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Curva de Descarga en un sistema de coordenadas lineal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09480" y="728640"/>
          <a:ext cx="800100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728640"/>
                    <a:ext cx="80010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2600280" y="1645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7640" y="1033200"/>
            <a:ext cx="829152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Interpreta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métodos de interpretación de los resultados obtenidos en un ensay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bombeo están definidos para distintas condiciones hidráulicas de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cuífer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cuíferos Confinados y Lib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métodos que a continuación se describen suponen las sigui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diciones generale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cuífero aparentemente tiene una extensión superficial infinit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cuífero, en el área influenciada por el bombeo, es isótrop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tes del bombeo la superficie piezométrica y/o freática es horizo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al (o casi horizontal) en el área que será influenciada por el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bombea el acuífero a caudal constant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pozo penetra totalmente en el acuífero, recibiendo agua de todo 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pesor saturado, de forma que puede considerarse el flujo co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orizont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9800" y="1033200"/>
            <a:ext cx="821088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                                               4 T t 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-------------  W(u)                     S  =  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                                                 r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bombead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descenso (m) provocado por el bombeo, en un pozo de ob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rvación  ubicado a una distanci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del pozo de bombe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distancia entre el pozo de bombeo y el pozo de obser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(m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tiempo de bombeo para el cual se genera el descenso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(días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(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oeficiente de almacenamiento del acuífero (adimensional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ámetr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función del pozo adimension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7000" y="903600"/>
            <a:ext cx="8173800" cy="56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a partir de las ecuaciones señaladas se deb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guir el siguiente procedimiento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arar la “curva tipo” de la función del pozo representando 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pel logarítmico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present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btenidos m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iante el control de niveles realizado en el pozo de observación d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ante la prueba de bombeo, en un papel logarítmico de la misma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ala que la utilizada para la curva tip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perponer ambas curvas de forma que los ejes de coordenada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ntengan paralelos, buscando la posición de ambas que permi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mejor ajuste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gir un punto arbitrario A, en la parte en que ambas hojas se tra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pan, y a partir de éste determin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, 1/u, 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stituyendo los valores en las fórmulas indicadas, determinar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914400" y="685800"/>
            <a:ext cx="7619760" cy="5846400"/>
            <a:chOff x="914400" y="685800"/>
            <a:chExt cx="7619760" cy="58464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1074960" y="685800"/>
              <a:ext cx="7326720" cy="58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914400" y="841320"/>
              <a:ext cx="7619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9900"/>
                  </a:solidFill>
                  <a:latin typeface="Arial"/>
                </a:rPr>
                <a:t>MÉTODO DE THEIS - ACUÍFERO NO CONFINA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45440" y="5087520"/>
              <a:ext cx="2314080" cy="33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Tiempo (minutos)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44120" y="5077080"/>
              <a:ext cx="57888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95360" y="507708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.0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9108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544880" y="1692720"/>
              <a:ext cx="40140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534440" y="2431800"/>
              <a:ext cx="29088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14280" y="3197880"/>
              <a:ext cx="386640" cy="179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(m)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59120" y="5461200"/>
              <a:ext cx="409860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RANSMISIVIDAD =  910 m</a:t>
              </a:r>
              <a:r>
                <a:rPr b="1" lang="es-ES" sz="9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/día     ALMACENAMIENTO = 0,048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COND. HIDRÁULICA = 5,4 m/día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89720" y="5087520"/>
              <a:ext cx="57924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71960" y="1428840"/>
            <a:ext cx="793944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Jacob define las siguientes expresiones para determinar la transmisiv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d (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 y el coeficiente de almacenamiento (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15,81   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 baseline="-14000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constante bombeado, en l/s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14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14000">
                <a:solidFill>
                  <a:srgbClr val="000000"/>
                </a:solidFill>
                <a:latin typeface="Arial"/>
              </a:rPr>
              <a:t>1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n los descensos para un ciclo logarítmi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5640" y="1359000"/>
            <a:ext cx="757512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0,00156 * T * 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  =  ------------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es la transmisividad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distancia entre el pozo de observación y el poz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bombeo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tiempo que se determina al extrapolar la recta ha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rtar la absisa correspondiente a descenso 0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760" y="830160"/>
            <a:ext cx="8172360" cy="56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T y S para método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a partir de las ecuaciones señaladas se debe s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uir el siguiente procedimiento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parar la “curva tipo” de la función del pozo representan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 en papel log-log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epresent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obteni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diante el control de niveles realizado en el pozo de obser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ón durante la prueba de bombeo, en un papel logarítmico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misma escala que la utilizada para la curva tipo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perponer ambas curvas de forma que los ejes de coorden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s se mantengan paralelos, buscando la posición de amb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 permita el mejor ajuste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egir un punto arbitrario A, en la parte en que ambas hoja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slapan, y a partir de éste determinar 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W(u), 1/u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t/r</a:t>
            </a:r>
            <a:r>
              <a:rPr b="1" i="1" lang="es-ES" sz="1800" spc="-1" strike="noStrike" baseline="30000">
                <a:solidFill>
                  <a:srgbClr val="000000"/>
                </a:solidFill>
                <a:latin typeface="Arial"/>
              </a:rPr>
              <a:t>2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ustituyendo los valores en las fórmulas indicadas, determin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valores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0400" y="1043640"/>
            <a:ext cx="8266680" cy="51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Jaco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aplicar estas expresiones deben seguirse los siguientes paso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r en un papel semilog los descensos determinados en el poz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observación en función del tiempo (los tiempos en minutos 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n en la escala logarítmica, vale decir en el eje de las absisas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los descensos se grafican en la escala normal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traza la recta que define la nube de puntos y se determinan los v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res de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a un ciclo logarítmico (es conveniente elegir el ú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imo ciclo logarítmico involucrado pues representa el mayor laps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bombeo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 estos valores y el valor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se determina la transmisividad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 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 extrapola la recta definida de forma que intersecte la absisa c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respondiente al descenso 0, determinándose el valor de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y con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e valor más la distancia al pozo de bombeo y la transmisividad ca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lada, se determin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73200" y="787320"/>
            <a:ext cx="7724520" cy="5562720"/>
            <a:chOff x="673200" y="787320"/>
            <a:chExt cx="7724520" cy="5562720"/>
          </a:xfrm>
        </p:grpSpPr>
        <p:graphicFrame>
          <p:nvGraphicFramePr>
            <p:cNvPr id="135" name=""/>
            <p:cNvGraphicFramePr/>
            <p:nvPr/>
          </p:nvGraphicFramePr>
          <p:xfrm>
            <a:off x="673200" y="787320"/>
            <a:ext cx="7724520" cy="5562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3200" y="787320"/>
                      <a:ext cx="7724520" cy="556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3848040" y="4863960"/>
              <a:ext cx="3444840" cy="1778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74800" y="5239080"/>
              <a:ext cx="34848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 baseline="-14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59080" y="4312080"/>
              <a:ext cx="348480" cy="3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s-ES" sz="1400" spc="-1" strike="noStrike" baseline="-14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4458240" y="4901400"/>
              <a:ext cx="202320" cy="331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62600" y="4657680"/>
              <a:ext cx="263520" cy="285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5000" y="768960"/>
            <a:ext cx="8236440" cy="57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Recuperación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e método es confiable para determinar la transmisividad a partir de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atos obtenidos de un pozo de bombeo. El hecho de que durante la recu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ación se eliminen los efectos de las pérdidas de carga, que se genera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urante el bombeo, hace que este método sea el más apropiado para defi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parámetro señal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expresión utilizada es la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  =  0,183  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es el caudal bombeado durante la prueba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es la variación, en m, del nivel de recuperación para un cicl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garítmic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9680" y="924120"/>
            <a:ext cx="825588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Recuperación de Th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aplicar la expresión señalada se debe realizar lo siguient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función a los tiempos de control durante la recup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termine los valores de t / t* donde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 es el tiempo transcurrido desde que se inició el bombeo (min)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* es el tiempo transcurrido desde que se detuvo el bombeo (mi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esta forma, para el primer minuto de recuperación, si se bombeó 24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oras (1.440 min) se tendría t / t* = 1.441/1; para el segundo minuto 1442/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y así sucesivam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ficar las posiciones del nivel dinámico, controladas durante la r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peración (s), versus t / t*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zar una recta en base a la nube de puntos obtenida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terminar  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que corresponde a la variación del nivel durante 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iclo logarítmic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 este último dato ingresar en la fórmula señalada anteriormen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96880" y="682560"/>
            <a:ext cx="7950240" cy="5954760"/>
            <a:chOff x="596880" y="682560"/>
            <a:chExt cx="7950240" cy="5954760"/>
          </a:xfrm>
        </p:grpSpPr>
        <p:graphicFrame>
          <p:nvGraphicFramePr>
            <p:cNvPr id="149" name=""/>
            <p:cNvGraphicFramePr/>
            <p:nvPr/>
          </p:nvGraphicFramePr>
          <p:xfrm>
            <a:off x="596880" y="682560"/>
            <a:ext cx="7950240" cy="5954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6880" y="682560"/>
                      <a:ext cx="7950240" cy="595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>
              <a:off x="1295280" y="2438280"/>
              <a:ext cx="3657600" cy="106704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1980720" y="3429000"/>
              <a:ext cx="2730600" cy="0"/>
            </a:xfrm>
            <a:prstGeom prst="line">
              <a:avLst/>
            </a:prstGeom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942920" y="2933640"/>
              <a:ext cx="990360" cy="0"/>
            </a:xfrm>
            <a:prstGeom prst="line">
              <a:avLst/>
            </a:prstGeom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0" y="2933640"/>
              <a:ext cx="0" cy="482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51480" y="2912040"/>
              <a:ext cx="426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</a:t>
              </a:r>
              <a:r>
                <a:rPr b="1" lang="es-ES" sz="1600" spc="-1" strike="noStrike">
                  <a:solidFill>
                    <a:srgbClr val="ff0000"/>
                  </a:solidFill>
                  <a:latin typeface="Arial"/>
                </a:rPr>
                <a:t>’</a:t>
              </a:r>
              <a:r>
                <a:rPr b="1" lang="es-ES" sz="1600" spc="-1" strike="noStrike" baseline="-25000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94640" y="722520"/>
            <a:ext cx="8174160" cy="58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ste método fue propuesto por los autores señalados el año 1967 y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á adecuado para interpretar los datos de pruebas de bombeo desde p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zos de gran diámetro (nori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En este caso no puede suponerse, como hacen los otros métodos,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agua almacenada al interior de la captación es despreciable, de for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que este almacenamiento debe considerar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s expresiones propuestas son las siguientes 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Q                                               4 T t u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T  =  ------------  F(u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α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)               S  =  --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4 </a:t>
            </a:r>
            <a:r>
              <a:rPr b="1" lang="es-ES" sz="1800" spc="-1" strike="noStrike">
                <a:solidFill>
                  <a:srgbClr val="990033"/>
                </a:solidFill>
                <a:latin typeface="Symbol"/>
                <a:ea typeface="Symbol"/>
              </a:rPr>
              <a:t>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s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r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S  r</a:t>
            </a:r>
            <a:r>
              <a:rPr b="1" lang="es-ES" sz="1800" spc="-1" strike="noStrike" baseline="-25000">
                <a:solidFill>
                  <a:srgbClr val="990033"/>
                </a:solidFill>
                <a:latin typeface="Arial"/>
              </a:rPr>
              <a:t>w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</a:t>
            </a: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α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=  -----------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</a:t>
            </a:r>
            <a:r>
              <a:rPr b="1" lang="es-ES" sz="1800" spc="-1" strike="noStrike" baseline="-18000">
                <a:solidFill>
                  <a:srgbClr val="990033"/>
                </a:solidFill>
                <a:latin typeface="Arial"/>
              </a:rPr>
              <a:t>c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9680" y="1690200"/>
            <a:ext cx="7232040" cy="39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la transmisividad del acuífero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caudal bombeado durante la prueba en m</a:t>
            </a:r>
            <a:r>
              <a:rPr b="1" lang="es-E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/día 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radio de la noria en el tramo ranurado (m)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es el radio de la noria en el tramo no ranurado (m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arámetr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" sz="18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función del pozo adimensional 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 de la curva tipo seleccionad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Noria-Papadopulos-Cooper" descr=""/>
          <p:cNvPicPr/>
          <p:nvPr/>
        </p:nvPicPr>
        <p:blipFill>
          <a:blip r:embed="rId1"/>
          <a:stretch/>
        </p:blipFill>
        <p:spPr>
          <a:xfrm>
            <a:off x="406440" y="701640"/>
            <a:ext cx="8381880" cy="595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120" y="663120"/>
            <a:ext cx="79776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étodo de Papadopulos-Coop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ra determinar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a partir de las ecuaciones señaladas, se de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guir el siguiente procedimiento 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preparar las “curvas tipo” de la función del pozo representando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pel logarítmico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, α)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1/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representar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vs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, obtenidos media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te el control de niveles realizado en la noria durante la prueba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bombeo, en un papel logarítmico de la misma escala que la utilizad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ra las curvas tipos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superponer la curva de los datos reales a la familia de curvas tipo y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nteniendo los ejes de coordenadas paralelos, encontrar la pos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ión en la que la mayor parte de los puntos se ajusta a una de d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has curvas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elegir un punto arbitrario A, en la parte en que ambas hojas se tra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apan, y a partir de éste determinar los 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F(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, α), 1/u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1" i="1" lang="es-ES_tradnl" sz="16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i="1" lang="es-ES_tradnl" sz="1600" spc="-1" strike="noStrike" baseline="30000">
                <a:solidFill>
                  <a:srgbClr val="000000"/>
                </a:solidFill>
                <a:latin typeface="Arial"/>
              </a:rPr>
              <a:t> 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anotar también el valor de </a:t>
            </a:r>
            <a:r>
              <a:rPr b="1" i="1" lang="es-ES_tradnl" sz="1600" spc="-1" strike="noStrike">
                <a:solidFill>
                  <a:srgbClr val="990033"/>
                </a:solidFill>
                <a:latin typeface="Arial"/>
              </a:rPr>
              <a:t>α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correspondiente a la curva tipo s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990033"/>
                </a:solidFill>
                <a:latin typeface="Arial"/>
              </a:rPr>
              <a:t>leccionad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 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sustituyendo los valores en las fórmulas indicadas, determinar 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valores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 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-  el valor de </a:t>
            </a:r>
            <a:r>
              <a:rPr b="1" i="1" lang="es-ES_tradnl" sz="1600" spc="-1" strike="noStrike">
                <a:solidFill>
                  <a:srgbClr val="000000"/>
                </a:solidFill>
                <a:latin typeface="Arial"/>
              </a:rPr>
              <a:t>S,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si se calcula a través de las dos expresiones que lo p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ten, debiera ser muy similar en ambos ca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03880" y="42814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Curvas%20Papadopulos-Cooper" descr=""/>
          <p:cNvPicPr/>
          <p:nvPr/>
        </p:nvPicPr>
        <p:blipFill>
          <a:blip r:embed="rId1"/>
          <a:stretch/>
        </p:blipFill>
        <p:spPr>
          <a:xfrm>
            <a:off x="888840" y="811080"/>
            <a:ext cx="7467840" cy="578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1166760"/>
            <a:ext cx="803232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jecu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Las pruebas de bombeo o de agotamiento son imprescindibles pa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oder determinar las constantes elásticas (T y S) del acuífero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Para determinar la potencialidad de la captación respectiv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¿Qué es una Prueba de Bombeo (PB)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a PB consiste en extraer, de una captación de agua subterránea, u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udal constante, controlando en el tiempo el descenso del nivel 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gua en el interior de la obra (nivel dinámico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Existen tres tipos de P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caudal (Q) variable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Q constante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ruebas de recuper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5720" y="907920"/>
            <a:ext cx="705564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jecución de 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Arial"/>
              </a:rPr>
              <a:t>¿Qué captaciones intervienen en una Prueba de Bombeo (PB)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  saber dos tipos, la captación que se bombea y aqu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las aledañas que verán afectados sus niveles estátic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bido al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al pozo del cual se extrae el agua se lo denomina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poz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de bombeo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y a los restantes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pozos de observ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l pozo de bombeo debe estar equipado con los equip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extracción (motobomba) y con los dispositivos nec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rios para controlar y medir el caudal bombea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los pozos de observación no requieren de dispositivo al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guno, sólo se deberá tener un pozómetro para control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niveles dinámicos durante la ejecución de la prue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56320" y="1136520"/>
            <a:ext cx="692604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aspectos básicos a considerar para una PB son :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debe extraerse un gasto constante desde el poz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bombe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para esto se requieren equipos que permitan man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er un adecuado control sobre el caudal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quipos comunes son : disco y piezómetro, caud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ómetro, vertederos en V y recipiente graduado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simultáneamente al bombeo se debe controlar l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sición del nivel dinámico en los pozos involucra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os, utilizando pozómetros y cronómetro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esto último obliga a disponer de un operario por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zo, además de un mecánico para el equipo d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ombeo (motor, bomba y generador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990360" y="1630080"/>
            <a:ext cx="7246080" cy="3551400"/>
            <a:chOff x="990360" y="1630080"/>
            <a:chExt cx="7246080" cy="3551400"/>
          </a:xfrm>
        </p:grpSpPr>
        <p:sp>
          <p:nvSpPr>
            <p:cNvPr id="54" name=""/>
            <p:cNvSpPr/>
            <p:nvPr/>
          </p:nvSpPr>
          <p:spPr>
            <a:xfrm>
              <a:off x="990360" y="1630080"/>
              <a:ext cx="7246080" cy="20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ESCURRIMIENTO EN MEDIOS PERMEABL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Pruebas de Bombe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a escala de tiempo que suele utilizarse para controlar los nive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les dinámicos durante la PB es la siguiente :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1760400" y="3625200"/>
              <a:ext cx="5146200" cy="1556280"/>
              <a:chOff x="1760400" y="3625200"/>
              <a:chExt cx="5146200" cy="1556280"/>
            </a:xfrm>
          </p:grpSpPr>
          <p:sp>
            <p:nvSpPr>
              <p:cNvPr id="56" name=""/>
              <p:cNvSpPr/>
              <p:nvPr/>
            </p:nvSpPr>
            <p:spPr>
              <a:xfrm>
                <a:off x="1766880" y="3625200"/>
                <a:ext cx="207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0 a 1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962520" y="3717360"/>
                <a:ext cx="671760" cy="152640"/>
              </a:xfrm>
              <a:prstGeom prst="rightArrow">
                <a:avLst>
                  <a:gd name="adj1" fmla="val 50000"/>
                  <a:gd name="adj2" fmla="val 110024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922280" y="3625200"/>
                <a:ext cx="174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1 minuto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760400" y="3942720"/>
                <a:ext cx="21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10 a 2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760400" y="4234680"/>
                <a:ext cx="218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20 a 6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68320" y="4564800"/>
                <a:ext cx="229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De 60 a 200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975480" y="402228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975480" y="4314240"/>
                <a:ext cx="671400" cy="152640"/>
              </a:xfrm>
              <a:prstGeom prst="rightArrow">
                <a:avLst>
                  <a:gd name="adj1" fmla="val 50000"/>
                  <a:gd name="adj2" fmla="val 10996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988080" y="464472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15800" y="3917160"/>
                <a:ext cx="185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2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915800" y="4234680"/>
                <a:ext cx="1857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000000"/>
                    </a:solidFill>
                    <a:latin typeface="Arial"/>
                  </a:rPr>
                  <a:t>Cada 5 minutos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923720" y="4552200"/>
                <a:ext cx="196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da 10 minutos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791360" y="4844160"/>
                <a:ext cx="217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e 200 en adelante</a:t>
                </a: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936680" y="4831560"/>
                <a:ext cx="1969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ada 30 minutos   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988080" y="4924080"/>
                <a:ext cx="671400" cy="152280"/>
              </a:xfrm>
              <a:prstGeom prst="rightArrow">
                <a:avLst>
                  <a:gd name="adj1" fmla="val 50000"/>
                  <a:gd name="adj2" fmla="val 11022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6600" y="1325520"/>
            <a:ext cx="7962480" cy="50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ra el control del caudal que se extrae del pozo se suelen segui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siguientes procedimientos alternativos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trol Volumétr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e método requiere de un receptáculo al cual se conozca s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olumen, de forma que se pueda controlar el tiempo que se n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esita para colmatarlo y de esa forma determinar el caudal q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bombe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a metodología exige aforos sistemáticos, que suelen ser te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os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te sistema de control del caudal se utiliza en norias o en po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zos de bajo caudal, cuando los recursos económicos son es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s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9200" y="1317240"/>
            <a:ext cx="828252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ESCURRIMIENTO EN MEDIOS PERME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Pruebas de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- Control Mediante Disco y Piezómet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Es la metodología más usual, ya que permite mantener un contro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stante del caudal extraído con muy poco esfuerz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Para implementarlo se requieren los siguientes elementos : tub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acero para la descarga; discos de aforo con distintas aberturas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a válvula de control antes del tubo de descarga; un piezómetro;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curvas de calibración del laboratori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Todas las empresas constructoras de sondajes tienen no sólo u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no varios de estos equip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+ Con esta metodología se logra determinar muy bien el caudal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ombeo y permite mantener un buen control sobre el mism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600200" y="1828800"/>
          <a:ext cx="59436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28800"/>
                    <a:ext cx="59436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1219320" y="1295280"/>
            <a:ext cx="69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ff"/>
                </a:solidFill>
                <a:latin typeface="Arial"/>
              </a:rPr>
              <a:t>Válvula Control - Tubo Descarga - Disco - Piezóme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768680" y="2848320"/>
            <a:ext cx="3683160" cy="3142440"/>
            <a:chOff x="1768680" y="2848320"/>
            <a:chExt cx="3683160" cy="3142440"/>
          </a:xfrm>
        </p:grpSpPr>
        <p:sp>
          <p:nvSpPr>
            <p:cNvPr id="80" name=""/>
            <p:cNvSpPr/>
            <p:nvPr/>
          </p:nvSpPr>
          <p:spPr>
            <a:xfrm>
              <a:off x="2358720" y="2894400"/>
              <a:ext cx="107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Válvul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 Control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29520" y="4646880"/>
              <a:ext cx="1081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ubería 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escarg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92200" y="4570920"/>
              <a:ext cx="923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isco d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fo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309560" y="2848320"/>
              <a:ext cx="1142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Piezómet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2133360" y="3429000"/>
              <a:ext cx="60948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 flipV="1">
              <a:off x="3047760" y="4114800"/>
              <a:ext cx="15228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4241520" y="4076640"/>
              <a:ext cx="330120" cy="495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3809880" y="3009960"/>
              <a:ext cx="533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68680" y="568368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Sondaj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1854000" y="4876920"/>
              <a:ext cx="22860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28680" y="4342320"/>
              <a:ext cx="63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Cod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1905120" y="4114440"/>
              <a:ext cx="30456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Parragu</cp:lastModifiedBy>
  <dcterms:modified xsi:type="dcterms:W3CDTF">2003-07-05T20:59:16Z</dcterms:modified>
  <cp:revision>527</cp:revision>
  <dc:subject/>
  <dc:title>Sin título de diapositiva</dc:title>
</cp:coreProperties>
</file>