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F5A-CABB-4158-B74B-CA4F5A71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397-8AFB-4ED0-97FC-179092C6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1B0-135B-4262-A7FF-B1153B56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5CA-1BAC-4F84-B5F1-F0CEEC73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22F-A5BB-43AD-8A7A-07CF45E7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FCB-6D68-45CC-8A3A-C669F8EF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283-214B-4DA6-B815-14786213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927-34AA-4F58-9234-C3F0DAA7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C54-3FA4-4C9A-AD66-677BD744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BF1-4BD9-4612-927B-BE08778E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469-4ADA-45B9-8807-B4056E2F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821-6A92-4CC6-83BA-9DB654A8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17C2-D41C-4315-A2BA-3E264BAB0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12880" y="1149480"/>
          <a:ext cx="746748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149480"/>
                    <a:ext cx="746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5440" y="762120"/>
            <a:ext cx="7894440" cy="5562360"/>
            <a:chOff x="595440" y="762120"/>
            <a:chExt cx="7894440" cy="5562360"/>
          </a:xfrm>
        </p:grpSpPr>
        <p:graphicFrame>
          <p:nvGraphicFramePr>
            <p:cNvPr id="98" name=""/>
            <p:cNvGraphicFramePr/>
            <p:nvPr/>
          </p:nvGraphicFramePr>
          <p:xfrm>
            <a:off x="4694400" y="762120"/>
            <a:ext cx="3795480" cy="556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4400" y="762120"/>
                      <a:ext cx="379548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95440" y="762120"/>
            <a:ext cx="3709800" cy="5562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762120"/>
                      <a:ext cx="370980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000" y="1049040"/>
            <a:ext cx="82029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- Determinación de la CURVA de DESCARGA del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s pruebas de bombeo practicadas en el pozo permiten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r la Curva de Descarga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realizar esta tarea es necesario seguir los siguientes pas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graficar en un papel semilog de 4 ciclos, todas las pruebas (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var y Qc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trazar la línea de tendencia del tramo final de la nube de punt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trapolándola hasta los 10.000 minut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terminar mediante este procedimiento la depresión que 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ría en el pozo, para el respectivo caudal, a los 10.000 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tos 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 este conjunto de pares ordenados estructurar el gráf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urva de Descarga en un sistema de coordenadas line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09480" y="728640"/>
          <a:ext cx="8001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2864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00280" y="1645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640" y="1033200"/>
            <a:ext cx="82915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terpreta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métodos de interpretación de los resultados obtenidos en un ensay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 están definidos para distintas condiciones hidráulicas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uíferos Confinados y Li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étodos que a continuación se describen suponen las sigu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es general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 aparentemente tiene una extensión superficial infini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, en el área influenciada por el bombeo, es isótrop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s del bombeo la superficie piezométrica y/o freática es horiz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l (o casi horizontal) en el área que será influenciada por e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bombea el acuífero a caudal constant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ozo penetra totalmente en el acuífero, recibiendo agua de todo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sor saturado, de forma que puede considerarse el flujo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800" y="1033200"/>
            <a:ext cx="82108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a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7000" y="903600"/>
            <a:ext cx="8173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do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ante el control de niveles realizado en el pozo de observación d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nte la prueba de bombeo, en un papel logarítmico de la misma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d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tengan paralelos, buscando la posición de ambas que permi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 tra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 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960" y="1428840"/>
            <a:ext cx="7939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cob define las siguientes expresiones para determinar la transmisiv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y el coeficiente de almacenamiento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15,81   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tante bombeado, en l/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los descensos para un ciclo 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5640" y="1359000"/>
            <a:ext cx="75751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0,00156 * T * 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observación y el poz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ombeo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que se determina al extrapolar la recta 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ar la absisa correspondiente a descenso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830160"/>
            <a:ext cx="8172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T y S para 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 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 en papel log-log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el control de niveles realizado en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urante la prueba de bombeo, en un papel logarítm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isma es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s se mantengan paralelos, buscando la posición de amb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permita 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400" y="1043640"/>
            <a:ext cx="826668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estas expresiones deben seguirse los siguientes paso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en un papel semilog los descensos determinados en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observación en función del tiempo (los tiempos en minuto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n en la escala logarítmica, vale decir en el eje de las absis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os descensos se grafican en la escala norm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traza la recta que define la nube de puntos y se determinan los 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res de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a un ciclo logarítmico (es conveniente elegir el ú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mo ciclo logarítmico involucrado pues representa el mayor lap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bombeo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os valores y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determina la transmisividad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pola la recta definida de forma que intersecte la absis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espondiente al descenso 0, determinándose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c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 valor más la distancia al pozo de bombeo y la transmisividad c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ada, se determi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00" y="787320"/>
            <a:ext cx="7724520" cy="5562720"/>
            <a:chOff x="673200" y="787320"/>
            <a:chExt cx="7724520" cy="5562720"/>
          </a:xfrm>
        </p:grpSpPr>
        <p:graphicFrame>
          <p:nvGraphicFramePr>
            <p:cNvPr id="135" name=""/>
            <p:cNvGraphicFramePr/>
            <p:nvPr/>
          </p:nvGraphicFramePr>
          <p:xfrm>
            <a:off x="673200" y="787320"/>
            <a:ext cx="7724520" cy="556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787320"/>
                      <a:ext cx="772452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3848040" y="4863960"/>
              <a:ext cx="344484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74800" y="5239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9080" y="4312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458240" y="4901400"/>
              <a:ext cx="202320" cy="33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600" y="4657680"/>
              <a:ext cx="263520" cy="28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000" y="768960"/>
            <a:ext cx="8236440" cy="57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 método es confiable para determinar la transmisividad a partir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os obtenidos de un pozo de bombeo. El hecho de que durante la re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ación se eliminen los efectos de las pérdidas de carga, que se gene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urante el bombeo, hace que este método sea el más apropiado para def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rámetro señal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xpresión utilizada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0,183  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variación, en m, del nivel de recuperación para un cicl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9680" y="924120"/>
            <a:ext cx="8255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la expresión señalada se debe realizar lo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función a los tiempos de control durante la recu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e los valores de t / t* dond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 es el tiempo transcurrido desde que se inició el bombeo (min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* es el tiempo transcurrido desde que se detuvo el bombeo (m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esta forma, para el primer minuto de recuperación, si se bombeó 2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as (1.440 min) se tendría t / t* = 1.441/1; para el segundo minuto 1442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sí sucesiva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las posiciones del nivel dinámico, controladas durante la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peración (s), versus t / t*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zar una recta en base a la nube de puntos obtenid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r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 corresponde a la variación del nivel durant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logarítm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e último dato ingresar en la fórmula señalada anterior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6880" y="682560"/>
            <a:ext cx="7950240" cy="5954760"/>
            <a:chOff x="596880" y="682560"/>
            <a:chExt cx="7950240" cy="5954760"/>
          </a:xfrm>
        </p:grpSpPr>
        <p:graphicFrame>
          <p:nvGraphicFramePr>
            <p:cNvPr id="149" name=""/>
            <p:cNvGraphicFramePr/>
            <p:nvPr/>
          </p:nvGraphicFramePr>
          <p:xfrm>
            <a:off x="596880" y="682560"/>
            <a:ext cx="7950240" cy="5954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6880" y="682560"/>
                      <a:ext cx="7950240" cy="59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295280" y="2438280"/>
              <a:ext cx="3657600" cy="1067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80720" y="3429000"/>
              <a:ext cx="273060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42920" y="2933640"/>
              <a:ext cx="99036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2933640"/>
              <a:ext cx="0" cy="48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1480" y="2912040"/>
              <a:ext cx="426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’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4640" y="722520"/>
            <a:ext cx="81741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ste método fue propuesto por los autores señalados el año 1967 y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á adecuado para interpretar los datos de pruebas de bombeo desde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os de gran diámetro (no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este caso no puede suponerse, como hacen los otros métodos,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gua almacenada al interior de la captación es despreciable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este almacenamiento debe consider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expresiones propuestas son la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  F(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              S  =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s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S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-18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9680" y="1690200"/>
            <a:ext cx="723204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ranurado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no ranurad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 de la curva tipo seleccio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Noria-Papadopulos-Cooper" descr=""/>
          <p:cNvPicPr/>
          <p:nvPr/>
        </p:nvPicPr>
        <p:blipFill>
          <a:blip r:embed="rId1"/>
          <a:stretch/>
        </p:blipFill>
        <p:spPr>
          <a:xfrm>
            <a:off x="406440" y="701640"/>
            <a:ext cx="838188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120" y="663120"/>
            <a:ext cx="7977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a partir de las ecuaciones señaladas, se 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preparar las “curvas tipo” de la función del pozo representando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, α)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represent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obtenidos media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 el control de niveles realizado en la noria durante la prueb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ombeo, en un papel logarítmico de la misma escala que la uti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las curvas tipo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perponer la curva de los datos reales a la familia de curvas tipo y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endo los ejes de coordenadas paralelos, encontrar la pos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ón en la que la mayor parte de los puntos se ajusta a una de 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as curva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egir un punto arbitrario A, en la parte en que ambas hojas se t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α), 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i="1" lang="es-ES_tradnl" sz="16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anotar también el valor de </a:t>
            </a: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α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correspondiente a la curva tipo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leccionad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stituyendo los valores en las fórmulas indicadas, determinar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 valor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si se calcula a través de las dos expresiones que lo p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ten, debiera ser muy similar en ambos ca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Curvas%20Papadopulos-Cooper" descr=""/>
          <p:cNvPicPr/>
          <p:nvPr/>
        </p:nvPicPr>
        <p:blipFill>
          <a:blip r:embed="rId1"/>
          <a:stretch/>
        </p:blipFill>
        <p:spPr>
          <a:xfrm>
            <a:off x="888840" y="811080"/>
            <a:ext cx="7467840" cy="578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166760"/>
            <a:ext cx="8032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s pruebas de bombeo o de agotamiento son imprescindibles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er determinar las constantes elásticas (T y S) del acuífe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terminar la potencialidad de la captación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es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PB consiste en extraer, de una captación de agua subterránea,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constante, controlando en el tiempo el descenso del nivel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el interior de la obra (nivel dinámic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xisten tres tipos de 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caudal (Q) vari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Q constante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recupe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5720" y="907920"/>
            <a:ext cx="7055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captaciones intervienen en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 saber dos tipos, la captación que se bombea y aqu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las aledañas que verán afectados sus niveles est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do a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l pozo del cual se extrae el agua se lo denomin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bombe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a los resta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s de observ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ozo de bombeo debe estar equipado con los equip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extracción (motobomba) y con los dispositivos ne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s para controlar y medir el caudal bombe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pozos de observación no requieren de dispositivo 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uno, sólo se deberá tener un pozómetro para contro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niveles dinámicos durante la ejecu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6320" y="1136520"/>
            <a:ext cx="69260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aspectos básicos a considerar para una PB son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be extraerse un gasto constante desde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esto se requieren equipos que permitan ma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 un adecuado control sobre el caud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quipos comunes son : disco y piezómetro, caud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metro, vertederos en V y recipiente gradua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imultáneamente al bombeo se debe controlar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ición del nivel dinámico en los pozos involuc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s, utilizando pozómetros y cronómetr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último obliga a disponer de un operario p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zo, además de un mecánico para el equip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(motor, bomba y generado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90360" y="1630080"/>
            <a:ext cx="7246080" cy="3551400"/>
            <a:chOff x="990360" y="1630080"/>
            <a:chExt cx="7246080" cy="3551400"/>
          </a:xfrm>
        </p:grpSpPr>
        <p:sp>
          <p:nvSpPr>
            <p:cNvPr id="54" name=""/>
            <p:cNvSpPr/>
            <p:nvPr/>
          </p:nvSpPr>
          <p:spPr>
            <a:xfrm>
              <a:off x="990360" y="1630080"/>
              <a:ext cx="724608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ESCURRIMIENTO EN MEDIOS PERMEAB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uebas de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escala de tiempo que suele utilizarse para controlar los nive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es dinámicos durante la PB es la siguiente 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60400" y="3625200"/>
              <a:ext cx="5146200" cy="1556280"/>
              <a:chOff x="1760400" y="3625200"/>
              <a:chExt cx="5146200" cy="1556280"/>
            </a:xfrm>
          </p:grpSpPr>
          <p:sp>
            <p:nvSpPr>
              <p:cNvPr id="56" name=""/>
              <p:cNvSpPr/>
              <p:nvPr/>
            </p:nvSpPr>
            <p:spPr>
              <a:xfrm>
                <a:off x="1766880" y="3625200"/>
                <a:ext cx="20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0 a 1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62520" y="3717360"/>
                <a:ext cx="671760" cy="152640"/>
              </a:xfrm>
              <a:prstGeom prst="rightArrow">
                <a:avLst>
                  <a:gd name="adj1" fmla="val 50000"/>
                  <a:gd name="adj2" fmla="val 110024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22280" y="3625200"/>
                <a:ext cx="174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1 minut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60400" y="394272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10 a 2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60400" y="423468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20 a 6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68320" y="4564800"/>
                <a:ext cx="229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60 a 20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75480" y="40222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75480" y="4314240"/>
                <a:ext cx="671400" cy="152640"/>
              </a:xfrm>
              <a:prstGeom prst="rightArrow">
                <a:avLst>
                  <a:gd name="adj1" fmla="val 50000"/>
                  <a:gd name="adj2" fmla="val 10996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88080" y="464472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5800" y="391716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2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15800" y="423468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5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23720" y="455220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10 minutos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91360" y="4844160"/>
                <a:ext cx="217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200 en adelant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36680" y="483156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30 minutos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88080" y="49240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600" y="1325520"/>
            <a:ext cx="79624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el control del caudal que se extrae del pozo se suelen segu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siguientes procedimientos alternativ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Volu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método requiere de un receptáculo al cual se conozca s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umen, de forma que se pueda controlar el tiempo que se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sita para colmatarlo y de esa forma determinar el caudal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bombe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a metodología exige aforos sistemáticos, que suelen ser 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o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sistema de control del caudal se utiliza en norias o 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s de bajo caudal, cuando los recursos económicos s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200" y="1317240"/>
            <a:ext cx="82825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Mediante Disco y Piezómet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 la metodología más usual, ya que permite mantener u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ante del caudal extraído con muy poco esfuerz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implementarlo se requieren los siguientes elementos : tu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cero para la descarga; discos de aforo con distintas abertur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válvula de control antes del tubo de descarga; un piezómet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urvas de calibración del laborato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Todas las empresas constructoras de sondajes tienen no sólo u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no varios de estos equip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 esta metodología se logra determinar muy bien el caudal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y permite mantener un buen control sobre el mism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19320" y="12952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Arial"/>
              </a:rPr>
              <a:t>Válvula Control - Tubo Descarga - Disco - Piezó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68680" y="2848320"/>
            <a:ext cx="3683160" cy="3142440"/>
            <a:chOff x="1768680" y="2848320"/>
            <a:chExt cx="3683160" cy="3142440"/>
          </a:xfrm>
        </p:grpSpPr>
        <p:sp>
          <p:nvSpPr>
            <p:cNvPr id="80" name=""/>
            <p:cNvSpPr/>
            <p:nvPr/>
          </p:nvSpPr>
          <p:spPr>
            <a:xfrm>
              <a:off x="2358720" y="2894400"/>
              <a:ext cx="107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álvul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29520" y="464688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ubería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carg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2200" y="457092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sco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fo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09560" y="284832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Piezóme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133360" y="342900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047760" y="4114800"/>
              <a:ext cx="1522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241520" y="4076640"/>
              <a:ext cx="330120" cy="49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880" y="30099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68680" y="56836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ondaj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854000" y="4876920"/>
              <a:ext cx="2286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8680" y="43423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905120" y="4114440"/>
              <a:ext cx="3045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7-05T20:59:16Z</dcterms:modified>
  <cp:revision>527</cp:revision>
  <dc:subject/>
  <dc:title>Sin título de diapositiva</dc:title>
</cp:coreProperties>
</file>