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D42-0D31-40F2-97DF-7B665E2E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7D2-2140-4480-B03D-6AB30C8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855-CFE6-4A16-9074-E8890B5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A01-277C-4C48-8505-42101CF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34F-8B7D-47AF-AD3B-5F302BAD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498-A40A-4A5C-B2CE-4CE285C6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F5F-939A-4B05-A21D-0687CC7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7EE-F16B-44DA-BFEE-FDE67300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096-FFD8-4E87-B431-49855AB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DAA-060F-491F-B68A-85D03C6E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2B9-2D53-4A22-A1EB-3BF041BE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226-9EFC-4C88-BA1B-D8624A87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16B-DF4E-4ABE-8FF0-CC9258118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39:48Z</dcterms:modified>
  <cp:revision>488</cp:revision>
  <dc:subject/>
  <dc:title>Sin título de diapositiva</dc:title>
</cp:coreProperties>
</file>