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5A51-BAB1-4A99-9B02-C180AEEB0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1732-3729-4AC6-BB7E-AD13DD91D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CCEC-1F5C-4024-BF18-45A03DA95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61E1-497F-4E43-9227-0EA378CED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67FE-25DE-4C5F-BFED-A4A4E1007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CC24-0065-44BE-ABA5-3E689DAE8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59B4-487F-4CA8-BD38-F9F281366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D4A8-F3F8-4A1E-9C5E-C53227832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BEAC-9CD4-4F1A-9CA7-6CEB11177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0A5B-AD09-4808-ABB0-818575C8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1355-8CE3-444B-A957-594F95A4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41EC-50D0-4D0F-A178-8C1A685D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AC704-EC9C-440D-95DF-9FA4C58580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60280" y="1481040"/>
            <a:ext cx="470232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Arial"/>
              </a:rPr>
              <a:t>RECURS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Arial"/>
              </a:rPr>
              <a:t>HÍDRIC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"/>
              </a:rPr>
              <a:t>Departamento de Geolog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"/>
              </a:rPr>
              <a:t>Universidad de C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6840" y="1423440"/>
            <a:ext cx="8518680" cy="45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Unidades Permeables e Im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Acuíferos Libres o Freátic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Se define como acuífero libre a un medio permeable que se encuent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or lo general parcialmente saturado y cuya agua subterránea se e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uentra a presión atmosférica, vale decir la superficie freática se prese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a conectada a la atmósfera a través de los intersticios del medio per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a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Acuíferos Confin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Son medios permeables limitados hacia el techo y la base por estra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mpermeables. Se presentan en presión y por consiguiente el agua subt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ránea satura por completo el acuífero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4680" y="1716120"/>
            <a:ext cx="8421120" cy="32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Unidades Permeables e Im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Acuíferos Semilibres y Semiconfin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Entre un acuífero libre y uno confinado, se comprenderá que existe u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rie continua definida por el grado de confinamiento del medio perme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le. Los que presentan muy leve confinamiento se denominan acuíf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os semilibres y los que lo presentan en grado importante semiconfin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30200" y="1514160"/>
            <a:ext cx="8259840" cy="3363120"/>
            <a:chOff x="430200" y="1514160"/>
            <a:chExt cx="8259840" cy="3363120"/>
          </a:xfrm>
        </p:grpSpPr>
        <p:grpSp>
          <p:nvGrpSpPr>
            <p:cNvPr id="105" name=""/>
            <p:cNvGrpSpPr/>
            <p:nvPr/>
          </p:nvGrpSpPr>
          <p:grpSpPr>
            <a:xfrm>
              <a:off x="430200" y="2039760"/>
              <a:ext cx="8259840" cy="2036880"/>
              <a:chOff x="430200" y="2039760"/>
              <a:chExt cx="8259840" cy="203688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1165320" y="2039760"/>
                <a:ext cx="7524720" cy="2036880"/>
                <a:chOff x="1165320" y="2039760"/>
                <a:chExt cx="7524720" cy="203688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1165320" y="2039760"/>
                  <a:ext cx="7524720" cy="2036880"/>
                </a:xfrm>
                <a:custGeom>
                  <a:avLst/>
                  <a:gdLst/>
                  <a:ahLst/>
                  <a:rect l="l" t="t" r="r" b="b"/>
                  <a:pathLst>
                    <a:path w="4740" h="1283">
                      <a:moveTo>
                        <a:pt x="271" y="889"/>
                      </a:moveTo>
                      <a:cubicBezTo>
                        <a:pt x="328" y="945"/>
                        <a:pt x="430" y="1007"/>
                        <a:pt x="511" y="1026"/>
                      </a:cubicBezTo>
                      <a:cubicBezTo>
                        <a:pt x="581" y="1096"/>
                        <a:pt x="631" y="1079"/>
                        <a:pt x="674" y="1137"/>
                      </a:cubicBezTo>
                      <a:cubicBezTo>
                        <a:pt x="783" y="1134"/>
                        <a:pt x="805" y="1186"/>
                        <a:pt x="914" y="1180"/>
                      </a:cubicBezTo>
                      <a:cubicBezTo>
                        <a:pt x="923" y="1180"/>
                        <a:pt x="1154" y="1213"/>
                        <a:pt x="1163" y="1214"/>
                      </a:cubicBezTo>
                      <a:cubicBezTo>
                        <a:pt x="1274" y="1224"/>
                        <a:pt x="1293" y="1214"/>
                        <a:pt x="1403" y="1231"/>
                      </a:cubicBezTo>
                      <a:cubicBezTo>
                        <a:pt x="1471" y="1283"/>
                        <a:pt x="1568" y="1212"/>
                        <a:pt x="1651" y="1231"/>
                      </a:cubicBezTo>
                      <a:cubicBezTo>
                        <a:pt x="1694" y="1223"/>
                        <a:pt x="1746" y="1258"/>
                        <a:pt x="1788" y="1245"/>
                      </a:cubicBezTo>
                      <a:cubicBezTo>
                        <a:pt x="1797" y="1239"/>
                        <a:pt x="1804" y="1228"/>
                        <a:pt x="1814" y="1228"/>
                      </a:cubicBezTo>
                      <a:cubicBezTo>
                        <a:pt x="1829" y="1228"/>
                        <a:pt x="1842" y="1241"/>
                        <a:pt x="1857" y="1245"/>
                      </a:cubicBezTo>
                      <a:cubicBezTo>
                        <a:pt x="1882" y="1252"/>
                        <a:pt x="1909" y="1255"/>
                        <a:pt x="1934" y="1262"/>
                      </a:cubicBezTo>
                      <a:cubicBezTo>
                        <a:pt x="1970" y="1263"/>
                        <a:pt x="1984" y="1248"/>
                        <a:pt x="2071" y="1249"/>
                      </a:cubicBezTo>
                      <a:cubicBezTo>
                        <a:pt x="2138" y="1245"/>
                        <a:pt x="2237" y="1256"/>
                        <a:pt x="2337" y="1240"/>
                      </a:cubicBezTo>
                      <a:cubicBezTo>
                        <a:pt x="2437" y="1224"/>
                        <a:pt x="2580" y="1177"/>
                        <a:pt x="2672" y="1154"/>
                      </a:cubicBezTo>
                      <a:cubicBezTo>
                        <a:pt x="2689" y="1148"/>
                        <a:pt x="2877" y="1110"/>
                        <a:pt x="2892" y="1101"/>
                      </a:cubicBezTo>
                      <a:cubicBezTo>
                        <a:pt x="2901" y="1096"/>
                        <a:pt x="3142" y="1048"/>
                        <a:pt x="3149" y="1041"/>
                      </a:cubicBezTo>
                      <a:cubicBezTo>
                        <a:pt x="3183" y="1007"/>
                        <a:pt x="3388" y="976"/>
                        <a:pt x="3434" y="965"/>
                      </a:cubicBezTo>
                      <a:cubicBezTo>
                        <a:pt x="3462" y="947"/>
                        <a:pt x="3694" y="915"/>
                        <a:pt x="3726" y="905"/>
                      </a:cubicBezTo>
                      <a:cubicBezTo>
                        <a:pt x="3855" y="929"/>
                        <a:pt x="4012" y="812"/>
                        <a:pt x="4120" y="785"/>
                      </a:cubicBezTo>
                      <a:cubicBezTo>
                        <a:pt x="4208" y="763"/>
                        <a:pt x="4383" y="705"/>
                        <a:pt x="4472" y="700"/>
                      </a:cubicBezTo>
                      <a:cubicBezTo>
                        <a:pt x="4499" y="691"/>
                        <a:pt x="4740" y="667"/>
                        <a:pt x="4703" y="631"/>
                      </a:cubicBezTo>
                      <a:cubicBezTo>
                        <a:pt x="4687" y="616"/>
                        <a:pt x="4713" y="9"/>
                        <a:pt x="4693" y="0"/>
                      </a:cubicBezTo>
                      <a:cubicBezTo>
                        <a:pt x="4591" y="30"/>
                        <a:pt x="4548" y="34"/>
                        <a:pt x="4477" y="48"/>
                      </a:cubicBezTo>
                      <a:cubicBezTo>
                        <a:pt x="4406" y="62"/>
                        <a:pt x="4359" y="70"/>
                        <a:pt x="4267" y="84"/>
                      </a:cubicBezTo>
                      <a:cubicBezTo>
                        <a:pt x="4175" y="98"/>
                        <a:pt x="4059" y="116"/>
                        <a:pt x="3925" y="132"/>
                      </a:cubicBezTo>
                      <a:cubicBezTo>
                        <a:pt x="3828" y="160"/>
                        <a:pt x="3609" y="163"/>
                        <a:pt x="3463" y="180"/>
                      </a:cubicBezTo>
                      <a:cubicBezTo>
                        <a:pt x="3317" y="197"/>
                        <a:pt x="3187" y="217"/>
                        <a:pt x="3046" y="235"/>
                      </a:cubicBezTo>
                      <a:cubicBezTo>
                        <a:pt x="2905" y="253"/>
                        <a:pt x="2865" y="262"/>
                        <a:pt x="2618" y="286"/>
                      </a:cubicBezTo>
                      <a:cubicBezTo>
                        <a:pt x="2371" y="310"/>
                        <a:pt x="1872" y="354"/>
                        <a:pt x="1561" y="378"/>
                      </a:cubicBezTo>
                      <a:cubicBezTo>
                        <a:pt x="1250" y="402"/>
                        <a:pt x="947" y="418"/>
                        <a:pt x="749" y="432"/>
                      </a:cubicBezTo>
                      <a:cubicBezTo>
                        <a:pt x="551" y="446"/>
                        <a:pt x="471" y="454"/>
                        <a:pt x="373" y="462"/>
                      </a:cubicBezTo>
                      <a:cubicBezTo>
                        <a:pt x="275" y="470"/>
                        <a:pt x="210" y="476"/>
                        <a:pt x="163" y="480"/>
                      </a:cubicBezTo>
                      <a:cubicBezTo>
                        <a:pt x="116" y="484"/>
                        <a:pt x="116" y="484"/>
                        <a:pt x="91" y="486"/>
                      </a:cubicBezTo>
                      <a:cubicBezTo>
                        <a:pt x="66" y="488"/>
                        <a:pt x="26" y="486"/>
                        <a:pt x="13" y="490"/>
                      </a:cubicBezTo>
                      <a:cubicBezTo>
                        <a:pt x="0" y="494"/>
                        <a:pt x="9" y="497"/>
                        <a:pt x="10" y="510"/>
                      </a:cubicBezTo>
                      <a:cubicBezTo>
                        <a:pt x="11" y="523"/>
                        <a:pt x="11" y="549"/>
                        <a:pt x="17" y="566"/>
                      </a:cubicBezTo>
                      <a:cubicBezTo>
                        <a:pt x="23" y="583"/>
                        <a:pt x="27" y="606"/>
                        <a:pt x="45" y="614"/>
                      </a:cubicBezTo>
                      <a:cubicBezTo>
                        <a:pt x="63" y="622"/>
                        <a:pt x="97" y="617"/>
                        <a:pt x="127" y="616"/>
                      </a:cubicBezTo>
                      <a:cubicBezTo>
                        <a:pt x="157" y="615"/>
                        <a:pt x="184" y="610"/>
                        <a:pt x="223" y="606"/>
                      </a:cubicBezTo>
                      <a:cubicBezTo>
                        <a:pt x="262" y="602"/>
                        <a:pt x="304" y="597"/>
                        <a:pt x="361" y="594"/>
                      </a:cubicBezTo>
                      <a:cubicBezTo>
                        <a:pt x="418" y="591"/>
                        <a:pt x="490" y="592"/>
                        <a:pt x="565" y="588"/>
                      </a:cubicBezTo>
                      <a:cubicBezTo>
                        <a:pt x="640" y="584"/>
                        <a:pt x="662" y="574"/>
                        <a:pt x="811" y="570"/>
                      </a:cubicBezTo>
                      <a:cubicBezTo>
                        <a:pt x="960" y="566"/>
                        <a:pt x="1212" y="570"/>
                        <a:pt x="1458" y="561"/>
                      </a:cubicBezTo>
                      <a:cubicBezTo>
                        <a:pt x="1704" y="552"/>
                        <a:pt x="2044" y="528"/>
                        <a:pt x="2290" y="518"/>
                      </a:cubicBezTo>
                      <a:cubicBezTo>
                        <a:pt x="2536" y="508"/>
                        <a:pt x="2753" y="508"/>
                        <a:pt x="2932" y="501"/>
                      </a:cubicBezTo>
                      <a:cubicBezTo>
                        <a:pt x="3111" y="494"/>
                        <a:pt x="3237" y="485"/>
                        <a:pt x="3361" y="475"/>
                      </a:cubicBezTo>
                      <a:cubicBezTo>
                        <a:pt x="3485" y="465"/>
                        <a:pt x="3689" y="422"/>
                        <a:pt x="3678" y="441"/>
                      </a:cubicBezTo>
                      <a:cubicBezTo>
                        <a:pt x="3624" y="461"/>
                        <a:pt x="3388" y="558"/>
                        <a:pt x="3297" y="588"/>
                      </a:cubicBezTo>
                      <a:cubicBezTo>
                        <a:pt x="3206" y="618"/>
                        <a:pt x="3200" y="606"/>
                        <a:pt x="3134" y="622"/>
                      </a:cubicBezTo>
                      <a:cubicBezTo>
                        <a:pt x="3068" y="638"/>
                        <a:pt x="2976" y="666"/>
                        <a:pt x="2903" y="682"/>
                      </a:cubicBezTo>
                      <a:cubicBezTo>
                        <a:pt x="2830" y="698"/>
                        <a:pt x="2785" y="704"/>
                        <a:pt x="2697" y="717"/>
                      </a:cubicBezTo>
                      <a:cubicBezTo>
                        <a:pt x="2663" y="712"/>
                        <a:pt x="2404" y="774"/>
                        <a:pt x="2372" y="760"/>
                      </a:cubicBezTo>
                      <a:cubicBezTo>
                        <a:pt x="2364" y="757"/>
                        <a:pt x="2037" y="821"/>
                        <a:pt x="2029" y="820"/>
                      </a:cubicBezTo>
                      <a:cubicBezTo>
                        <a:pt x="1981" y="812"/>
                        <a:pt x="1786" y="840"/>
                        <a:pt x="1737" y="837"/>
                      </a:cubicBezTo>
                      <a:cubicBezTo>
                        <a:pt x="1620" y="822"/>
                        <a:pt x="1537" y="851"/>
                        <a:pt x="1420" y="837"/>
                      </a:cubicBezTo>
                      <a:cubicBezTo>
                        <a:pt x="1324" y="838"/>
                        <a:pt x="1254" y="826"/>
                        <a:pt x="1188" y="829"/>
                      </a:cubicBezTo>
                      <a:cubicBezTo>
                        <a:pt x="1122" y="832"/>
                        <a:pt x="1115" y="848"/>
                        <a:pt x="1025" y="854"/>
                      </a:cubicBezTo>
                      <a:cubicBezTo>
                        <a:pt x="935" y="860"/>
                        <a:pt x="774" y="857"/>
                        <a:pt x="648" y="863"/>
                      </a:cubicBezTo>
                      <a:cubicBezTo>
                        <a:pt x="614" y="875"/>
                        <a:pt x="306" y="889"/>
                        <a:pt x="271" y="889"/>
                      </a:cubicBezTo>
                      <a:close/>
                    </a:path>
                  </a:pathLst>
                </a:custGeom>
                <a:blipFill rotWithShape="0">
                  <a:blip r:embed="rId1"/>
                  <a:srcRect/>
                  <a:tile tx="0" ty="0" sx="100000" sy="100000" algn="ctr"/>
                </a:blip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7275600" y="2268360"/>
                  <a:ext cx="54000" cy="109044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" name=""/>
              <p:cNvSpPr/>
              <p:nvPr/>
            </p:nvSpPr>
            <p:spPr>
              <a:xfrm>
                <a:off x="430200" y="3227040"/>
                <a:ext cx="1352880" cy="669960"/>
              </a:xfrm>
              <a:custGeom>
                <a:avLst/>
                <a:gdLst/>
                <a:ahLst/>
                <a:rect l="l" t="t" r="r" b="b"/>
                <a:pathLst>
                  <a:path w="852" h="422">
                    <a:moveTo>
                      <a:pt x="848" y="224"/>
                    </a:moveTo>
                    <a:cubicBezTo>
                      <a:pt x="852" y="224"/>
                      <a:pt x="804" y="197"/>
                      <a:pt x="786" y="184"/>
                    </a:cubicBezTo>
                    <a:cubicBezTo>
                      <a:pt x="768" y="171"/>
                      <a:pt x="752" y="158"/>
                      <a:pt x="740" y="146"/>
                    </a:cubicBezTo>
                    <a:cubicBezTo>
                      <a:pt x="733" y="119"/>
                      <a:pt x="732" y="136"/>
                      <a:pt x="714" y="114"/>
                    </a:cubicBezTo>
                    <a:cubicBezTo>
                      <a:pt x="702" y="100"/>
                      <a:pt x="685" y="116"/>
                      <a:pt x="678" y="96"/>
                    </a:cubicBezTo>
                    <a:cubicBezTo>
                      <a:pt x="671" y="78"/>
                      <a:pt x="646" y="68"/>
                      <a:pt x="630" y="60"/>
                    </a:cubicBezTo>
                    <a:cubicBezTo>
                      <a:pt x="614" y="52"/>
                      <a:pt x="598" y="58"/>
                      <a:pt x="580" y="50"/>
                    </a:cubicBezTo>
                    <a:cubicBezTo>
                      <a:pt x="572" y="33"/>
                      <a:pt x="538" y="26"/>
                      <a:pt x="520" y="14"/>
                    </a:cubicBezTo>
                    <a:cubicBezTo>
                      <a:pt x="512" y="0"/>
                      <a:pt x="477" y="58"/>
                      <a:pt x="450" y="66"/>
                    </a:cubicBezTo>
                    <a:cubicBezTo>
                      <a:pt x="423" y="74"/>
                      <a:pt x="386" y="52"/>
                      <a:pt x="358" y="60"/>
                    </a:cubicBezTo>
                    <a:cubicBezTo>
                      <a:pt x="344" y="55"/>
                      <a:pt x="301" y="126"/>
                      <a:pt x="280" y="116"/>
                    </a:cubicBezTo>
                    <a:cubicBezTo>
                      <a:pt x="258" y="138"/>
                      <a:pt x="246" y="158"/>
                      <a:pt x="226" y="190"/>
                    </a:cubicBezTo>
                    <a:cubicBezTo>
                      <a:pt x="173" y="232"/>
                      <a:pt x="200" y="274"/>
                      <a:pt x="160" y="306"/>
                    </a:cubicBezTo>
                    <a:cubicBezTo>
                      <a:pt x="146" y="320"/>
                      <a:pt x="86" y="344"/>
                      <a:pt x="74" y="360"/>
                    </a:cubicBezTo>
                    <a:cubicBezTo>
                      <a:pt x="64" y="391"/>
                      <a:pt x="16" y="409"/>
                      <a:pt x="0" y="42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148040" y="2192040"/>
                <a:ext cx="7467480" cy="685800"/>
              </a:xfrm>
              <a:custGeom>
                <a:avLst/>
                <a:gdLst/>
                <a:ahLst/>
                <a:rect l="l" t="t" r="r" b="b"/>
                <a:pathLst>
                  <a:path w="4704" h="432">
                    <a:moveTo>
                      <a:pt x="0" y="432"/>
                    </a:moveTo>
                    <a:cubicBezTo>
                      <a:pt x="31" y="429"/>
                      <a:pt x="120" y="419"/>
                      <a:pt x="186" y="414"/>
                    </a:cubicBezTo>
                    <a:cubicBezTo>
                      <a:pt x="252" y="409"/>
                      <a:pt x="313" y="406"/>
                      <a:pt x="396" y="402"/>
                    </a:cubicBezTo>
                    <a:cubicBezTo>
                      <a:pt x="479" y="398"/>
                      <a:pt x="583" y="396"/>
                      <a:pt x="684" y="390"/>
                    </a:cubicBezTo>
                    <a:cubicBezTo>
                      <a:pt x="785" y="384"/>
                      <a:pt x="891" y="372"/>
                      <a:pt x="1002" y="366"/>
                    </a:cubicBezTo>
                    <a:cubicBezTo>
                      <a:pt x="1113" y="360"/>
                      <a:pt x="1227" y="360"/>
                      <a:pt x="1350" y="354"/>
                    </a:cubicBezTo>
                    <a:cubicBezTo>
                      <a:pt x="1473" y="348"/>
                      <a:pt x="1604" y="339"/>
                      <a:pt x="1740" y="330"/>
                    </a:cubicBezTo>
                    <a:cubicBezTo>
                      <a:pt x="1876" y="321"/>
                      <a:pt x="2031" y="310"/>
                      <a:pt x="2166" y="300"/>
                    </a:cubicBezTo>
                    <a:cubicBezTo>
                      <a:pt x="2301" y="290"/>
                      <a:pt x="2425" y="283"/>
                      <a:pt x="2550" y="270"/>
                    </a:cubicBezTo>
                    <a:cubicBezTo>
                      <a:pt x="2675" y="257"/>
                      <a:pt x="2805" y="236"/>
                      <a:pt x="2916" y="222"/>
                    </a:cubicBezTo>
                    <a:cubicBezTo>
                      <a:pt x="3027" y="208"/>
                      <a:pt x="3120" y="199"/>
                      <a:pt x="3216" y="186"/>
                    </a:cubicBezTo>
                    <a:cubicBezTo>
                      <a:pt x="3312" y="173"/>
                      <a:pt x="3399" y="156"/>
                      <a:pt x="3492" y="144"/>
                    </a:cubicBezTo>
                    <a:cubicBezTo>
                      <a:pt x="3585" y="132"/>
                      <a:pt x="3683" y="124"/>
                      <a:pt x="3774" y="114"/>
                    </a:cubicBezTo>
                    <a:cubicBezTo>
                      <a:pt x="3865" y="104"/>
                      <a:pt x="3934" y="96"/>
                      <a:pt x="4038" y="84"/>
                    </a:cubicBezTo>
                    <a:cubicBezTo>
                      <a:pt x="4142" y="72"/>
                      <a:pt x="4287" y="56"/>
                      <a:pt x="4398" y="42"/>
                    </a:cubicBezTo>
                    <a:cubicBezTo>
                      <a:pt x="4509" y="28"/>
                      <a:pt x="4640" y="9"/>
                      <a:pt x="4704" y="0"/>
                    </a:cubicBezTo>
                  </a:path>
                </a:pathLst>
              </a:custGeom>
              <a:noFill/>
              <a:ln w="158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538720" y="2716200"/>
                <a:ext cx="54000" cy="11617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1224000" y="2392200"/>
                <a:ext cx="5757840" cy="0"/>
              </a:xfrm>
              <a:prstGeom prst="line">
                <a:avLst/>
              </a:prstGeom>
              <a:ln w="1584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919920" y="2239920"/>
                <a:ext cx="76320" cy="7596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367000" y="2649240"/>
                <a:ext cx="76320" cy="763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69320" y="1514160"/>
              <a:ext cx="7533360" cy="3363120"/>
              <a:chOff x="769320" y="1514160"/>
              <a:chExt cx="7533360" cy="3363120"/>
            </a:xfrm>
          </p:grpSpPr>
          <p:sp>
            <p:nvSpPr>
              <p:cNvPr id="116" name=""/>
              <p:cNvSpPr/>
              <p:nvPr/>
            </p:nvSpPr>
            <p:spPr>
              <a:xfrm>
                <a:off x="2585160" y="2968200"/>
                <a:ext cx="28796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ffff00"/>
                    </a:solidFill>
                    <a:latin typeface="Comic Sans MS"/>
                  </a:rPr>
                  <a:t>Arcillas Orgánicas (estrato confinante)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69320" y="2752200"/>
                <a:ext cx="4536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0000ff"/>
                    </a:solidFill>
                    <a:latin typeface="Comic Sans MS"/>
                  </a:rPr>
                  <a:t>N.E.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74360" y="2275920"/>
                <a:ext cx="4640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00ffff"/>
                    </a:solidFill>
                    <a:latin typeface="Comic Sans MS"/>
                  </a:rPr>
                  <a:t>N.C.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086560" y="2410920"/>
                <a:ext cx="6987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00ff00"/>
                    </a:solidFill>
                    <a:latin typeface="Comic Sans MS"/>
                  </a:rPr>
                  <a:t>Concón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483960" y="1963440"/>
                <a:ext cx="91692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00ff00"/>
                    </a:solidFill>
                    <a:latin typeface="Comic Sans MS"/>
                  </a:rPr>
                  <a:t>Tabolango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85160" y="4028760"/>
                <a:ext cx="18954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000000"/>
                    </a:solidFill>
                    <a:latin typeface="Comic Sans MS"/>
                  </a:rPr>
                  <a:t>Roca basal impermeable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506560" y="3980880"/>
                <a:ext cx="18954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000000"/>
                    </a:solidFill>
                    <a:latin typeface="Comic Sans MS"/>
                  </a:rPr>
                  <a:t>Roca basal impermeable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168000" y="4615920"/>
                <a:ext cx="15066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ff6600"/>
                    </a:solidFill>
                    <a:latin typeface="Comic Sans MS"/>
                  </a:rPr>
                  <a:t>Acuífero confinado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946920" y="1514160"/>
                <a:ext cx="13557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ff6600"/>
                    </a:solidFill>
                    <a:latin typeface="Comic Sans MS"/>
                  </a:rPr>
                  <a:t>Acuífero freático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975040" y="1666440"/>
                <a:ext cx="13557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ff6600"/>
                    </a:solidFill>
                    <a:latin typeface="Comic Sans MS"/>
                  </a:rPr>
                  <a:t>Acuífero freático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581280" y="1895400"/>
                <a:ext cx="457200" cy="914400"/>
              </a:xfrm>
              <a:prstGeom prst="line">
                <a:avLst/>
              </a:prstGeom>
              <a:ln w="15840">
                <a:solidFill>
                  <a:srgbClr val="ff66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591320" y="1790640"/>
                <a:ext cx="0" cy="914400"/>
              </a:xfrm>
              <a:prstGeom prst="line">
                <a:avLst/>
              </a:prstGeom>
              <a:ln w="15840">
                <a:solidFill>
                  <a:srgbClr val="ff66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>
                <a:off x="3929040" y="3662280"/>
                <a:ext cx="0" cy="914400"/>
              </a:xfrm>
              <a:prstGeom prst="line">
                <a:avLst/>
              </a:prstGeom>
              <a:ln w="15840">
                <a:solidFill>
                  <a:srgbClr val="ff66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619000"/>
            <a:ext cx="17276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Q = k * A * 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Q = k * e * L * 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Arial"/>
              </a:rPr>
              <a:t>Q = T * i * 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35400" y="1126080"/>
            <a:ext cx="302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504960" y="1676160"/>
            <a:ext cx="5029560" cy="4280040"/>
            <a:chOff x="3504960" y="1676160"/>
            <a:chExt cx="5029560" cy="4280040"/>
          </a:xfrm>
        </p:grpSpPr>
        <p:sp>
          <p:nvSpPr>
            <p:cNvPr id="133" name=""/>
            <p:cNvSpPr/>
            <p:nvPr/>
          </p:nvSpPr>
          <p:spPr>
            <a:xfrm>
              <a:off x="5867280" y="3581280"/>
              <a:ext cx="0" cy="1905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5867280" y="2743200"/>
              <a:ext cx="1676520" cy="83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5867280" y="4648320"/>
              <a:ext cx="1676520" cy="83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43800" y="2743200"/>
              <a:ext cx="0" cy="1905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flipV="1">
              <a:off x="3504960" y="4419360"/>
              <a:ext cx="2361960" cy="106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3504960" y="2514240"/>
              <a:ext cx="2361960" cy="106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517920" y="2514600"/>
              <a:ext cx="0" cy="1905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5181480" y="1676160"/>
              <a:ext cx="2362320" cy="106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3505320" y="1676520"/>
              <a:ext cx="1676160" cy="83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5867280" y="3657600"/>
              <a:ext cx="1676520" cy="8380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flipV="1">
              <a:off x="3504960" y="3047760"/>
              <a:ext cx="2361960" cy="14475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181480" y="1676520"/>
              <a:ext cx="0" cy="19047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 flipV="1">
              <a:off x="5181480" y="3581280"/>
              <a:ext cx="2362320" cy="10670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3505320" y="3580920"/>
              <a:ext cx="1676160" cy="8384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5181480" y="2209680"/>
              <a:ext cx="2362320" cy="1447920"/>
            </a:xfrm>
            <a:prstGeom prst="line">
              <a:avLst/>
            </a:prstGeom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3505320" y="2209320"/>
              <a:ext cx="1676160" cy="838440"/>
            </a:xfrm>
            <a:prstGeom prst="line">
              <a:avLst/>
            </a:prstGeom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17880000">
              <a:off x="7048440" y="4457160"/>
              <a:ext cx="304920" cy="838440"/>
            </a:xfrm>
            <a:prstGeom prst="downArrow">
              <a:avLst>
                <a:gd name="adj1" fmla="val 50000"/>
                <a:gd name="adj2" fmla="val 68743"/>
              </a:avLst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80240" y="5499000"/>
              <a:ext cx="990360" cy="45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43800" y="4648320"/>
              <a:ext cx="990720" cy="45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6324480" y="4876560"/>
              <a:ext cx="2133720" cy="1066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56320" y="528228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5257440" y="4495680"/>
              <a:ext cx="609480" cy="30492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5244840" y="5473800"/>
              <a:ext cx="609480" cy="30456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410080" y="4648320"/>
              <a:ext cx="0" cy="114300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92640" y="52059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8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 flipV="1">
              <a:off x="3504960" y="3428640"/>
              <a:ext cx="2361960" cy="1066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23800" y="3478680"/>
              <a:ext cx="23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66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479640" y="441936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993300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 flipV="1">
              <a:off x="5181480" y="2590560"/>
              <a:ext cx="2362320" cy="1066680"/>
            </a:xfrm>
            <a:prstGeom prst="line">
              <a:avLst/>
            </a:prstGeom>
            <a:ln w="25560">
              <a:solidFill>
                <a:srgbClr val="ff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3505320" y="2590920"/>
              <a:ext cx="1676160" cy="838080"/>
            </a:xfrm>
            <a:prstGeom prst="line">
              <a:avLst/>
            </a:prstGeom>
            <a:ln w="25560">
              <a:solidFill>
                <a:srgbClr val="ff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303240" y="383436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ff"/>
                  </a:solidFill>
                  <a:latin typeface="Arial"/>
                </a:rPr>
                <a:t>N.E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420800" y="3427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ff"/>
                  </a:solidFill>
                  <a:latin typeface="Arial"/>
                </a:rPr>
                <a:t>N.E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160" y="1154160"/>
            <a:ext cx="803376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De acuerdo a la Ley de Darcy, la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velocidad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del flujo subterráneo está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finida por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</a:t>
            </a:r>
            <a:r>
              <a:rPr b="1" lang="es-ES" sz="1800" spc="-1" strike="noStrike">
                <a:solidFill>
                  <a:srgbClr val="010000"/>
                </a:solidFill>
                <a:latin typeface="Arial"/>
              </a:rPr>
              <a:t>Q = K * A * 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10000"/>
                </a:solidFill>
                <a:latin typeface="Arial"/>
              </a:rPr>
              <a:t>                             </a:t>
            </a:r>
            <a:r>
              <a:rPr b="1" lang="es-ES" sz="1800" spc="-1" strike="noStrike">
                <a:solidFill>
                  <a:srgbClr val="010000"/>
                </a:solidFill>
                <a:latin typeface="Arial"/>
              </a:rPr>
              <a:t>A * v = K * A * 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v = K * 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10000"/>
                </a:solidFill>
                <a:latin typeface="Arial"/>
              </a:rPr>
              <a:t>don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10000"/>
                </a:solidFill>
                <a:latin typeface="Arial"/>
              </a:rPr>
              <a:t>v es la velocidad del flujo subterráneo, en (m/día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10000"/>
                </a:solidFill>
                <a:latin typeface="Arial"/>
              </a:rPr>
              <a:t>K es el coeficiente de permeabilidad, en (m/día); 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10000"/>
                </a:solidFill>
                <a:latin typeface="Arial"/>
              </a:rPr>
              <a:t>i es el gradiente hidráulico (adimensional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6120" y="1431000"/>
            <a:ext cx="8443800" cy="45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Régimen de Equilib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Escurrimiento hacia un pozo en un acuífero confin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Se entiende por régimen de equilibrio a la situación en que el agua 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 extrae del acuífero, generando una depresión del nivel piezométr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el pozo, alcanza un equilibrio entre lo que se extrae y lo que le ent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l acuífero, de forma que el descenso del agua al interior del pozo se e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abiliz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Obviamente ésta es una situación ideal que muy raras veces se alcanz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En la lámina siguiente se muestra un pozo, atravesando un acuífero co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inado a todo su espesor, desde el cual se extrae un caudal constan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"/>
          <p:cNvGrpSpPr/>
          <p:nvPr/>
        </p:nvGrpSpPr>
        <p:grpSpPr>
          <a:xfrm>
            <a:off x="214200" y="227160"/>
            <a:ext cx="8763120" cy="6432480"/>
            <a:chOff x="214200" y="227160"/>
            <a:chExt cx="8763120" cy="6432480"/>
          </a:xfrm>
        </p:grpSpPr>
        <p:pic>
          <p:nvPicPr>
            <p:cNvPr id="170" name="Bombeo%20Acui-Conf" descr=""/>
            <p:cNvPicPr/>
            <p:nvPr/>
          </p:nvPicPr>
          <p:blipFill>
            <a:blip r:embed="rId1"/>
            <a:stretch/>
          </p:blipFill>
          <p:spPr>
            <a:xfrm>
              <a:off x="214200" y="227160"/>
              <a:ext cx="8763120" cy="643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1811880" y="1446840"/>
              <a:ext cx="1142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ff"/>
                  </a:solidFill>
                  <a:latin typeface="Arial"/>
                </a:rPr>
                <a:t>Q = k * A * 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43760" y="1446840"/>
              <a:ext cx="235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990033"/>
                  </a:solidFill>
                  <a:latin typeface="Arial"/>
                </a:rPr>
                <a:t>Q = k * 2 * π * r * D * dh/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29680" y="907560"/>
            <a:ext cx="693036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Régimen de Equilib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eparando variables se tien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r          2 * K * </a:t>
            </a: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* 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----    =  ----------------   d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                  Q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n (r</a:t>
            </a:r>
            <a:r>
              <a:rPr b="1" lang="es-ES" sz="1600" spc="-1" strike="noStrike" baseline="-1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/ r</a:t>
            </a:r>
            <a:r>
              <a:rPr b="1" lang="es-ES" sz="1600" spc="-1" strike="noStrike" baseline="-10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) = ((2 * </a:t>
            </a: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* T) / Q) * (h</a:t>
            </a:r>
            <a:r>
              <a:rPr b="1" lang="es-ES" sz="1600" spc="-1" strike="noStrike" baseline="-1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- h</a:t>
            </a:r>
            <a:r>
              <a:rPr b="1" lang="es-ES" sz="1600" spc="-1" strike="noStrike" baseline="-10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n esto la transmisividad del acuífero confinado queda definida por 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  =  ----------------------- * ln (r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/ r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2 * </a:t>
            </a: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* (h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- h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              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762120" y="762120"/>
            <a:ext cx="7315200" cy="5867280"/>
            <a:chOff x="762120" y="762120"/>
            <a:chExt cx="7315200" cy="5867280"/>
          </a:xfrm>
        </p:grpSpPr>
        <p:pic>
          <p:nvPicPr>
            <p:cNvPr id="177" name="Bombeo%20pozo%20no%20confinado" descr=""/>
            <p:cNvPicPr/>
            <p:nvPr/>
          </p:nvPicPr>
          <p:blipFill>
            <a:blip r:embed="rId1"/>
            <a:stretch/>
          </p:blipFill>
          <p:spPr>
            <a:xfrm>
              <a:off x="762120" y="762120"/>
              <a:ext cx="7315200" cy="586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3115440" y="2104560"/>
              <a:ext cx="260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Q = K * 2 * </a:t>
              </a:r>
              <a:r>
                <a:rPr b="1" lang="es-ES" sz="1600" spc="-1" strike="noStrike">
                  <a:solidFill>
                    <a:srgbClr val="990033"/>
                  </a:solidFill>
                  <a:latin typeface="Symbol"/>
                  <a:ea typeface="Symbol"/>
                </a:rPr>
                <a:t></a:t>
              </a: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* r * h * dh/d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48280" y="837720"/>
            <a:ext cx="7779240" cy="56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currimiento hacia un pozo en un acuífero freát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 acuerdo a la Ley de Darcy y a los datos aportados por el croquis adjunto 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ndría que el caudal que atraviesa una sección de acuífero a una distancia “r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l pozo es 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Q = K * 2 * </a:t>
            </a:r>
            <a:r>
              <a:rPr b="1" lang="es-ES" sz="1600" spc="-1" strike="noStrike">
                <a:solidFill>
                  <a:srgbClr val="990033"/>
                </a:solidFill>
                <a:latin typeface="Symbol"/>
                <a:ea typeface="Symbol"/>
              </a:rPr>
              <a:t>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* r * h * dh/d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K es el coeficiente de permeabilidad (o conductividad hidráulic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 la distancia al pozo de bombe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h es el espesor saturado a la distancia 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h/dr es el gradiente hidrául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a ecuación diferencial se resuelve separando las variables de forma q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e obtiene 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r          2 * K * </a:t>
            </a: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* 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----    =  ----------------   d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                  Q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1000" y="1167120"/>
            <a:ext cx="7974360" cy="51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Poros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La porosidad de un medio detrítico o fracturado corresponde a la r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zón entre el volumen total del material y el volumen de su parte ocu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ada por agua y/o air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P = V</a:t>
            </a:r>
            <a:r>
              <a:rPr b="1" lang="es-ES_tradnl" sz="1800" spc="-1" strike="noStrike" baseline="-25000">
                <a:solidFill>
                  <a:srgbClr val="990033"/>
                </a:solidFill>
                <a:latin typeface="Arial"/>
              </a:rPr>
              <a:t>v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 / V</a:t>
            </a:r>
            <a:r>
              <a:rPr b="1" lang="es-ES_tradnl" sz="1800" spc="-1" strike="noStrike" baseline="-25000">
                <a:solidFill>
                  <a:srgbClr val="990033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onde V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es el volumen de huecos o espacios rellenos c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ire o agua y V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es el volumen total del material, vale decir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V</a:t>
            </a:r>
            <a:r>
              <a:rPr b="1" lang="es-ES_tradnl" sz="1800" spc="-1" strike="noStrike" baseline="-18000">
                <a:solidFill>
                  <a:srgbClr val="990033"/>
                </a:solidFill>
                <a:latin typeface="Arial"/>
              </a:rPr>
              <a:t>t</a:t>
            </a:r>
            <a:r>
              <a:rPr b="1" lang="es-ES_tradnl" sz="1800" spc="-1" strike="noStrike" baseline="-25000">
                <a:solidFill>
                  <a:srgbClr val="990033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 = V</a:t>
            </a:r>
            <a:r>
              <a:rPr b="1" lang="es-ES_tradnl" sz="1800" spc="-1" strike="noStrike" baseline="-18000">
                <a:solidFill>
                  <a:srgbClr val="990033"/>
                </a:solidFill>
                <a:latin typeface="Arial"/>
              </a:rPr>
              <a:t>v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 + V</a:t>
            </a:r>
            <a:r>
              <a:rPr b="1" lang="es-ES_tradnl" sz="1800" spc="-1" strike="noStrike" baseline="-18000">
                <a:solidFill>
                  <a:srgbClr val="990033"/>
                </a:solidFill>
                <a:latin typeface="Arial"/>
              </a:rPr>
              <a:t>s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n que V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es el volumen de la parte sólid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17840" y="1279800"/>
            <a:ext cx="7663680" cy="47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Régimen de Equilib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currimiento hacia un pozo en un acuífero freát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K  =  ----------------------- * ln (r</a:t>
            </a:r>
            <a:r>
              <a:rPr b="1" lang="es-ES" sz="1800" spc="-1" strike="noStrike" baseline="-14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/ r</a:t>
            </a:r>
            <a:r>
              <a:rPr b="1" lang="es-ES" sz="1800" spc="-1" strike="noStrike" baseline="-14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* (h</a:t>
            </a:r>
            <a:r>
              <a:rPr b="1" lang="es-ES" sz="1800" spc="-1" strike="noStrike" baseline="-14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- h</a:t>
            </a:r>
            <a:r>
              <a:rPr b="1" lang="es-ES" sz="1800" spc="-1" strike="noStrike" baseline="-14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este caso se podrá advertir que debido a que el espesor satur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 variable (h), el resultado obtenido es el coeficiente de permeabil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ad de Darcy (k) y no la transmisividad (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200240"/>
            <a:ext cx="799452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Régimen de Desequilib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El flujo en régimen de desequilibrio implica que si se somete a extr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ción al acuífero, el volumen extraído de éste deberá, necesariament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ovenir del almacenamiento ya que no existiría recarga durante dich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eríodo de extracció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Para deducir las ecuaciones que definen el flujo en un medio perme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le, en régimen de desequilibrio, es práctico considerar un volum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unitario de acuífero como el que muestra el esquema adjunto e inici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análisis considerando un régimen de equilibri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690560" y="685800"/>
            <a:ext cx="5349960" cy="5867280"/>
            <a:chOff x="1690560" y="685800"/>
            <a:chExt cx="5349960" cy="5867280"/>
          </a:xfrm>
        </p:grpSpPr>
        <p:pic>
          <p:nvPicPr>
            <p:cNvPr id="187" name="volumen%20unitario" descr=""/>
            <p:cNvPicPr/>
            <p:nvPr/>
          </p:nvPicPr>
          <p:blipFill>
            <a:blip r:embed="rId1"/>
            <a:stretch/>
          </p:blipFill>
          <p:spPr>
            <a:xfrm>
              <a:off x="1690560" y="685800"/>
              <a:ext cx="5349960" cy="586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5391000" y="195480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Vx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108320" y="106560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V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136840" y="1218240"/>
              <a:ext cx="38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Vz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11640" y="1306800"/>
            <a:ext cx="801576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Régimen de Desequilib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La ley de conservación de la masa permite aseverar que la cantidad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gua que ingresa al volumen unitario de acuífero tiene que ser igual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cantidad de agua que sale de dicho volumen unitario. De esta man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a, la ecuación de continuidad, que traduce en términos matemátic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a ley, tendría la siguiente forma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1" lang="es-ES" sz="1800" spc="-1" strike="noStrike" u="sng" baseline="-6000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+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v</a:t>
            </a:r>
            <a:r>
              <a:rPr b="1" lang="es-ES" sz="1800" spc="-1" strike="noStrike" u="sng" baseline="-6000">
                <a:solidFill>
                  <a:srgbClr val="000000"/>
                </a:solidFill>
                <a:uFillTx/>
                <a:latin typeface="Arial"/>
              </a:rPr>
              <a:t>y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+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v</a:t>
            </a:r>
            <a:r>
              <a:rPr b="1" lang="es-ES" sz="1800" spc="-1" strike="noStrike" u="sng" baseline="-6000">
                <a:solidFill>
                  <a:srgbClr val="000000"/>
                </a:solidFill>
                <a:uFillTx/>
                <a:latin typeface="Arial"/>
              </a:rPr>
              <a:t>z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= 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x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0160" y="707400"/>
            <a:ext cx="8440920" cy="57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Régimen de Desequilib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stituyendo en la ecuación anterior, las velocidades de acuerdo a la Le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 Darcy  (v =k*i), se obtiene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s-ES" sz="1800" spc="-1" strike="noStrike" baseline="-16000">
                <a:solidFill>
                  <a:srgbClr val="000000"/>
                </a:solidFill>
                <a:latin typeface="Arial"/>
              </a:rPr>
              <a:t>x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+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K</a:t>
            </a:r>
            <a:r>
              <a:rPr b="1" lang="es-ES" sz="1800" spc="-1" strike="noStrike" baseline="-16000">
                <a:solidFill>
                  <a:srgbClr val="000000"/>
                </a:solidFill>
                <a:latin typeface="Arial"/>
              </a:rPr>
              <a:t>y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+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K</a:t>
            </a:r>
            <a:r>
              <a:rPr b="1" lang="es-ES" sz="1800" spc="-1" strike="noStrike" baseline="-16000">
                <a:solidFill>
                  <a:srgbClr val="000000"/>
                </a:solidFill>
                <a:latin typeface="Arial"/>
              </a:rPr>
              <a:t>z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=  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x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x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z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a expresión es válida para un régimen de equilibrio pues la sumatoria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s caudales es nula. En el caso de considerar un régimen de desequilibr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o implicará que se genera una variación del volumen almacenado en 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olumen unitario, de forma que puede plantearse la siguiente expresión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s-ES" sz="1800" spc="-1" strike="noStrike" baseline="-16000">
                <a:solidFill>
                  <a:srgbClr val="000000"/>
                </a:solidFill>
                <a:latin typeface="Arial"/>
              </a:rPr>
              <a:t>x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+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K</a:t>
            </a:r>
            <a:r>
              <a:rPr b="1" lang="es-ES" sz="1800" spc="-1" strike="noStrike" baseline="-16000">
                <a:solidFill>
                  <a:srgbClr val="000000"/>
                </a:solidFill>
                <a:latin typeface="Arial"/>
              </a:rPr>
              <a:t>y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+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K</a:t>
            </a:r>
            <a:r>
              <a:rPr b="1" lang="es-ES" sz="1800" spc="-1" strike="noStrike" baseline="-16000">
                <a:solidFill>
                  <a:srgbClr val="000000"/>
                </a:solidFill>
                <a:latin typeface="Arial"/>
              </a:rPr>
              <a:t>z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=  S</a:t>
            </a:r>
            <a:r>
              <a:rPr b="1" lang="es-ES" sz="1800" spc="-1" strike="noStrike" baseline="-16000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x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x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z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z     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 S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almacenamiento específico, vale decir del elemento cúb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unitario, que se manifiesta en una variación de la carga hidráulica por un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ad de tiemp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78360" y="1147680"/>
            <a:ext cx="8241120" cy="48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Régimen de Desequilib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hora bien, si se asume que el medio permeable en estudio es isótropo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ignifica que las permeabilidades en los distintos ejes son iguales, de for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a que puede escribirse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+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+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=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es-ES" sz="1800" spc="-1" strike="noStrike" u="sng" baseline="-14000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K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ra el caso de un acuífero confinado de espesor “b” y de almacenamie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o S, y considerando el fenómeno bidimensionalmente se tiene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+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= 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T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0160" y="681840"/>
            <a:ext cx="817416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Régimen de Desequilib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virtud de que la carga hidráulica (h) varía según una simetría radial, s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 considera el efecto de bombeo desde un pozo, la ecuación precede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 puede expresar en coordenadas radiales como sigue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s-ES" sz="1800" spc="-1" strike="noStrike" u="sng">
                <a:solidFill>
                  <a:srgbClr val="990033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 baseline="30000">
                <a:solidFill>
                  <a:srgbClr val="990033"/>
                </a:solidFill>
                <a:uFillTx/>
                <a:latin typeface="Arial"/>
              </a:rPr>
              <a:t>2</a:t>
            </a:r>
            <a:r>
              <a:rPr b="1" lang="es-ES" sz="1800" spc="-1" strike="noStrike" u="sng">
                <a:solidFill>
                  <a:srgbClr val="990033"/>
                </a:solidFill>
                <a:uFillTx/>
                <a:latin typeface="Arial"/>
              </a:rPr>
              <a:t>h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+  </a:t>
            </a:r>
            <a:r>
              <a:rPr b="1" lang="es-ES" sz="1800" spc="-1" strike="noStrike" u="sng">
                <a:solidFill>
                  <a:srgbClr val="990033"/>
                </a:solidFill>
                <a:uFillTx/>
                <a:latin typeface="Arial"/>
              </a:rPr>
              <a:t>1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es-ES" sz="1800" spc="-1" strike="noStrike" u="sng">
                <a:solidFill>
                  <a:srgbClr val="990033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990033"/>
                </a:solidFill>
                <a:uFillTx/>
                <a:latin typeface="Arial"/>
              </a:rPr>
              <a:t>h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=   </a:t>
            </a:r>
            <a:r>
              <a:rPr b="1" lang="es-ES" sz="1800" spc="-1" strike="noStrike" u="sng">
                <a:solidFill>
                  <a:srgbClr val="990033"/>
                </a:solidFill>
                <a:uFillTx/>
                <a:latin typeface="Arial"/>
              </a:rPr>
              <a:t>S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ES" sz="1800" spc="-1" strike="noStrike" u="sng">
                <a:solidFill>
                  <a:srgbClr val="990033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990033"/>
                </a:solidFill>
                <a:uFillTx/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r</a:t>
            </a:r>
            <a:r>
              <a:rPr b="1" lang="es-ES" sz="18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r   </a:t>
            </a:r>
            <a:r>
              <a:rPr b="1" lang="es-ES" sz="1800" spc="-1" strike="noStrike">
                <a:solidFill>
                  <a:srgbClr val="990033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r         T </a:t>
            </a:r>
            <a:r>
              <a:rPr b="1" lang="es-ES" sz="1800" spc="-1" strike="noStrike">
                <a:solidFill>
                  <a:srgbClr val="990033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______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 r =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a expresión representa el flujo subterráneo hacia un pozo de bombe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un régimen de desequilibrio, vale decir donde el caudal se está extr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endo del almacenamiento del acuífero confinado. Las variables involu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radas son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h la carga hidráulica 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r la distancia al pozo de bombeo 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S el almacenamiento del acuífero 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T la transmisividad del acuífero 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t es el tiempo desde que se inició el bombe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1120" y="880920"/>
            <a:ext cx="802764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Régimen de Desequilib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heis en 1935, imponiendo los límites de h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Ho y r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, obtuvo la solu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ón de esta ecuación. Dicho resultado es el siguiente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               e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-u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d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  =  --------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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--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T               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descenso generado por el bombeo,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caudal con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ante bombeado y 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u  =  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4 T 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76200" y="907200"/>
            <a:ext cx="8458200" cy="53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Régimen de Desequilib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integral de la solución de Theis es lo que se conoce como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función del poz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y 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signa como W(u). La solución de dicha integral está dada por la siguiente seri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u</a:t>
            </a:r>
            <a:r>
              <a:rPr b="1" lang="es-ES" sz="16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            u</a:t>
            </a:r>
            <a:r>
              <a:rPr b="1" lang="es-ES" sz="16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           u</a:t>
            </a:r>
            <a:r>
              <a:rPr b="1" lang="es-ES" sz="1600" spc="-1" strike="noStrike" baseline="30000">
                <a:solidFill>
                  <a:srgbClr val="0000ff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- 0,5772  -  ln u  +  u  -   ---------  +  ---------  -  ---------  +  ....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2 * 2 !       3 * 3 !      4 * 4 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 esta forma se obtienen las dos ecuaciones que permiten determinar la transm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vidad (T) y el coeficiente de almacenamiento (S), de acuerdo a la solución de Theis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Q                                                       r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  =   --------- * W(u)                             u  =  -------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T      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4 T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Q                                               4 T t 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T  =  -------------  W(u)                     S  =  --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4 </a:t>
            </a:r>
            <a:r>
              <a:rPr b="1" lang="es-ES" sz="1800" spc="-1" strike="noStrike">
                <a:solidFill>
                  <a:srgbClr val="990033"/>
                </a:solidFill>
                <a:latin typeface="Symbol"/>
                <a:ea typeface="Symbol"/>
              </a:rPr>
              <a:t>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s                                                 r</a:t>
            </a:r>
            <a:r>
              <a:rPr b="1" lang="es-ES" sz="18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79080" y="1015920"/>
            <a:ext cx="799884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Régimen de Desequilib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Q                                               4 T t 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T  =  -------------  W(u)                     S  =  --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4 </a:t>
            </a:r>
            <a:r>
              <a:rPr b="1" lang="es-ES" sz="1800" spc="-1" strike="noStrike">
                <a:solidFill>
                  <a:srgbClr val="990033"/>
                </a:solidFill>
                <a:latin typeface="Symbol"/>
                <a:ea typeface="Symbol"/>
              </a:rPr>
              <a:t>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s                                                 r</a:t>
            </a:r>
            <a:r>
              <a:rPr b="1" lang="es-ES" sz="18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caudal bombeado en 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descenso (m) provocado por el bombeo, en un pozo de observ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ón  ubicado a una distancia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del pozo de bombeo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la distancia entre el pozo de bombeo y el pozo de observación (m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tiempo de bombeo para el cual se genera el descenso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(días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la transmisividad del acuífero (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coeficiente de almacenamiento del acuífero (adimensional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parámetro adimensional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W(u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función del pozo adimension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160" y="763560"/>
            <a:ext cx="8300520" cy="58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Porosidad Efica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De las reservas de agua contenidas en el subsuelo sólo es recuper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diante la gravedad una fracción de la porosidad total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Una parte de esta agua quedará irremediablemente retenida en el sub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elo (agua de retención). Esta se puede expresar mediante la “capac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ad de retención específica” del terreno definida por la expresión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m</a:t>
            </a:r>
            <a:r>
              <a:rPr b="1" lang="es-ES" sz="1800" spc="-1" strike="noStrike" baseline="-25000">
                <a:solidFill>
                  <a:srgbClr val="990033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= (V</a:t>
            </a:r>
            <a:r>
              <a:rPr b="1" lang="es-ES" sz="1800" spc="-1" strike="noStrike" baseline="-25000">
                <a:solidFill>
                  <a:srgbClr val="990033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/ V</a:t>
            </a:r>
            <a:r>
              <a:rPr b="1" lang="es-ES" sz="1800" spc="-1" strike="noStrike" baseline="-25000">
                <a:solidFill>
                  <a:srgbClr val="990033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) * 1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 V</a:t>
            </a:r>
            <a:r>
              <a:rPr b="1" lang="es-ES" sz="1800" spc="-1" strike="noStrike" baseline="-20000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agua retenida en el subsuelo previamente saturado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una vez que se ha liberado toda el agua gravífica; y V</a:t>
            </a:r>
            <a:r>
              <a:rPr b="1" lang="es-ES" sz="1800" spc="-1" strike="noStrike" baseline="-20000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volum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otal de agua contenida inicialmente es el sustrat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porosidad eficaz es entonces igual a la diferencia entre la poros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otal y la retención específica, vale decir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P</a:t>
            </a:r>
            <a:r>
              <a:rPr b="1" lang="es-ES" sz="1800" spc="-1" strike="noStrike" baseline="-20000">
                <a:solidFill>
                  <a:srgbClr val="990033"/>
                </a:solidFill>
                <a:latin typeface="Arial"/>
              </a:rPr>
              <a:t>e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= P</a:t>
            </a:r>
            <a:r>
              <a:rPr b="1" lang="es-ES" sz="1800" spc="-1" strike="noStrike" baseline="-20000">
                <a:solidFill>
                  <a:srgbClr val="990033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- m</a:t>
            </a:r>
            <a:r>
              <a:rPr b="1" lang="es-ES" sz="1800" spc="-1" strike="noStrike" baseline="-20000">
                <a:solidFill>
                  <a:srgbClr val="990033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" name="Curva%20de%20Theis" descr=""/>
          <p:cNvPicPr/>
          <p:nvPr/>
        </p:nvPicPr>
        <p:blipFill>
          <a:blip r:embed="rId1"/>
          <a:stretch/>
        </p:blipFill>
        <p:spPr>
          <a:xfrm>
            <a:off x="1727280" y="711360"/>
            <a:ext cx="5284800" cy="58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914400" y="685800"/>
            <a:ext cx="7619760" cy="5846400"/>
            <a:chOff x="914400" y="685800"/>
            <a:chExt cx="7619760" cy="5846400"/>
          </a:xfrm>
        </p:grpSpPr>
        <p:pic>
          <p:nvPicPr>
            <p:cNvPr id="209" name="" descr=""/>
            <p:cNvPicPr/>
            <p:nvPr/>
          </p:nvPicPr>
          <p:blipFill>
            <a:blip r:embed="rId1"/>
            <a:stretch/>
          </p:blipFill>
          <p:spPr>
            <a:xfrm>
              <a:off x="1074960" y="685800"/>
              <a:ext cx="7326720" cy="58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914400" y="841320"/>
              <a:ext cx="76197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9900"/>
                  </a:solidFill>
                  <a:latin typeface="Arial"/>
                </a:rPr>
                <a:t>MÉTODO DE THEIS - ACUÍFERO NO CONFINAD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945440" y="5087520"/>
              <a:ext cx="2314080" cy="33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Tiempo (minutos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244120" y="5077080"/>
              <a:ext cx="578880" cy="19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1.000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895360" y="5077080"/>
              <a:ext cx="579240" cy="19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10.000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591080" y="5087520"/>
              <a:ext cx="579240" cy="19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544880" y="1692720"/>
              <a:ext cx="401400" cy="29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534440" y="2431800"/>
              <a:ext cx="290880" cy="29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514280" y="3197880"/>
              <a:ext cx="386640" cy="179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(m)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59120" y="5461200"/>
              <a:ext cx="409860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TRANSMISIVIDAD =  910 m</a:t>
              </a:r>
              <a:r>
                <a:rPr b="1" lang="es-ES" sz="9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/día     ALMACENAMIENTO = 0,048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COND. HIDRÁULICA = 5,4 m/día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489720" y="5087520"/>
              <a:ext cx="579240" cy="19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23240" y="993600"/>
            <a:ext cx="5916960" cy="53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Porosidad Efica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En la porosidad influyen los siguientes factores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orma de los grano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isposición de los granos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amaño de los gran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POROSIDAD EFICAZ (%)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aterial         Máxima     Mínima      Medi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rcilla arenosa         12                  3                   7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rena fina                 28                10                 2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rena media             32                15                 26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rena gruesa           35                 20                 27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rena con grava      35                 20                 25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ravas finas             35                 21                25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ravas medias         26                13                 23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ravas gruesas       26                 12                 2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983880"/>
            <a:ext cx="8260920" cy="53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Ley de Dar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 permeabilidad de un medio poroso es la capacidad que éste pr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nta para permitir que un fluido circule a través de é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l ingeniero francés Henry Darcy (1856) descubrió la ley que rige e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ovimiento del agua subterránea en un medio permea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Q = K * A * 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 es el caudal que atraviesa una sección permeable de área A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or efecto de un gradiente hidráulico i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K es el coeficiente de permeabilidad de Darcy, que tiene la dime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ión de una velocidad y es propio de cada tipo de sedimento 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dio permea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5867280" y="1689120"/>
            <a:ext cx="1676520" cy="1054080"/>
            <a:chOff x="5867280" y="1689120"/>
            <a:chExt cx="1676520" cy="1054080"/>
          </a:xfrm>
        </p:grpSpPr>
        <p:grpSp>
          <p:nvGrpSpPr>
            <p:cNvPr id="53" name=""/>
            <p:cNvGrpSpPr/>
            <p:nvPr/>
          </p:nvGrpSpPr>
          <p:grpSpPr>
            <a:xfrm>
              <a:off x="5867280" y="1689120"/>
              <a:ext cx="1676520" cy="533520"/>
              <a:chOff x="5867280" y="1689120"/>
              <a:chExt cx="1676520" cy="533520"/>
            </a:xfrm>
          </p:grpSpPr>
          <p:sp>
            <p:nvSpPr>
              <p:cNvPr id="54" name=""/>
              <p:cNvSpPr/>
              <p:nvPr/>
            </p:nvSpPr>
            <p:spPr>
              <a:xfrm>
                <a:off x="5867280" y="1689120"/>
                <a:ext cx="1676520" cy="5335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000840" y="1790280"/>
                <a:ext cx="1325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Comic Sans MS"/>
                  </a:rPr>
                  <a:t>Q = k * A * i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6172200" y="2362320"/>
              <a:ext cx="1219320" cy="380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i = (h</a:t>
              </a:r>
              <a:r>
                <a:rPr b="1" lang="es-ES_tradnl" sz="1200" spc="-1" strike="noStrike" baseline="-14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 - h</a:t>
              </a:r>
              <a:r>
                <a:rPr b="1" lang="es-ES_tradnl" sz="1200" spc="-1" strike="noStrike" baseline="-14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) / 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532520" y="150120"/>
            <a:ext cx="5774040" cy="5412960"/>
            <a:chOff x="1532520" y="150120"/>
            <a:chExt cx="5774040" cy="5412960"/>
          </a:xfrm>
        </p:grpSpPr>
        <p:sp>
          <p:nvSpPr>
            <p:cNvPr id="58" name=""/>
            <p:cNvSpPr/>
            <p:nvPr/>
          </p:nvSpPr>
          <p:spPr>
            <a:xfrm>
              <a:off x="2600280" y="150120"/>
              <a:ext cx="3460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000" spc="-1" strike="noStrike">
                  <a:solidFill>
                    <a:srgbClr val="00ffff"/>
                  </a:solidFill>
                  <a:latin typeface="Arial"/>
                </a:rPr>
                <a:t>HIDROGEOLOGÍA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1532520" y="2417760"/>
              <a:ext cx="5774040" cy="3145320"/>
              <a:chOff x="1532520" y="2417760"/>
              <a:chExt cx="5774040" cy="314532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1532520" y="2417760"/>
                <a:ext cx="5774040" cy="3145320"/>
                <a:chOff x="1532520" y="2417760"/>
                <a:chExt cx="5774040" cy="3145320"/>
              </a:xfrm>
            </p:grpSpPr>
            <p:grpSp>
              <p:nvGrpSpPr>
                <p:cNvPr id="61" name=""/>
                <p:cNvGrpSpPr/>
                <p:nvPr/>
              </p:nvGrpSpPr>
              <p:grpSpPr>
                <a:xfrm>
                  <a:off x="1860480" y="2417760"/>
                  <a:ext cx="5149800" cy="3145320"/>
                  <a:chOff x="1860480" y="2417760"/>
                  <a:chExt cx="5149800" cy="3145320"/>
                </a:xfrm>
              </p:grpSpPr>
              <p:grpSp>
                <p:nvGrpSpPr>
                  <p:cNvPr id="62" name=""/>
                  <p:cNvGrpSpPr/>
                  <p:nvPr/>
                </p:nvGrpSpPr>
                <p:grpSpPr>
                  <a:xfrm>
                    <a:off x="1860480" y="2417760"/>
                    <a:ext cx="5149800" cy="2799720"/>
                    <a:chOff x="1860480" y="2417760"/>
                    <a:chExt cx="5149800" cy="2799720"/>
                  </a:xfrm>
                </p:grpSpPr>
                <p:sp>
                  <p:nvSpPr>
                    <p:cNvPr id="63" name=""/>
                    <p:cNvSpPr/>
                    <p:nvPr/>
                  </p:nvSpPr>
                  <p:spPr>
                    <a:xfrm>
                      <a:off x="3368520" y="4608360"/>
                      <a:ext cx="2124360" cy="609120"/>
                    </a:xfrm>
                    <a:prstGeom prst="rect">
                      <a:avLst/>
                    </a:prstGeom>
                    <a:blipFill rotWithShape="0">
                      <a:blip r:embed="rId1"/>
                      <a:srcRect/>
                      <a:tile tx="0" ty="0" sx="100000" sy="100000" algn="ctr"/>
                    </a:blipFill>
                    <a:ln w="1908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" name=""/>
                    <p:cNvSpPr/>
                    <p:nvPr/>
                  </p:nvSpPr>
                  <p:spPr>
                    <a:xfrm>
                      <a:off x="4308480" y="4608360"/>
                      <a:ext cx="158760" cy="609120"/>
                    </a:xfrm>
                    <a:prstGeom prst="ellipse">
                      <a:avLst/>
                    </a:prstGeom>
                    <a:blipFill rotWithShape="0">
                      <a:blip r:embed="rId2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" name=""/>
                    <p:cNvSpPr/>
                    <p:nvPr/>
                  </p:nvSpPr>
                  <p:spPr>
                    <a:xfrm>
                      <a:off x="2295360" y="4608360"/>
                      <a:ext cx="1079640" cy="609120"/>
                    </a:xfrm>
                    <a:prstGeom prst="rect">
                      <a:avLst/>
                    </a:prstGeom>
                    <a:blipFill rotWithShape="0">
                      <a:blip r:embed="rId3"/>
                      <a:srcRect/>
                      <a:tile tx="0" ty="0" sx="100000" sy="100000" algn="ctr"/>
                    </a:blipFill>
                    <a:ln w="1908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" name=""/>
                    <p:cNvSpPr/>
                    <p:nvPr/>
                  </p:nvSpPr>
                  <p:spPr>
                    <a:xfrm>
                      <a:off x="3200400" y="3136680"/>
                      <a:ext cx="108000" cy="1471320"/>
                    </a:xfrm>
                    <a:prstGeom prst="rect">
                      <a:avLst/>
                    </a:prstGeom>
                    <a:blipFill rotWithShape="0">
                      <a:blip r:embed="rId4"/>
                      <a:srcRect/>
                      <a:tile tx="0" ty="0" sx="100000" sy="100000" algn="ctr"/>
                    </a:blipFill>
                    <a:ln w="1908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" name=""/>
                    <p:cNvSpPr/>
                    <p:nvPr/>
                  </p:nvSpPr>
                  <p:spPr>
                    <a:xfrm>
                      <a:off x="5495760" y="4608360"/>
                      <a:ext cx="1079640" cy="609120"/>
                    </a:xfrm>
                    <a:prstGeom prst="rect">
                      <a:avLst/>
                    </a:prstGeom>
                    <a:blipFill rotWithShape="0">
                      <a:blip r:embed="rId5"/>
                      <a:srcRect/>
                      <a:tile tx="0" ty="0" sx="100000" sy="100000" algn="ctr"/>
                    </a:blipFill>
                    <a:ln w="1908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" name=""/>
                    <p:cNvSpPr/>
                    <p:nvPr/>
                  </p:nvSpPr>
                  <p:spPr>
                    <a:xfrm>
                      <a:off x="5549760" y="3603240"/>
                      <a:ext cx="108000" cy="1002960"/>
                    </a:xfrm>
                    <a:prstGeom prst="rect">
                      <a:avLst/>
                    </a:prstGeom>
                    <a:blipFill rotWithShape="0">
                      <a:blip r:embed="rId6"/>
                      <a:srcRect/>
                      <a:tile tx="0" ty="0" sx="100000" sy="100000" algn="ctr"/>
                    </a:blipFill>
                    <a:ln w="1908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" name=""/>
                    <p:cNvSpPr/>
                    <p:nvPr/>
                  </p:nvSpPr>
                  <p:spPr>
                    <a:xfrm>
                      <a:off x="3200400" y="2417760"/>
                      <a:ext cx="108000" cy="7156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" name=""/>
                    <p:cNvSpPr/>
                    <p:nvPr/>
                  </p:nvSpPr>
                  <p:spPr>
                    <a:xfrm>
                      <a:off x="5549760" y="2889000"/>
                      <a:ext cx="108000" cy="7156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" name=""/>
                    <p:cNvSpPr/>
                    <p:nvPr/>
                  </p:nvSpPr>
                  <p:spPr>
                    <a:xfrm>
                      <a:off x="1933560" y="4608360"/>
                      <a:ext cx="360360" cy="6091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" name=""/>
                    <p:cNvSpPr/>
                    <p:nvPr/>
                  </p:nvSpPr>
                  <p:spPr>
                    <a:xfrm>
                      <a:off x="6573960" y="4608360"/>
                      <a:ext cx="360360" cy="6091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" name=""/>
                    <p:cNvSpPr/>
                    <p:nvPr/>
                  </p:nvSpPr>
                  <p:spPr>
                    <a:xfrm>
                      <a:off x="1860480" y="4856040"/>
                      <a:ext cx="434880" cy="107640"/>
                    </a:xfrm>
                    <a:prstGeom prst="rightArrow">
                      <a:avLst>
                        <a:gd name="adj1" fmla="val 50000"/>
                        <a:gd name="adj2" fmla="val 101003"/>
                      </a:avLst>
                    </a:pr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200" bIns="7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" name=""/>
                    <p:cNvSpPr/>
                    <p:nvPr/>
                  </p:nvSpPr>
                  <p:spPr>
                    <a:xfrm>
                      <a:off x="6575400" y="4856040"/>
                      <a:ext cx="434880" cy="107640"/>
                    </a:xfrm>
                    <a:prstGeom prst="rightArrow">
                      <a:avLst>
                        <a:gd name="adj1" fmla="val 50000"/>
                        <a:gd name="adj2" fmla="val 101003"/>
                      </a:avLst>
                    </a:pr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200" bIns="7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" name=""/>
                    <p:cNvSpPr/>
                    <p:nvPr/>
                  </p:nvSpPr>
                  <p:spPr>
                    <a:xfrm>
                      <a:off x="3295800" y="3122280"/>
                      <a:ext cx="2286000" cy="485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6" name=""/>
                  <p:cNvSpPr/>
                  <p:nvPr/>
                </p:nvSpPr>
                <p:spPr>
                  <a:xfrm>
                    <a:off x="3371760" y="5316120"/>
                    <a:ext cx="0" cy="2235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5486400" y="5297040"/>
                    <a:ext cx="0" cy="2235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4275360" y="5286600"/>
                    <a:ext cx="2674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200" spc="-1" strike="noStrike">
                        <a:solidFill>
                          <a:srgbClr val="000000"/>
                        </a:solidFill>
                        <a:latin typeface="Comic Sans MS"/>
                      </a:rPr>
                      <a:t>L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 flipH="1">
                    <a:off x="3371400" y="5411520"/>
                    <a:ext cx="762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4704480" y="5411520"/>
                    <a:ext cx="762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2883600" y="3711960"/>
                    <a:ext cx="331560" cy="301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200" spc="-1" strike="noStrike">
                        <a:solidFill>
                          <a:srgbClr val="000000"/>
                        </a:solidFill>
                        <a:latin typeface="Comic Sans MS"/>
                      </a:rPr>
                      <a:t>h</a:t>
                    </a:r>
                    <a:r>
                      <a:rPr b="1" lang="es-ES_tradnl" sz="1200" spc="-1" strike="noStrike" baseline="-25000">
                        <a:solidFill>
                          <a:srgbClr val="000000"/>
                        </a:solidFill>
                        <a:latin typeface="Comic Sans MS"/>
                      </a:rPr>
                      <a:t>1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5649120" y="3959640"/>
                    <a:ext cx="331560" cy="301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200" spc="-1" strike="noStrike">
                        <a:solidFill>
                          <a:srgbClr val="000000"/>
                        </a:solidFill>
                        <a:latin typeface="Comic Sans MS"/>
                      </a:rPr>
                      <a:t>h</a:t>
                    </a:r>
                    <a:r>
                      <a:rPr b="1" lang="es-ES_tradnl" sz="1200" spc="-1" strike="noStrike" baseline="-25000">
                        <a:solidFill>
                          <a:srgbClr val="000000"/>
                        </a:solidFill>
                        <a:latin typeface="Comic Sans MS"/>
                      </a:rPr>
                      <a:t>2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 flipH="1">
                    <a:off x="2935080" y="3133440"/>
                    <a:ext cx="223560" cy="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 flipH="1">
                    <a:off x="5691240" y="3611160"/>
                    <a:ext cx="223920" cy="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flipV="1">
                    <a:off x="3035160" y="3123720"/>
                    <a:ext cx="0" cy="522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 flipV="1">
                    <a:off x="5791320" y="3596760"/>
                    <a:ext cx="0" cy="366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5800680" y="4235040"/>
                    <a:ext cx="0" cy="366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3027240" y="4077720"/>
                    <a:ext cx="0" cy="522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9" name=""/>
                <p:cNvSpPr/>
                <p:nvPr/>
              </p:nvSpPr>
              <p:spPr>
                <a:xfrm>
                  <a:off x="1532520" y="4752000"/>
                  <a:ext cx="322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ff"/>
                      </a:solidFill>
                      <a:latin typeface="Comic Sans MS"/>
                    </a:rPr>
                    <a:t>Q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6984000" y="4752000"/>
                  <a:ext cx="322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ff"/>
                      </a:solidFill>
                      <a:latin typeface="Comic Sans MS"/>
                    </a:rPr>
                    <a:t>Q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" name=""/>
              <p:cNvSpPr/>
              <p:nvPr/>
            </p:nvSpPr>
            <p:spPr>
              <a:xfrm>
                <a:off x="4246560" y="473616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ff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2106360" y="1007280"/>
              <a:ext cx="439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Comic Sans MS"/>
                </a:rPr>
                <a:t>Dispositivo utilizado por H. Dar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21440" y="778680"/>
            <a:ext cx="6708240" cy="57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Dar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El coeficiente de permeabilidad (k) es un parámetro 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 propio del medio permeable (no depende del fluído)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sulta en extremo variable de un material a otr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PERMEABILIDADES (k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ipo de Depósito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K (cm/seg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K (m/día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luviales                          1 a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2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1000 a 10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luviales                    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a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3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100  a 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luviales                  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a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4   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10  a 0,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laciales                    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a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6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0,01 a 0,00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rava limpia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1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1000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rena gruesa limpia      1 a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2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1000 a 10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ezcla de arena        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a 5*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3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10 a 5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rena fina                5*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a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3      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5 a 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rena limosa           2*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a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4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2 a 0,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imo                         5*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a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5 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0,5 a 0,0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rcilla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6            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0,00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ocas fracturadas          1 a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2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1000 a 10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ocas sanas              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a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9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a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1000" y="1125000"/>
            <a:ext cx="8279280" cy="51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Unidades Permeables e Im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En hidrogeología los medios permeables de mayor relevancia está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stituidos por depósitos sedimentarios no consolidados o escas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nte consolidados y por rocas usualmente fracturada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En Chile la hidrogeología se ha practicado casi exclusivamente en r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lenos sedimentarios actuales o subactuales y es en general poca 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xperiencia que se tiene de hidrogeología en roc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Los materiales que de preferencia son propicios como medios perme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les son los depósitos sedimentarios fluviales, aluviales, coluviales, l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ustres y lagunares. La permeabilidad de éstos depende básicame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 la cantidad de arcilla que presenten y secundariamente del grado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mpactación y cementación que tenga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1000" y="870120"/>
            <a:ext cx="8317080" cy="56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Unidades Permeables e Im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De acuerdo a la permeabilidad y a su potencial hidrogeológico, se reco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ocen tres tipos de medios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uíferos (del latín aqua = agua y fero = llevar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uícludos o acuífijos (del latín claudere = encerrar o cerrar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uitardo (del latín tardere = retardar)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uífugo (del latín fugere = huir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 u="sng">
                <a:solidFill>
                  <a:srgbClr val="0000ff"/>
                </a:solidFill>
                <a:uFillTx/>
                <a:latin typeface="Arial"/>
              </a:rPr>
              <a:t>Acuífer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Los acuíferos son medios permeables susceptibles de almacenar y c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r parte del agua que contienen por efecto gravitatorio. Los depósi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 arenas y gravas fluviales o aluviales son buenos ejemplos de acuíf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En términos netamente geológicos se puede hablar de acuíferos detrít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s o líticos fracturados, dependiendo del medio permeable que lo an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2T13:27:49Z</dcterms:created>
  <dc:creator>usuario</dc:creator>
  <dc:description/>
  <dc:language>en-US</dc:language>
  <cp:lastModifiedBy>Carlos Parraguez</cp:lastModifiedBy>
  <dcterms:modified xsi:type="dcterms:W3CDTF">2005-08-31T17:39:48Z</dcterms:modified>
  <cp:revision>488</cp:revision>
  <dc:subject/>
  <dc:title>Sin título de diapositiva</dc:title>
</cp:coreProperties>
</file>