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DBD-30F3-4E69-8E26-78C80006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14A-6170-4295-8F40-41653883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288-9E0B-49E1-8435-33CEBFF8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18C-8F35-41DE-A1EA-8046DE8B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527-AFD2-4290-A131-61DCBFAC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1C8-6F19-4B4E-8AE9-8B8D6AAA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AA0-998C-4E31-8F8A-59B1C5EC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661-1EED-4D9C-87D7-62BDFB00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742-6C63-40A4-AEDA-D6B04605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8D7-A3B3-4CF1-85CA-63EAA26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BD8-DE72-4347-9F75-1D490D9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E77-54CC-4DBD-BEAD-1E1025B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1991-14AE-4A43-AA9B-DBC4047A5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compr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68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77880" y="1704960"/>
            <a:ext cx="2692440" cy="58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" y="915840"/>
            <a:ext cx="3370320" cy="1362240"/>
          </a:xfrm>
          <a:custGeom>
            <a:avLst/>
            <a:gdLst/>
            <a:ahLst/>
            <a:rect l="l" t="t" r="r" b="b"/>
            <a:pathLst>
              <a:path w="2123" h="858">
                <a:moveTo>
                  <a:pt x="0" y="449"/>
                </a:moveTo>
                <a:lnTo>
                  <a:pt x="679" y="449"/>
                </a:lnTo>
                <a:lnTo>
                  <a:pt x="1294" y="47"/>
                </a:lnTo>
                <a:lnTo>
                  <a:pt x="1791" y="55"/>
                </a:lnTo>
                <a:lnTo>
                  <a:pt x="1989" y="0"/>
                </a:lnTo>
                <a:lnTo>
                  <a:pt x="2123" y="63"/>
                </a:lnTo>
                <a:lnTo>
                  <a:pt x="2115" y="307"/>
                </a:lnTo>
                <a:lnTo>
                  <a:pt x="2005" y="489"/>
                </a:lnTo>
                <a:lnTo>
                  <a:pt x="1468" y="489"/>
                </a:lnTo>
                <a:lnTo>
                  <a:pt x="829" y="858"/>
                </a:lnTo>
                <a:lnTo>
                  <a:pt x="8" y="858"/>
                </a:lnTo>
                <a:lnTo>
                  <a:pt x="0" y="4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960" y="1203480"/>
            <a:ext cx="3119400" cy="788760"/>
          </a:xfrm>
          <a:custGeom>
            <a:avLst/>
            <a:gdLst/>
            <a:ahLst/>
            <a:rect l="l" t="t" r="r" b="b"/>
            <a:pathLst>
              <a:path w="1965" h="497">
                <a:moveTo>
                  <a:pt x="0" y="497"/>
                </a:moveTo>
                <a:lnTo>
                  <a:pt x="734" y="497"/>
                </a:lnTo>
                <a:lnTo>
                  <a:pt x="1381" y="71"/>
                </a:lnTo>
                <a:lnTo>
                  <a:pt x="1807" y="71"/>
                </a:lnTo>
                <a:lnTo>
                  <a:pt x="1965" y="0"/>
                </a:lnTo>
                <a:lnTo>
                  <a:pt x="1894" y="174"/>
                </a:lnTo>
                <a:lnTo>
                  <a:pt x="1705" y="3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5400" y="1992240"/>
            <a:ext cx="21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7360" y="1717560"/>
            <a:ext cx="3882960" cy="563760"/>
          </a:xfrm>
          <a:custGeom>
            <a:avLst/>
            <a:gdLst/>
            <a:ahLst/>
            <a:rect l="l" t="t" r="r" b="b"/>
            <a:pathLst>
              <a:path w="2446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  <a:lnTo>
                  <a:pt x="244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437000"/>
            <a:ext cx="40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propagación transp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492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45360" y="2652840"/>
            <a:ext cx="2442960" cy="82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4680" y="1981080"/>
            <a:ext cx="3470400" cy="1470240"/>
          </a:xfrm>
          <a:custGeom>
            <a:avLst/>
            <a:gdLst/>
            <a:ahLst/>
            <a:rect l="l" t="t" r="r" b="b"/>
            <a:pathLst>
              <a:path w="2186" h="926">
                <a:moveTo>
                  <a:pt x="0" y="356"/>
                </a:moveTo>
                <a:lnTo>
                  <a:pt x="947" y="356"/>
                </a:lnTo>
                <a:lnTo>
                  <a:pt x="1298" y="147"/>
                </a:lnTo>
                <a:lnTo>
                  <a:pt x="1640" y="147"/>
                </a:lnTo>
                <a:lnTo>
                  <a:pt x="1989" y="0"/>
                </a:lnTo>
                <a:lnTo>
                  <a:pt x="2186" y="0"/>
                </a:lnTo>
                <a:lnTo>
                  <a:pt x="2047" y="433"/>
                </a:lnTo>
                <a:lnTo>
                  <a:pt x="2047" y="412"/>
                </a:lnTo>
                <a:lnTo>
                  <a:pt x="1156" y="926"/>
                </a:lnTo>
                <a:lnTo>
                  <a:pt x="11" y="926"/>
                </a:lnTo>
                <a:lnTo>
                  <a:pt x="0" y="3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0240" y="2444760"/>
            <a:ext cx="3006720" cy="450720"/>
          </a:xfrm>
          <a:custGeom>
            <a:avLst/>
            <a:gdLst/>
            <a:ahLst/>
            <a:rect l="l" t="t" r="r" b="b"/>
            <a:pathLst>
              <a:path w="1894" h="284">
                <a:moveTo>
                  <a:pt x="0" y="284"/>
                </a:moveTo>
                <a:lnTo>
                  <a:pt x="1010" y="284"/>
                </a:lnTo>
                <a:lnTo>
                  <a:pt x="1318" y="126"/>
                </a:lnTo>
                <a:lnTo>
                  <a:pt x="1635" y="129"/>
                </a:lnTo>
                <a:lnTo>
                  <a:pt x="1894" y="0"/>
                </a:lnTo>
                <a:lnTo>
                  <a:pt x="1756" y="2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3052800"/>
            <a:ext cx="166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4680" y="2670120"/>
            <a:ext cx="3195720" cy="785880"/>
          </a:xfrm>
          <a:custGeom>
            <a:avLst/>
            <a:gdLst/>
            <a:ahLst/>
            <a:rect l="l" t="t" r="r" b="b"/>
            <a:pathLst>
              <a:path w="1444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5300640"/>
            <a:ext cx="40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flexión “propag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7280" y="2957400"/>
            <a:ext cx="2643480" cy="214560"/>
          </a:xfrm>
          <a:custGeom>
            <a:avLst/>
            <a:gdLst/>
            <a:ahLst/>
            <a:rect l="l" t="t" r="r" b="b"/>
            <a:pathLst>
              <a:path w="1665" h="135">
                <a:moveTo>
                  <a:pt x="1665" y="0"/>
                </a:moveTo>
                <a:lnTo>
                  <a:pt x="1349" y="0"/>
                </a:lnTo>
                <a:lnTo>
                  <a:pt x="1065" y="135"/>
                </a:lnTo>
                <a:lnTo>
                  <a:pt x="0" y="1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40760" y="1617840"/>
            <a:ext cx="1126800" cy="1339560"/>
          </a:xfrm>
          <a:custGeom>
            <a:avLst/>
            <a:gdLst/>
            <a:ahLst/>
            <a:rect l="l" t="t" r="r" b="b"/>
            <a:pathLst>
              <a:path w="710" h="844">
                <a:moveTo>
                  <a:pt x="710" y="0"/>
                </a:moveTo>
                <a:lnTo>
                  <a:pt x="229" y="529"/>
                </a:lnTo>
                <a:lnTo>
                  <a:pt x="0" y="844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1400" y="1571760"/>
            <a:ext cx="238320" cy="885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3840" y="250920"/>
            <a:ext cx="40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333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ext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28680" y="45072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si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9120" y="1620720"/>
            <a:ext cx="3282840" cy="176544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32320" y="2351160"/>
            <a:ext cx="4898880" cy="1035000"/>
          </a:xfrm>
          <a:custGeom>
            <a:avLst/>
            <a:gdLst/>
            <a:ahLst/>
            <a:rect l="l" t="t" r="r" b="b"/>
            <a:pathLst>
              <a:path w="3086" h="583">
                <a:moveTo>
                  <a:pt x="308" y="583"/>
                </a:moveTo>
                <a:lnTo>
                  <a:pt x="3086" y="576"/>
                </a:lnTo>
                <a:lnTo>
                  <a:pt x="3086" y="0"/>
                </a:lnTo>
                <a:lnTo>
                  <a:pt x="0" y="0"/>
                </a:lnTo>
                <a:lnTo>
                  <a:pt x="308" y="583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1320" y="1620720"/>
            <a:ext cx="5249880" cy="73044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57560" y="1649520"/>
            <a:ext cx="863640" cy="173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1817640"/>
            <a:ext cx="187200" cy="3920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90760" y="22366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6480" y="16844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267984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Rocas rígi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3160" y="1089000"/>
            <a:ext cx="7628040" cy="53172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6880" y="11462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0600" y="3679920"/>
            <a:ext cx="7680240" cy="2633400"/>
            <a:chOff x="750600" y="3679920"/>
            <a:chExt cx="7680240" cy="2633400"/>
          </a:xfrm>
        </p:grpSpPr>
        <p:sp>
          <p:nvSpPr>
            <p:cNvPr id="190" name=""/>
            <p:cNvSpPr/>
            <p:nvPr/>
          </p:nvSpPr>
          <p:spPr>
            <a:xfrm flipH="1">
              <a:off x="1351800" y="495612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585760" y="503856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28600" y="367992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Necesita una o más contrapartes antit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22280" y="4956120"/>
              <a:ext cx="3508200" cy="1357200"/>
            </a:xfrm>
            <a:custGeom>
              <a:avLst/>
              <a:gdLst/>
              <a:ahLst/>
              <a:rect l="l" t="t" r="r" b="b"/>
              <a:pathLst>
                <a:path w="1752" h="765">
                  <a:moveTo>
                    <a:pt x="0" y="765"/>
                  </a:moveTo>
                  <a:lnTo>
                    <a:pt x="1752" y="765"/>
                  </a:lnTo>
                  <a:lnTo>
                    <a:pt x="1752" y="0"/>
                  </a:lnTo>
                  <a:lnTo>
                    <a:pt x="1310" y="0"/>
                  </a:lnTo>
                  <a:lnTo>
                    <a:pt x="1152" y="292"/>
                  </a:lnTo>
                  <a:lnTo>
                    <a:pt x="576" y="292"/>
                  </a:lnTo>
                  <a:lnTo>
                    <a:pt x="482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0240" y="4870440"/>
              <a:ext cx="3508200" cy="1357200"/>
            </a:xfrm>
            <a:custGeom>
              <a:avLst/>
              <a:gdLst/>
              <a:ahLst/>
              <a:rect l="l" t="t" r="r" b="b"/>
              <a:pathLst>
                <a:path w="2210" h="765">
                  <a:moveTo>
                    <a:pt x="0" y="765"/>
                  </a:moveTo>
                  <a:lnTo>
                    <a:pt x="2210" y="765"/>
                  </a:lnTo>
                  <a:lnTo>
                    <a:pt x="2210" y="0"/>
                  </a:lnTo>
                  <a:lnTo>
                    <a:pt x="1652" y="0"/>
                  </a:lnTo>
                  <a:lnTo>
                    <a:pt x="1453" y="292"/>
                  </a:lnTo>
                  <a:lnTo>
                    <a:pt x="1286" y="284"/>
                  </a:lnTo>
                  <a:lnTo>
                    <a:pt x="1223" y="205"/>
                  </a:lnTo>
                  <a:lnTo>
                    <a:pt x="1105" y="198"/>
                  </a:lnTo>
                  <a:lnTo>
                    <a:pt x="1081" y="166"/>
                  </a:lnTo>
                  <a:lnTo>
                    <a:pt x="907" y="166"/>
                  </a:lnTo>
                  <a:lnTo>
                    <a:pt x="876" y="127"/>
                  </a:lnTo>
                  <a:lnTo>
                    <a:pt x="655" y="127"/>
                  </a:lnTo>
                  <a:lnTo>
                    <a:pt x="608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902280" y="5010120"/>
              <a:ext cx="588960" cy="124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05040" y="4941720"/>
              <a:ext cx="588960" cy="124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92200" y="5013360"/>
              <a:ext cx="527040" cy="107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03200" y="5067360"/>
              <a:ext cx="401400" cy="81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79720" y="5137200"/>
              <a:ext cx="28872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312960" y="516564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974920" y="527688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225840" y="537516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887800" y="510840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00680" y="4968720"/>
              <a:ext cx="801720" cy="1287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92440" y="5165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104560" y="50529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916280" y="52624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0440" y="4870440"/>
              <a:ext cx="750960" cy="130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37280" y="19130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46400" y="2225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1080" y="18622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7080" y="206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76840" y="177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51480" y="2212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84600" y="205092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19382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62480" y="173664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flipH="1">
            <a:off x="1214280" y="39996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co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7240" y="4199040"/>
            <a:ext cx="2374920" cy="1751040"/>
            <a:chOff x="687240" y="4199040"/>
            <a:chExt cx="2374920" cy="1751040"/>
          </a:xfrm>
        </p:grpSpPr>
        <p:sp>
          <p:nvSpPr>
            <p:cNvPr id="220" name=""/>
            <p:cNvSpPr/>
            <p:nvPr/>
          </p:nvSpPr>
          <p:spPr>
            <a:xfrm>
              <a:off x="68724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780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0160" y="4199040"/>
              <a:ext cx="7920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57640" y="4199040"/>
            <a:ext cx="5455440" cy="1918800"/>
            <a:chOff x="3257640" y="4199040"/>
            <a:chExt cx="5455440" cy="1918800"/>
          </a:xfrm>
        </p:grpSpPr>
        <p:sp>
          <p:nvSpPr>
            <p:cNvPr id="224" name=""/>
            <p:cNvSpPr/>
            <p:nvPr/>
          </p:nvSpPr>
          <p:spPr>
            <a:xfrm rot="19921800">
              <a:off x="5746320" y="4282560"/>
              <a:ext cx="7938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921800">
              <a:off x="664992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921800">
              <a:off x="755640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7640" y="4951440"/>
              <a:ext cx="2201760" cy="619200"/>
            </a:xfrm>
            <a:prstGeom prst="rightArrow">
              <a:avLst>
                <a:gd name="adj1" fmla="val 50000"/>
                <a:gd name="adj2" fmla="val 888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193920" y="2117880"/>
            <a:ext cx="5249880" cy="65232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2480" y="1639800"/>
            <a:ext cx="7628040" cy="47628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16080"/>
            <a:ext cx="3283200" cy="157788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  <a:lnTo>
                  <a:pt x="8" y="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279520"/>
            <a:ext cx="4899240" cy="1414440"/>
          </a:xfrm>
          <a:custGeom>
            <a:avLst/>
            <a:gdLst/>
            <a:ahLst/>
            <a:rect l="l" t="t" r="r" b="b"/>
            <a:pathLst>
              <a:path w="3086" h="891">
                <a:moveTo>
                  <a:pt x="308" y="891"/>
                </a:moveTo>
                <a:lnTo>
                  <a:pt x="3086" y="884"/>
                </a:lnTo>
                <a:lnTo>
                  <a:pt x="3086" y="308"/>
                </a:lnTo>
                <a:lnTo>
                  <a:pt x="3086" y="0"/>
                </a:lnTo>
                <a:lnTo>
                  <a:pt x="2147" y="315"/>
                </a:lnTo>
                <a:lnTo>
                  <a:pt x="1941" y="16"/>
                </a:lnTo>
                <a:lnTo>
                  <a:pt x="1010" y="300"/>
                </a:lnTo>
                <a:lnTo>
                  <a:pt x="829" y="16"/>
                </a:lnTo>
                <a:lnTo>
                  <a:pt x="0" y="308"/>
                </a:lnTo>
                <a:lnTo>
                  <a:pt x="308" y="891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6880" y="214164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32240" y="22924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01760" y="24415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35680" y="20667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7800" y="16905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59200" y="202896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3480" y="1992240"/>
            <a:ext cx="1001880" cy="1639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10120" y="23050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6320" y="2279520"/>
            <a:ext cx="187200" cy="35100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9240" y="3144960"/>
            <a:ext cx="18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oca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465120"/>
            <a:ext cx="4984560" cy="28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2560" y="108900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8080" y="132552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240" y="2403360"/>
            <a:ext cx="184176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7720" y="2629080"/>
            <a:ext cx="1841400" cy="15840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9280" y="3459240"/>
            <a:ext cx="5054760" cy="2830320"/>
            <a:chOff x="179280" y="3459240"/>
            <a:chExt cx="5054760" cy="2830320"/>
          </a:xfrm>
        </p:grpSpPr>
        <p:sp>
          <p:nvSpPr>
            <p:cNvPr id="248" name=""/>
            <p:cNvSpPr/>
            <p:nvPr/>
          </p:nvSpPr>
          <p:spPr>
            <a:xfrm>
              <a:off x="249120" y="3459240"/>
              <a:ext cx="4984920" cy="283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9280" y="4095720"/>
              <a:ext cx="4697640" cy="382680"/>
              <a:chOff x="179280" y="4095720"/>
              <a:chExt cx="4697640" cy="382680"/>
            </a:xfrm>
          </p:grpSpPr>
          <p:sp>
            <p:nvSpPr>
              <p:cNvPr id="250" name=""/>
              <p:cNvSpPr/>
              <p:nvPr/>
            </p:nvSpPr>
            <p:spPr>
              <a:xfrm>
                <a:off x="179280" y="4095720"/>
                <a:ext cx="2845080" cy="1335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57400" y="4319640"/>
                <a:ext cx="2819520" cy="1587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50840" y="11048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79040" y="10922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04840" y="13302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33040" y="13176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9760" y="24084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67960" y="23954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5920" y="263376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84120" y="26208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90852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0120" y="5411880"/>
            <a:ext cx="8075520" cy="521640"/>
            <a:chOff x="330120" y="5411880"/>
            <a:chExt cx="8075520" cy="521640"/>
          </a:xfrm>
        </p:grpSpPr>
        <p:sp>
          <p:nvSpPr>
            <p:cNvPr id="262" name=""/>
            <p:cNvSpPr/>
            <p:nvPr/>
          </p:nvSpPr>
          <p:spPr>
            <a:xfrm>
              <a:off x="330120" y="5411880"/>
              <a:ext cx="4711680" cy="387360"/>
            </a:xfrm>
            <a:custGeom>
              <a:avLst/>
              <a:gdLst/>
              <a:ahLst/>
              <a:rect l="l" t="t" r="r" b="b"/>
              <a:pathLst>
                <a:path w="2968" h="244">
                  <a:moveTo>
                    <a:pt x="18" y="33"/>
                  </a:moveTo>
                  <a:cubicBezTo>
                    <a:pt x="36" y="20"/>
                    <a:pt x="515" y="0"/>
                    <a:pt x="789" y="0"/>
                  </a:cubicBezTo>
                  <a:cubicBezTo>
                    <a:pt x="1063" y="0"/>
                    <a:pt x="1496" y="29"/>
                    <a:pt x="1661" y="36"/>
                  </a:cubicBezTo>
                  <a:cubicBezTo>
                    <a:pt x="1826" y="43"/>
                    <a:pt x="1759" y="45"/>
                    <a:pt x="1778" y="45"/>
                  </a:cubicBezTo>
                  <a:cubicBezTo>
                    <a:pt x="1777" y="79"/>
                    <a:pt x="1783" y="160"/>
                    <a:pt x="1780" y="196"/>
                  </a:cubicBezTo>
                  <a:cubicBezTo>
                    <a:pt x="1976" y="219"/>
                    <a:pt x="2934" y="205"/>
                    <a:pt x="2951" y="213"/>
                  </a:cubicBezTo>
                  <a:cubicBezTo>
                    <a:pt x="2968" y="221"/>
                    <a:pt x="2079" y="241"/>
                    <a:pt x="1883" y="244"/>
                  </a:cubicBezTo>
                  <a:cubicBezTo>
                    <a:pt x="1789" y="232"/>
                    <a:pt x="1810" y="241"/>
                    <a:pt x="1774" y="229"/>
                  </a:cubicBezTo>
                  <a:cubicBezTo>
                    <a:pt x="1772" y="171"/>
                    <a:pt x="1765" y="72"/>
                    <a:pt x="1765" y="72"/>
                  </a:cubicBezTo>
                  <a:cubicBezTo>
                    <a:pt x="1726" y="69"/>
                    <a:pt x="1795" y="63"/>
                    <a:pt x="1615" y="64"/>
                  </a:cubicBezTo>
                  <a:cubicBezTo>
                    <a:pt x="1435" y="65"/>
                    <a:pt x="949" y="85"/>
                    <a:pt x="683" y="80"/>
                  </a:cubicBezTo>
                  <a:cubicBezTo>
                    <a:pt x="417" y="75"/>
                    <a:pt x="0" y="47"/>
                    <a:pt x="1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720" y="5473800"/>
              <a:ext cx="28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Hard link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562720" y="1541520"/>
            <a:ext cx="28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normales extendiéndose late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62040" y="56520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coa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0880" y="1542960"/>
            <a:ext cx="3930480" cy="1698840"/>
          </a:xfrm>
          <a:custGeom>
            <a:avLst/>
            <a:gdLst/>
            <a:ahLst/>
            <a:rect l="l" t="t" r="r" b="b"/>
            <a:pathLst>
              <a:path w="2476" h="1070">
                <a:moveTo>
                  <a:pt x="0" y="864"/>
                </a:moveTo>
                <a:lnTo>
                  <a:pt x="1036" y="0"/>
                </a:lnTo>
                <a:lnTo>
                  <a:pt x="1768" y="6"/>
                </a:lnTo>
                <a:lnTo>
                  <a:pt x="1823" y="62"/>
                </a:lnTo>
                <a:lnTo>
                  <a:pt x="2146" y="6"/>
                </a:lnTo>
                <a:lnTo>
                  <a:pt x="2476" y="6"/>
                </a:lnTo>
                <a:lnTo>
                  <a:pt x="1837" y="955"/>
                </a:lnTo>
                <a:lnTo>
                  <a:pt x="775" y="1070"/>
                </a:lnTo>
                <a:lnTo>
                  <a:pt x="0" y="86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0880" y="2914560"/>
            <a:ext cx="2949480" cy="881280"/>
          </a:xfrm>
          <a:custGeom>
            <a:avLst/>
            <a:gdLst/>
            <a:ahLst/>
            <a:rect l="l" t="t" r="r" b="b"/>
            <a:pathLst>
              <a:path w="2138" h="638">
                <a:moveTo>
                  <a:pt x="766" y="0"/>
                </a:moveTo>
                <a:lnTo>
                  <a:pt x="908" y="237"/>
                </a:lnTo>
                <a:lnTo>
                  <a:pt x="1610" y="142"/>
                </a:lnTo>
                <a:lnTo>
                  <a:pt x="2138" y="86"/>
                </a:lnTo>
                <a:lnTo>
                  <a:pt x="2138" y="638"/>
                </a:lnTo>
                <a:lnTo>
                  <a:pt x="8" y="638"/>
                </a:lnTo>
                <a:lnTo>
                  <a:pt x="0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08200" y="1565280"/>
            <a:ext cx="1849320" cy="1676520"/>
          </a:xfrm>
          <a:custGeom>
            <a:avLst/>
            <a:gdLst/>
            <a:ahLst/>
            <a:rect l="l" t="t" r="r" b="b"/>
            <a:pathLst>
              <a:path w="1165" h="1056">
                <a:moveTo>
                  <a:pt x="0" y="850"/>
                </a:moveTo>
                <a:cubicBezTo>
                  <a:pt x="40" y="812"/>
                  <a:pt x="131" y="685"/>
                  <a:pt x="242" y="624"/>
                </a:cubicBezTo>
                <a:cubicBezTo>
                  <a:pt x="353" y="563"/>
                  <a:pt x="516" y="590"/>
                  <a:pt x="668" y="482"/>
                </a:cubicBezTo>
                <a:lnTo>
                  <a:pt x="1102" y="0"/>
                </a:lnTo>
                <a:lnTo>
                  <a:pt x="1165" y="48"/>
                </a:lnTo>
                <a:lnTo>
                  <a:pt x="890" y="418"/>
                </a:lnTo>
                <a:lnTo>
                  <a:pt x="699" y="655"/>
                </a:lnTo>
                <a:cubicBezTo>
                  <a:pt x="611" y="717"/>
                  <a:pt x="458" y="722"/>
                  <a:pt x="360" y="789"/>
                </a:cubicBezTo>
                <a:cubicBezTo>
                  <a:pt x="262" y="856"/>
                  <a:pt x="161" y="1001"/>
                  <a:pt x="109" y="1056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17560" y="2917800"/>
            <a:ext cx="478080" cy="87804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5680" y="1531800"/>
            <a:ext cx="1006560" cy="2264040"/>
          </a:xfrm>
          <a:custGeom>
            <a:avLst/>
            <a:gdLst/>
            <a:ahLst/>
            <a:rect l="l" t="t" r="r" b="b"/>
            <a:pathLst>
              <a:path w="634" h="1426">
                <a:moveTo>
                  <a:pt x="3" y="1426"/>
                </a:moveTo>
                <a:lnTo>
                  <a:pt x="607" y="487"/>
                </a:lnTo>
                <a:lnTo>
                  <a:pt x="634" y="0"/>
                </a:lnTo>
                <a:lnTo>
                  <a:pt x="0" y="944"/>
                </a:lnTo>
                <a:lnTo>
                  <a:pt x="3" y="142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948200" y="565200"/>
            <a:ext cx="4043520" cy="3230640"/>
            <a:chOff x="4948200" y="565200"/>
            <a:chExt cx="4043520" cy="3230640"/>
          </a:xfrm>
        </p:grpSpPr>
        <p:sp>
          <p:nvSpPr>
            <p:cNvPr id="272" name=""/>
            <p:cNvSpPr/>
            <p:nvPr/>
          </p:nvSpPr>
          <p:spPr>
            <a:xfrm>
              <a:off x="4948200" y="1541520"/>
              <a:ext cx="393084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48200" y="2914560"/>
              <a:ext cx="2949480" cy="88128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05520" y="153828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243540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6240" y="2424240"/>
              <a:ext cx="55440" cy="29340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1120" y="289404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97680" y="1531800"/>
              <a:ext cx="1001880" cy="226404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1320" y="565200"/>
              <a:ext cx="34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alla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8040" y="4878360"/>
            <a:ext cx="3846600" cy="1386000"/>
            <a:chOff x="338040" y="4878360"/>
            <a:chExt cx="3846600" cy="1386000"/>
          </a:xfrm>
        </p:grpSpPr>
        <p:sp>
          <p:nvSpPr>
            <p:cNvPr id="281" name=""/>
            <p:cNvSpPr/>
            <p:nvPr/>
          </p:nvSpPr>
          <p:spPr>
            <a:xfrm>
              <a:off x="501480" y="5918040"/>
              <a:ext cx="3683160" cy="219240"/>
            </a:xfrm>
            <a:custGeom>
              <a:avLst/>
              <a:gdLst/>
              <a:ahLst/>
              <a:rect l="l" t="t" r="r" b="b"/>
              <a:pathLst>
                <a:path w="2320" h="138">
                  <a:moveTo>
                    <a:pt x="0" y="43"/>
                  </a:moveTo>
                  <a:cubicBezTo>
                    <a:pt x="228" y="37"/>
                    <a:pt x="457" y="31"/>
                    <a:pt x="592" y="43"/>
                  </a:cubicBezTo>
                  <a:cubicBezTo>
                    <a:pt x="727" y="55"/>
                    <a:pt x="713" y="101"/>
                    <a:pt x="813" y="114"/>
                  </a:cubicBezTo>
                  <a:cubicBezTo>
                    <a:pt x="913" y="127"/>
                    <a:pt x="1071" y="138"/>
                    <a:pt x="1192" y="122"/>
                  </a:cubicBezTo>
                  <a:cubicBezTo>
                    <a:pt x="1313" y="106"/>
                    <a:pt x="1351" y="40"/>
                    <a:pt x="1539" y="20"/>
                  </a:cubicBezTo>
                  <a:cubicBezTo>
                    <a:pt x="1727" y="0"/>
                    <a:pt x="2023" y="2"/>
                    <a:pt x="2320" y="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8040" y="4896000"/>
              <a:ext cx="808200" cy="1440"/>
            </a:xfrm>
            <a:custGeom>
              <a:avLst/>
              <a:gdLst/>
              <a:ahLst/>
              <a:rect l="l" t="t" r="r" b="b"/>
              <a:pathLst>
                <a:path w="509" h="1">
                  <a:moveTo>
                    <a:pt x="0" y="1"/>
                  </a:moveTo>
                  <a:lnTo>
                    <a:pt x="509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511020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63840" y="4884840"/>
              <a:ext cx="63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04920" y="4888080"/>
              <a:ext cx="48564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765520" y="4878360"/>
              <a:ext cx="53496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16080" y="51246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49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83160" y="593892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8960" y="61516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6440" y="60008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008680" y="4822920"/>
            <a:ext cx="3922560" cy="1477800"/>
            <a:chOff x="5008680" y="4822920"/>
            <a:chExt cx="3922560" cy="1477800"/>
          </a:xfrm>
        </p:grpSpPr>
        <p:sp>
          <p:nvSpPr>
            <p:cNvPr id="294" name=""/>
            <p:cNvSpPr/>
            <p:nvPr/>
          </p:nvSpPr>
          <p:spPr>
            <a:xfrm>
              <a:off x="5121360" y="484668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1800" y="512136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4320" y="485928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8680" y="484668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6200" y="48229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7560" y="48355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23040" y="48610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3440" y="51372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9520" y="484812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8280" y="578016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04320" y="58802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26320" y="61484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3040" y="580248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552600" y="743040"/>
            <a:ext cx="3951000" cy="2263680"/>
            <a:chOff x="552600" y="743040"/>
            <a:chExt cx="3951000" cy="2263680"/>
          </a:xfrm>
        </p:grpSpPr>
        <p:sp>
          <p:nvSpPr>
            <p:cNvPr id="308" name=""/>
            <p:cNvSpPr/>
            <p:nvPr/>
          </p:nvSpPr>
          <p:spPr>
            <a:xfrm>
              <a:off x="552600" y="752400"/>
              <a:ext cx="393048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600" y="21258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9560" y="749160"/>
              <a:ext cx="191952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3600" y="1646280"/>
              <a:ext cx="986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00280" y="16351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5520" y="2104920"/>
              <a:ext cx="50148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2080" y="743040"/>
              <a:ext cx="1001520" cy="226368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5640" y="3670200"/>
            <a:ext cx="3922920" cy="826560"/>
            <a:chOff x="485640" y="3670200"/>
            <a:chExt cx="3922920" cy="826560"/>
          </a:xfrm>
        </p:grpSpPr>
        <p:sp>
          <p:nvSpPr>
            <p:cNvPr id="316" name=""/>
            <p:cNvSpPr/>
            <p:nvPr/>
          </p:nvSpPr>
          <p:spPr>
            <a:xfrm>
              <a:off x="598320" y="371592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89120" y="4248000"/>
              <a:ext cx="1366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1640" y="374040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640" y="371592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160" y="367020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4880" y="369432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0000" y="3743280"/>
              <a:ext cx="187200" cy="21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90760" y="42786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06840" y="37188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275520" y="3733560"/>
            <a:ext cx="1702800" cy="687600"/>
            <a:chOff x="6275520" y="3733560"/>
            <a:chExt cx="1702800" cy="687600"/>
          </a:xfrm>
        </p:grpSpPr>
        <p:sp>
          <p:nvSpPr>
            <p:cNvPr id="326" name=""/>
            <p:cNvSpPr/>
            <p:nvPr/>
          </p:nvSpPr>
          <p:spPr>
            <a:xfrm>
              <a:off x="6275520" y="39830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04160" y="404496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65840" y="37332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564240" y="37458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1040" y="3394080"/>
            <a:ext cx="3583080" cy="1303200"/>
            <a:chOff x="5261040" y="3394080"/>
            <a:chExt cx="3583080" cy="1303200"/>
          </a:xfrm>
        </p:grpSpPr>
        <p:sp>
          <p:nvSpPr>
            <p:cNvPr id="331" name=""/>
            <p:cNvSpPr/>
            <p:nvPr/>
          </p:nvSpPr>
          <p:spPr>
            <a:xfrm>
              <a:off x="5261040" y="386388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17080" y="396396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9080" y="4232160"/>
              <a:ext cx="1872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5800" y="388620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5320" y="34066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40800" y="33940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3440" y="5249880"/>
            <a:ext cx="45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transferencia, coetánea, extensión limitada, sentido “opuesto” al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0840" y="5137200"/>
            <a:ext cx="36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rumbo, posterior, extensión mayor, sentido “normal” al off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897440" y="547560"/>
            <a:ext cx="4208400" cy="2257560"/>
            <a:chOff x="4897440" y="547560"/>
            <a:chExt cx="4208400" cy="2257560"/>
          </a:xfrm>
        </p:grpSpPr>
        <p:sp>
          <p:nvSpPr>
            <p:cNvPr id="340" name=""/>
            <p:cNvSpPr/>
            <p:nvPr/>
          </p:nvSpPr>
          <p:spPr>
            <a:xfrm>
              <a:off x="4897440" y="550800"/>
              <a:ext cx="4208400" cy="1700280"/>
            </a:xfrm>
            <a:custGeom>
              <a:avLst/>
              <a:gdLst/>
              <a:ahLst/>
              <a:rect l="l" t="t" r="r" b="b"/>
              <a:pathLst>
                <a:path w="2651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651" y="24"/>
                  </a:lnTo>
                  <a:lnTo>
                    <a:pt x="2225" y="655"/>
                  </a:lnTo>
                  <a:lnTo>
                    <a:pt x="2012" y="679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97440" y="19242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4760" y="54756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144468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45480" y="14335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190332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37560" y="1616040"/>
              <a:ext cx="268200" cy="1177920"/>
            </a:xfrm>
            <a:custGeom>
              <a:avLst/>
              <a:gdLst/>
              <a:ahLst/>
              <a:rect l="l" t="t" r="r" b="b"/>
              <a:pathLst>
                <a:path w="192" h="758">
                  <a:moveTo>
                    <a:pt x="2" y="758"/>
                  </a:moveTo>
                  <a:lnTo>
                    <a:pt x="192" y="529"/>
                  </a:lnTo>
                  <a:lnTo>
                    <a:pt x="192" y="0"/>
                  </a:lnTo>
                  <a:lnTo>
                    <a:pt x="0" y="278"/>
                  </a:lnTo>
                  <a:lnTo>
                    <a:pt x="2" y="75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48320" y="1427040"/>
              <a:ext cx="97956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015320" y="1627200"/>
              <a:ext cx="109044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29760" y="617400"/>
              <a:ext cx="658800" cy="1825920"/>
            </a:xfrm>
            <a:custGeom>
              <a:avLst/>
              <a:gdLst/>
              <a:ahLst/>
              <a:rect l="l" t="t" r="r" b="b"/>
              <a:pathLst>
                <a:path w="415" h="1150">
                  <a:moveTo>
                    <a:pt x="0" y="1150"/>
                  </a:moveTo>
                  <a:lnTo>
                    <a:pt x="388" y="487"/>
                  </a:lnTo>
                  <a:lnTo>
                    <a:pt x="415" y="0"/>
                  </a:lnTo>
                  <a:lnTo>
                    <a:pt x="0" y="621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3840" y="126540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2680" y="150192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5698440" y="149076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201800" y="176688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04320" y="1590840"/>
              <a:ext cx="338040" cy="826920"/>
            </a:xfrm>
            <a:custGeom>
              <a:avLst/>
              <a:gdLst/>
              <a:ahLst/>
              <a:rect l="l" t="t" r="r" b="b"/>
              <a:pathLst>
                <a:path w="213" h="521">
                  <a:moveTo>
                    <a:pt x="0" y="24"/>
                  </a:moveTo>
                  <a:lnTo>
                    <a:pt x="213" y="0"/>
                  </a:lnTo>
                  <a:lnTo>
                    <a:pt x="213" y="521"/>
                  </a:lnTo>
                  <a:lnTo>
                    <a:pt x="0" y="521"/>
                  </a:lnTo>
                  <a:lnTo>
                    <a:pt x="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503360" y="3719520"/>
            <a:ext cx="1715760" cy="591840"/>
            <a:chOff x="1503360" y="3719520"/>
            <a:chExt cx="1715760" cy="591840"/>
          </a:xfrm>
        </p:grpSpPr>
        <p:sp>
          <p:nvSpPr>
            <p:cNvPr id="356" name=""/>
            <p:cNvSpPr/>
            <p:nvPr/>
          </p:nvSpPr>
          <p:spPr>
            <a:xfrm flipH="1">
              <a:off x="1816920" y="371952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70280" y="374508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03360" y="38822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144240" y="393480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3520" y="1994040"/>
            <a:ext cx="4008600" cy="1728720"/>
          </a:xfrm>
          <a:custGeom>
            <a:avLst/>
            <a:gdLst/>
            <a:ahLst/>
            <a:rect l="l" t="t" r="r" b="b"/>
            <a:pathLst>
              <a:path w="2525" h="1089">
                <a:moveTo>
                  <a:pt x="0" y="868"/>
                </a:moveTo>
                <a:lnTo>
                  <a:pt x="1036" y="4"/>
                </a:lnTo>
                <a:lnTo>
                  <a:pt x="1776" y="0"/>
                </a:lnTo>
                <a:lnTo>
                  <a:pt x="1866" y="59"/>
                </a:lnTo>
                <a:lnTo>
                  <a:pt x="2525" y="39"/>
                </a:lnTo>
                <a:lnTo>
                  <a:pt x="2236" y="910"/>
                </a:lnTo>
                <a:lnTo>
                  <a:pt x="813" y="1089"/>
                </a:lnTo>
                <a:lnTo>
                  <a:pt x="0" y="86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12920" y="1981080"/>
            <a:ext cx="1013040" cy="1346400"/>
          </a:xfrm>
          <a:custGeom>
            <a:avLst/>
            <a:gdLst/>
            <a:ahLst/>
            <a:rect l="l" t="t" r="r" b="b"/>
            <a:pathLst>
              <a:path w="638" h="848">
                <a:moveTo>
                  <a:pt x="130" y="553"/>
                </a:moveTo>
                <a:lnTo>
                  <a:pt x="366" y="213"/>
                </a:lnTo>
                <a:lnTo>
                  <a:pt x="540" y="0"/>
                </a:lnTo>
                <a:lnTo>
                  <a:pt x="638" y="74"/>
                </a:lnTo>
                <a:lnTo>
                  <a:pt x="329" y="444"/>
                </a:lnTo>
                <a:lnTo>
                  <a:pt x="103" y="745"/>
                </a:lnTo>
                <a:lnTo>
                  <a:pt x="0" y="848"/>
                </a:lnTo>
                <a:lnTo>
                  <a:pt x="130" y="553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2840" y="3676680"/>
            <a:ext cx="326880" cy="57636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7000" y="2022480"/>
            <a:ext cx="1001880" cy="2263680"/>
          </a:xfrm>
          <a:custGeom>
            <a:avLst/>
            <a:gdLst/>
            <a:ahLst/>
            <a:rect l="l" t="t" r="r" b="b"/>
            <a:pathLst>
              <a:path w="726" h="1641">
                <a:moveTo>
                  <a:pt x="0" y="1641"/>
                </a:moveTo>
                <a:lnTo>
                  <a:pt x="695" y="560"/>
                </a:lnTo>
                <a:lnTo>
                  <a:pt x="726" y="0"/>
                </a:lnTo>
                <a:lnTo>
                  <a:pt x="1" y="1057"/>
                </a:lnTo>
                <a:lnTo>
                  <a:pt x="0" y="16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57200" y="2427120"/>
            <a:ext cx="1022400" cy="1297080"/>
          </a:xfrm>
          <a:custGeom>
            <a:avLst/>
            <a:gdLst/>
            <a:ahLst/>
            <a:rect l="l" t="t" r="r" b="b"/>
            <a:pathLst>
              <a:path w="741" h="939">
                <a:moveTo>
                  <a:pt x="0" y="694"/>
                </a:moveTo>
                <a:lnTo>
                  <a:pt x="363" y="292"/>
                </a:lnTo>
                <a:lnTo>
                  <a:pt x="741" y="0"/>
                </a:lnTo>
                <a:lnTo>
                  <a:pt x="363" y="631"/>
                </a:lnTo>
                <a:lnTo>
                  <a:pt x="126" y="939"/>
                </a:lnTo>
                <a:lnTo>
                  <a:pt x="0" y="69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22480" y="2136600"/>
            <a:ext cx="692280" cy="1387800"/>
          </a:xfrm>
          <a:custGeom>
            <a:avLst/>
            <a:gdLst/>
            <a:ahLst/>
            <a:rect l="l" t="t" r="r" b="b"/>
            <a:pathLst>
              <a:path w="436" h="874">
                <a:moveTo>
                  <a:pt x="60" y="107"/>
                </a:moveTo>
                <a:cubicBezTo>
                  <a:pt x="105" y="98"/>
                  <a:pt x="310" y="0"/>
                  <a:pt x="328" y="52"/>
                </a:cubicBezTo>
                <a:cubicBezTo>
                  <a:pt x="346" y="104"/>
                  <a:pt x="215" y="293"/>
                  <a:pt x="168" y="421"/>
                </a:cubicBezTo>
                <a:cubicBezTo>
                  <a:pt x="121" y="549"/>
                  <a:pt x="0" y="763"/>
                  <a:pt x="45" y="818"/>
                </a:cubicBezTo>
                <a:cubicBezTo>
                  <a:pt x="89" y="874"/>
                  <a:pt x="262" y="815"/>
                  <a:pt x="436" y="75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2880" y="3382920"/>
            <a:ext cx="2994120" cy="8920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2320" y="453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41360" y="3368520"/>
            <a:ext cx="474840" cy="87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059440" y="2192400"/>
            <a:ext cx="3571920" cy="750960"/>
            <a:chOff x="5059440" y="2192400"/>
            <a:chExt cx="3571920" cy="750960"/>
          </a:xfrm>
        </p:grpSpPr>
        <p:sp>
          <p:nvSpPr>
            <p:cNvPr id="370" name=""/>
            <p:cNvSpPr/>
            <p:nvPr/>
          </p:nvSpPr>
          <p:spPr>
            <a:xfrm>
              <a:off x="5059440" y="2192400"/>
              <a:ext cx="3571920" cy="75096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86" y="31"/>
                  </a:lnTo>
                  <a:lnTo>
                    <a:pt x="347" y="55"/>
                  </a:lnTo>
                  <a:lnTo>
                    <a:pt x="3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1348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992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059440" y="5495760"/>
            <a:ext cx="3571920" cy="752400"/>
            <a:chOff x="5059440" y="5495760"/>
            <a:chExt cx="3571920" cy="752400"/>
          </a:xfrm>
        </p:grpSpPr>
        <p:sp>
          <p:nvSpPr>
            <p:cNvPr id="374" name=""/>
            <p:cNvSpPr/>
            <p:nvPr/>
          </p:nvSpPr>
          <p:spPr>
            <a:xfrm>
              <a:off x="5059440" y="549720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561" y="26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49920" y="54957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59440" y="4492800"/>
            <a:ext cx="3571920" cy="765000"/>
            <a:chOff x="5059440" y="4492800"/>
            <a:chExt cx="3571920" cy="765000"/>
          </a:xfrm>
        </p:grpSpPr>
        <p:sp>
          <p:nvSpPr>
            <p:cNvPr id="377" name=""/>
            <p:cNvSpPr/>
            <p:nvPr/>
          </p:nvSpPr>
          <p:spPr>
            <a:xfrm>
              <a:off x="5059440" y="450684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63" y="119"/>
                  </a:lnTo>
                  <a:lnTo>
                    <a:pt x="537" y="213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9920" y="44928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9800" y="4707000"/>
              <a:ext cx="2379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059440" y="3355920"/>
            <a:ext cx="3571920" cy="763560"/>
            <a:chOff x="5059440" y="3355920"/>
            <a:chExt cx="3571920" cy="763560"/>
          </a:xfrm>
        </p:grpSpPr>
        <p:sp>
          <p:nvSpPr>
            <p:cNvPr id="381" name=""/>
            <p:cNvSpPr/>
            <p:nvPr/>
          </p:nvSpPr>
          <p:spPr>
            <a:xfrm>
              <a:off x="5059440" y="336852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40" y="72"/>
                  </a:lnTo>
                  <a:lnTo>
                    <a:pt x="490" y="11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9920" y="3355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0480" y="3479760"/>
              <a:ext cx="28728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059440" y="990720"/>
            <a:ext cx="3571920" cy="750600"/>
            <a:chOff x="5059440" y="990720"/>
            <a:chExt cx="3571920" cy="750600"/>
          </a:xfrm>
        </p:grpSpPr>
        <p:sp>
          <p:nvSpPr>
            <p:cNvPr id="385" name=""/>
            <p:cNvSpPr/>
            <p:nvPr/>
          </p:nvSpPr>
          <p:spPr>
            <a:xfrm>
              <a:off x="5059440" y="990720"/>
              <a:ext cx="3571920" cy="75060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7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0880" y="10270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73680" y="10144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246400" y="262080"/>
            <a:ext cx="47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63200">
            <a:off x="1035000" y="586548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381400" y="52336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663200">
            <a:off x="1417680" y="61066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663200">
            <a:off x="3038400" y="5524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63200">
            <a:off x="1917720" y="57560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663200">
            <a:off x="2606760" y="5817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85680" y="107784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66" y="62"/>
                </a:lnTo>
                <a:lnTo>
                  <a:pt x="2496" y="56"/>
                </a:lnTo>
                <a:lnTo>
                  <a:pt x="2236" y="913"/>
                </a:ln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3560" y="2765520"/>
            <a:ext cx="32688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1166760"/>
            <a:ext cx="963720" cy="220968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95400" y="2471760"/>
            <a:ext cx="299412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5960" y="1079640"/>
            <a:ext cx="1865160" cy="1719000"/>
          </a:xfrm>
          <a:custGeom>
            <a:avLst/>
            <a:gdLst/>
            <a:ahLst/>
            <a:rect l="l" t="t" r="r" b="b"/>
            <a:pathLst>
              <a:path w="1175" h="1083">
                <a:moveTo>
                  <a:pt x="0" y="876"/>
                </a:moveTo>
                <a:lnTo>
                  <a:pt x="410" y="442"/>
                </a:lnTo>
                <a:lnTo>
                  <a:pt x="639" y="253"/>
                </a:lnTo>
                <a:lnTo>
                  <a:pt x="455" y="560"/>
                </a:lnTo>
                <a:lnTo>
                  <a:pt x="662" y="552"/>
                </a:lnTo>
                <a:lnTo>
                  <a:pt x="1136" y="0"/>
                </a:lnTo>
                <a:lnTo>
                  <a:pt x="1175" y="63"/>
                </a:lnTo>
                <a:lnTo>
                  <a:pt x="970" y="403"/>
                </a:lnTo>
                <a:lnTo>
                  <a:pt x="668" y="851"/>
                </a:lnTo>
                <a:lnTo>
                  <a:pt x="517" y="1022"/>
                </a:lnTo>
                <a:lnTo>
                  <a:pt x="536" y="963"/>
                </a:lnTo>
                <a:lnTo>
                  <a:pt x="673" y="662"/>
                </a:lnTo>
                <a:lnTo>
                  <a:pt x="463" y="659"/>
                </a:lnTo>
                <a:lnTo>
                  <a:pt x="140" y="1083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6680" y="1968480"/>
            <a:ext cx="17280" cy="163440"/>
          </a:xfrm>
          <a:custGeom>
            <a:avLst/>
            <a:gdLst/>
            <a:ahLst/>
            <a:rect l="l" t="t" r="r" b="b"/>
            <a:pathLst>
              <a:path w="11" h="103">
                <a:moveTo>
                  <a:pt x="0" y="0"/>
                </a:moveTo>
                <a:lnTo>
                  <a:pt x="11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06800" y="1959120"/>
            <a:ext cx="3636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0"/>
                </a:moveTo>
                <a:lnTo>
                  <a:pt x="23" y="2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62440" y="11066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 r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68360" y="279576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4040" y="273384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399240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80" y="191"/>
                </a:lnTo>
                <a:cubicBezTo>
                  <a:pt x="1926" y="208"/>
                  <a:pt x="1991" y="127"/>
                  <a:pt x="2093" y="105"/>
                </a:cubicBezTo>
                <a:cubicBezTo>
                  <a:pt x="2195" y="83"/>
                  <a:pt x="2322" y="65"/>
                  <a:pt x="2496" y="56"/>
                </a:cubicBezTo>
                <a:cubicBezTo>
                  <a:pt x="2366" y="484"/>
                  <a:pt x="2236" y="913"/>
                  <a:pt x="2236" y="913"/>
                </a:cubicBez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5160" y="5680080"/>
            <a:ext cx="32724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46440" y="4081320"/>
            <a:ext cx="963720" cy="221004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7360" y="5386320"/>
            <a:ext cx="299376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27800" y="4057560"/>
            <a:ext cx="33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en eche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30320" y="5710320"/>
            <a:ext cx="3128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5648400"/>
            <a:ext cx="3124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41320" y="4697280"/>
            <a:ext cx="838440" cy="1014480"/>
          </a:xfrm>
          <a:custGeom>
            <a:avLst/>
            <a:gdLst/>
            <a:ahLst/>
            <a:rect l="l" t="t" r="r" b="b"/>
            <a:pathLst>
              <a:path w="528" h="639">
                <a:moveTo>
                  <a:pt x="0" y="434"/>
                </a:moveTo>
                <a:lnTo>
                  <a:pt x="165" y="284"/>
                </a:lnTo>
                <a:lnTo>
                  <a:pt x="410" y="95"/>
                </a:lnTo>
                <a:lnTo>
                  <a:pt x="528" y="0"/>
                </a:lnTo>
                <a:lnTo>
                  <a:pt x="370" y="268"/>
                </a:lnTo>
                <a:lnTo>
                  <a:pt x="110" y="639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01960" y="3995640"/>
            <a:ext cx="743040" cy="1089000"/>
          </a:xfrm>
          <a:custGeom>
            <a:avLst/>
            <a:gdLst/>
            <a:ahLst/>
            <a:rect l="l" t="t" r="r" b="b"/>
            <a:pathLst>
              <a:path w="468" h="686">
                <a:moveTo>
                  <a:pt x="397" y="0"/>
                </a:moveTo>
                <a:lnTo>
                  <a:pt x="260" y="210"/>
                </a:lnTo>
                <a:lnTo>
                  <a:pt x="0" y="686"/>
                </a:lnTo>
                <a:lnTo>
                  <a:pt x="468" y="189"/>
                </a:lnTo>
                <a:lnTo>
                  <a:pt x="397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66920" y="485136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17840" y="467028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84600" y="4438800"/>
            <a:ext cx="349200" cy="53784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338040"/>
            <a:ext cx="47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663200">
            <a:off x="5369040" y="23839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675120" y="1865520"/>
            <a:ext cx="1302480" cy="822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663200">
            <a:off x="5751360" y="2625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9663200">
            <a:off x="7472520" y="21553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663200">
            <a:off x="6251400" y="2274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663200">
            <a:off x="7040520" y="2449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1640" y="2130480"/>
            <a:ext cx="29988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9663200">
            <a:off x="5030640" y="5765400"/>
            <a:ext cx="148464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991560" y="48844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9663200">
            <a:off x="5413320" y="60066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9663200">
            <a:off x="7284960" y="543672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9663200">
            <a:off x="5913360" y="56559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663200">
            <a:off x="7818480" y="50544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216480" y="543096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815160" y="536112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540540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463800">
            <a:off x="6588360" y="2350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9663200">
            <a:off x="6343560" y="553212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9663200">
            <a:off x="6634080" y="5514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663200">
            <a:off x="6939000" y="5460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4200" y="1501920"/>
            <a:ext cx="5673960" cy="2882880"/>
          </a:xfrm>
          <a:custGeom>
            <a:avLst/>
            <a:gdLst/>
            <a:ahLst/>
            <a:rect l="l" t="t" r="r" b="b"/>
            <a:pathLst>
              <a:path w="3574" h="1816">
                <a:moveTo>
                  <a:pt x="0" y="1318"/>
                </a:moveTo>
                <a:lnTo>
                  <a:pt x="1223" y="8"/>
                </a:lnTo>
                <a:lnTo>
                  <a:pt x="1869" y="0"/>
                </a:lnTo>
                <a:lnTo>
                  <a:pt x="2027" y="339"/>
                </a:lnTo>
                <a:lnTo>
                  <a:pt x="2746" y="207"/>
                </a:lnTo>
                <a:lnTo>
                  <a:pt x="3062" y="159"/>
                </a:lnTo>
                <a:lnTo>
                  <a:pt x="3574" y="159"/>
                </a:lnTo>
                <a:lnTo>
                  <a:pt x="3188" y="1240"/>
                </a:lnTo>
                <a:lnTo>
                  <a:pt x="1981" y="1816"/>
                </a:lnTo>
                <a:lnTo>
                  <a:pt x="0" y="131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66800" y="1488960"/>
            <a:ext cx="1752840" cy="2059200"/>
          </a:xfrm>
          <a:custGeom>
            <a:avLst/>
            <a:gdLst/>
            <a:ahLst/>
            <a:rect l="l" t="t" r="r" b="b"/>
            <a:pathLst>
              <a:path w="1088" h="1273">
                <a:moveTo>
                  <a:pt x="946" y="0"/>
                </a:moveTo>
                <a:lnTo>
                  <a:pt x="1088" y="332"/>
                </a:lnTo>
                <a:lnTo>
                  <a:pt x="915" y="553"/>
                </a:lnTo>
                <a:lnTo>
                  <a:pt x="564" y="865"/>
                </a:lnTo>
                <a:lnTo>
                  <a:pt x="198" y="1105"/>
                </a:lnTo>
                <a:lnTo>
                  <a:pt x="0" y="1273"/>
                </a:lnTo>
                <a:lnTo>
                  <a:pt x="466" y="678"/>
                </a:lnTo>
                <a:cubicBezTo>
                  <a:pt x="585" y="558"/>
                  <a:pt x="662" y="405"/>
                  <a:pt x="780" y="284"/>
                </a:cubicBezTo>
                <a:cubicBezTo>
                  <a:pt x="904" y="173"/>
                  <a:pt x="946" y="0"/>
                  <a:pt x="946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" y="3459240"/>
            <a:ext cx="5073840" cy="1174680"/>
          </a:xfrm>
          <a:custGeom>
            <a:avLst/>
            <a:gdLst/>
            <a:ahLst/>
            <a:rect l="l" t="t" r="r" b="b"/>
            <a:pathLst>
              <a:path w="3196" h="740">
                <a:moveTo>
                  <a:pt x="0" y="93"/>
                </a:moveTo>
                <a:lnTo>
                  <a:pt x="829" y="94"/>
                </a:lnTo>
                <a:lnTo>
                  <a:pt x="860" y="110"/>
                </a:lnTo>
                <a:cubicBezTo>
                  <a:pt x="966" y="119"/>
                  <a:pt x="1292" y="119"/>
                  <a:pt x="1468" y="149"/>
                </a:cubicBezTo>
                <a:cubicBezTo>
                  <a:pt x="1644" y="179"/>
                  <a:pt x="1791" y="252"/>
                  <a:pt x="1918" y="291"/>
                </a:cubicBezTo>
                <a:lnTo>
                  <a:pt x="2233" y="386"/>
                </a:lnTo>
                <a:lnTo>
                  <a:pt x="2415" y="0"/>
                </a:lnTo>
                <a:lnTo>
                  <a:pt x="3196" y="0"/>
                </a:lnTo>
                <a:lnTo>
                  <a:pt x="3196" y="725"/>
                </a:lnTo>
                <a:lnTo>
                  <a:pt x="0" y="740"/>
                </a:lnTo>
                <a:lnTo>
                  <a:pt x="0" y="93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5600" y="2039760"/>
            <a:ext cx="900000" cy="1393920"/>
          </a:xfrm>
          <a:custGeom>
            <a:avLst/>
            <a:gdLst/>
            <a:ahLst/>
            <a:rect l="l" t="t" r="r" b="b"/>
            <a:pathLst>
              <a:path w="567" h="878">
                <a:moveTo>
                  <a:pt x="0" y="878"/>
                </a:moveTo>
                <a:cubicBezTo>
                  <a:pt x="51" y="791"/>
                  <a:pt x="212" y="501"/>
                  <a:pt x="306" y="355"/>
                </a:cubicBezTo>
                <a:cubicBezTo>
                  <a:pt x="400" y="209"/>
                  <a:pt x="513" y="74"/>
                  <a:pt x="5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81240" y="2143080"/>
            <a:ext cx="2454120" cy="139068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71840" y="4071960"/>
            <a:ext cx="274680" cy="527040"/>
          </a:xfrm>
          <a:custGeom>
            <a:avLst/>
            <a:gdLst/>
            <a:ahLst/>
            <a:rect l="l" t="t" r="r" b="b"/>
            <a:pathLst>
              <a:path w="173" h="332">
                <a:moveTo>
                  <a:pt x="173" y="0"/>
                </a:moveTo>
                <a:cubicBezTo>
                  <a:pt x="173" y="0"/>
                  <a:pt x="86" y="166"/>
                  <a:pt x="0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75440" y="1744560"/>
            <a:ext cx="601560" cy="286704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33440" y="51264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235560" y="1177920"/>
            <a:ext cx="2783160" cy="750960"/>
            <a:chOff x="6235560" y="1177920"/>
            <a:chExt cx="2783160" cy="750960"/>
          </a:xfrm>
        </p:grpSpPr>
        <p:sp>
          <p:nvSpPr>
            <p:cNvPr id="447" name=""/>
            <p:cNvSpPr/>
            <p:nvPr/>
          </p:nvSpPr>
          <p:spPr>
            <a:xfrm>
              <a:off x="6235560" y="117792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491" y="213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88240" y="1214280"/>
              <a:ext cx="338040" cy="7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35560" y="2367000"/>
            <a:ext cx="2783160" cy="750960"/>
            <a:chOff x="6235560" y="2367000"/>
            <a:chExt cx="2783160" cy="750960"/>
          </a:xfrm>
        </p:grpSpPr>
        <p:sp>
          <p:nvSpPr>
            <p:cNvPr id="450" name=""/>
            <p:cNvSpPr/>
            <p:nvPr/>
          </p:nvSpPr>
          <p:spPr>
            <a:xfrm>
              <a:off x="6235560" y="236700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98" y="95"/>
                  </a:lnTo>
                  <a:cubicBezTo>
                    <a:pt x="1042" y="111"/>
                    <a:pt x="885" y="114"/>
                    <a:pt x="783" y="127"/>
                  </a:cubicBezTo>
                  <a:cubicBezTo>
                    <a:pt x="681" y="140"/>
                    <a:pt x="545" y="195"/>
                    <a:pt x="483" y="174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8240" y="24033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778880" y="2405160"/>
              <a:ext cx="25056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235560" y="3481560"/>
            <a:ext cx="2783160" cy="750600"/>
            <a:chOff x="6235560" y="3481560"/>
            <a:chExt cx="2783160" cy="750600"/>
          </a:xfrm>
        </p:grpSpPr>
        <p:sp>
          <p:nvSpPr>
            <p:cNvPr id="454" name=""/>
            <p:cNvSpPr/>
            <p:nvPr/>
          </p:nvSpPr>
          <p:spPr>
            <a:xfrm>
              <a:off x="6235560" y="3481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75" y="166"/>
                  </a:lnTo>
                  <a:cubicBezTo>
                    <a:pt x="1019" y="180"/>
                    <a:pt x="980" y="111"/>
                    <a:pt x="783" y="119"/>
                  </a:cubicBezTo>
                  <a:cubicBezTo>
                    <a:pt x="586" y="127"/>
                    <a:pt x="529" y="155"/>
                    <a:pt x="467" y="135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8240" y="3517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778880" y="3519360"/>
              <a:ext cx="25056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235560" y="4597560"/>
            <a:ext cx="2783160" cy="750600"/>
            <a:chOff x="6235560" y="4597560"/>
            <a:chExt cx="2783160" cy="750600"/>
          </a:xfrm>
        </p:grpSpPr>
        <p:sp>
          <p:nvSpPr>
            <p:cNvPr id="458" name=""/>
            <p:cNvSpPr/>
            <p:nvPr/>
          </p:nvSpPr>
          <p:spPr>
            <a:xfrm>
              <a:off x="6235560" y="4597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51" y="9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8240" y="4633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765560" y="4608360"/>
              <a:ext cx="25092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235560" y="5599080"/>
            <a:ext cx="2783160" cy="750960"/>
            <a:chOff x="6235560" y="5599080"/>
            <a:chExt cx="2783160" cy="750960"/>
          </a:xfrm>
        </p:grpSpPr>
        <p:sp>
          <p:nvSpPr>
            <p:cNvPr id="462" name=""/>
            <p:cNvSpPr/>
            <p:nvPr/>
          </p:nvSpPr>
          <p:spPr>
            <a:xfrm>
              <a:off x="6235560" y="559908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754400" y="5635800"/>
              <a:ext cx="25092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079720" y="1878120"/>
            <a:ext cx="2205000" cy="1352520"/>
          </a:xfrm>
          <a:custGeom>
            <a:avLst/>
            <a:gdLst/>
            <a:ahLst/>
            <a:rect l="l" t="t" r="r" b="b"/>
            <a:pathLst>
              <a:path w="1389" h="852">
                <a:moveTo>
                  <a:pt x="0" y="852"/>
                </a:moveTo>
                <a:lnTo>
                  <a:pt x="1223" y="205"/>
                </a:lnTo>
                <a:lnTo>
                  <a:pt x="1389" y="0"/>
                </a:lnTo>
                <a:lnTo>
                  <a:pt x="820" y="118"/>
                </a:lnTo>
                <a:lnTo>
                  <a:pt x="584" y="394"/>
                </a:lnTo>
                <a:lnTo>
                  <a:pt x="229" y="69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0240" y="2568600"/>
            <a:ext cx="301680" cy="401760"/>
          </a:xfrm>
          <a:custGeom>
            <a:avLst/>
            <a:gdLst/>
            <a:ahLst/>
            <a:rect l="l" t="t" r="r" b="b"/>
            <a:pathLst>
              <a:path w="190" h="253">
                <a:moveTo>
                  <a:pt x="0" y="0"/>
                </a:moveTo>
                <a:cubicBezTo>
                  <a:pt x="39" y="22"/>
                  <a:pt x="79" y="45"/>
                  <a:pt x="111" y="87"/>
                </a:cubicBezTo>
                <a:cubicBezTo>
                  <a:pt x="143" y="129"/>
                  <a:pt x="177" y="224"/>
                  <a:pt x="190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79680" y="2732040"/>
            <a:ext cx="1917720" cy="1338480"/>
          </a:xfrm>
          <a:custGeom>
            <a:avLst/>
            <a:gdLst/>
            <a:ahLst/>
            <a:rect l="l" t="t" r="r" b="b"/>
            <a:pathLst>
              <a:path w="1208" h="843">
                <a:moveTo>
                  <a:pt x="0" y="598"/>
                </a:moveTo>
                <a:cubicBezTo>
                  <a:pt x="88" y="540"/>
                  <a:pt x="328" y="346"/>
                  <a:pt x="529" y="251"/>
                </a:cubicBezTo>
                <a:cubicBezTo>
                  <a:pt x="730" y="156"/>
                  <a:pt x="1133" y="0"/>
                  <a:pt x="1208" y="30"/>
                </a:cubicBezTo>
                <a:lnTo>
                  <a:pt x="979" y="432"/>
                </a:lnTo>
                <a:lnTo>
                  <a:pt x="789" y="84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9663200">
            <a:off x="2538360" y="521460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454120" y="59612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9663200">
            <a:off x="2921040" y="54558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9663200">
            <a:off x="3314880" y="60386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9663200">
            <a:off x="3421080" y="51051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9663200">
            <a:off x="2895480" y="63450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2200" y="5765760"/>
            <a:ext cx="1239840" cy="25236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00240" y="5694480"/>
            <a:ext cx="84240" cy="349200"/>
          </a:xfrm>
          <a:custGeom>
            <a:avLst/>
            <a:gdLst/>
            <a:ahLst/>
            <a:rect l="l" t="t" r="r" b="b"/>
            <a:pathLst>
              <a:path w="53" h="220">
                <a:moveTo>
                  <a:pt x="0" y="0"/>
                </a:moveTo>
                <a:cubicBezTo>
                  <a:pt x="3" y="16"/>
                  <a:pt x="14" y="62"/>
                  <a:pt x="23" y="99"/>
                </a:cubicBezTo>
                <a:cubicBezTo>
                  <a:pt x="32" y="136"/>
                  <a:pt x="47" y="195"/>
                  <a:pt x="53" y="2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9800" y="152280"/>
            <a:ext cx="4127760" cy="662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97560" y="752400"/>
            <a:ext cx="43592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flex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bend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instantánea de la falla (rocas mecánicamente competen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pos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geometría del bloque y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9960" y="7398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120" y="243036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120" y="414648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58374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233440" y="5126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6360" y="1641600"/>
            <a:ext cx="4973400" cy="2328840"/>
          </a:xfrm>
          <a:custGeom>
            <a:avLst/>
            <a:gdLst/>
            <a:ahLst/>
            <a:rect l="l" t="t" r="r" b="b"/>
            <a:pathLst>
              <a:path w="3133" h="1467">
                <a:moveTo>
                  <a:pt x="0" y="1139"/>
                </a:moveTo>
                <a:lnTo>
                  <a:pt x="632" y="39"/>
                </a:lnTo>
                <a:lnTo>
                  <a:pt x="1072" y="109"/>
                </a:lnTo>
                <a:lnTo>
                  <a:pt x="1297" y="184"/>
                </a:lnTo>
                <a:lnTo>
                  <a:pt x="1539" y="315"/>
                </a:lnTo>
                <a:lnTo>
                  <a:pt x="1761" y="0"/>
                </a:lnTo>
                <a:lnTo>
                  <a:pt x="3133" y="0"/>
                </a:lnTo>
                <a:lnTo>
                  <a:pt x="2656" y="1432"/>
                </a:lnTo>
                <a:lnTo>
                  <a:pt x="2437" y="1467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3333600"/>
            <a:ext cx="4388040" cy="1016280"/>
          </a:xfrm>
          <a:custGeom>
            <a:avLst/>
            <a:gdLst/>
            <a:ahLst/>
            <a:rect l="l" t="t" r="r" b="b"/>
            <a:pathLst>
              <a:path w="2764" h="640">
                <a:moveTo>
                  <a:pt x="0" y="80"/>
                </a:moveTo>
                <a:lnTo>
                  <a:pt x="1658" y="93"/>
                </a:lnTo>
                <a:lnTo>
                  <a:pt x="1760" y="319"/>
                </a:lnTo>
                <a:lnTo>
                  <a:pt x="2415" y="135"/>
                </a:lnTo>
                <a:lnTo>
                  <a:pt x="2764" y="0"/>
                </a:lnTo>
                <a:lnTo>
                  <a:pt x="2764" y="627"/>
                </a:lnTo>
                <a:lnTo>
                  <a:pt x="0" y="640"/>
                </a:lnTo>
                <a:lnTo>
                  <a:pt x="0" y="8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65840" y="1612800"/>
            <a:ext cx="596880" cy="271800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98960" y="1859040"/>
            <a:ext cx="1223640" cy="2003400"/>
          </a:xfrm>
          <a:custGeom>
            <a:avLst/>
            <a:gdLst/>
            <a:ahLst/>
            <a:rect l="l" t="t" r="r" b="b"/>
            <a:pathLst>
              <a:path w="771" h="1262">
                <a:moveTo>
                  <a:pt x="0" y="1036"/>
                </a:moveTo>
                <a:cubicBezTo>
                  <a:pt x="7" y="1021"/>
                  <a:pt x="20" y="989"/>
                  <a:pt x="20" y="989"/>
                </a:cubicBezTo>
                <a:lnTo>
                  <a:pt x="282" y="612"/>
                </a:lnTo>
                <a:lnTo>
                  <a:pt x="771" y="0"/>
                </a:lnTo>
                <a:lnTo>
                  <a:pt x="447" y="723"/>
                </a:lnTo>
                <a:lnTo>
                  <a:pt x="123" y="126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91040" y="3465360"/>
            <a:ext cx="398160" cy="906480"/>
          </a:xfrm>
          <a:custGeom>
            <a:avLst/>
            <a:gdLst/>
            <a:ahLst/>
            <a:rect l="l" t="t" r="r" b="b"/>
            <a:pathLst>
              <a:path w="253" h="632">
                <a:moveTo>
                  <a:pt x="0" y="0"/>
                </a:moveTo>
                <a:cubicBezTo>
                  <a:pt x="42" y="105"/>
                  <a:pt x="200" y="500"/>
                  <a:pt x="253" y="6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37360" y="2292480"/>
            <a:ext cx="2782800" cy="763560"/>
            <a:chOff x="6237360" y="2292480"/>
            <a:chExt cx="2782800" cy="763560"/>
          </a:xfrm>
        </p:grpSpPr>
        <p:sp>
          <p:nvSpPr>
            <p:cNvPr id="482" name=""/>
            <p:cNvSpPr/>
            <p:nvPr/>
          </p:nvSpPr>
          <p:spPr>
            <a:xfrm>
              <a:off x="6237360" y="2292480"/>
              <a:ext cx="278280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66" y="47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88240" y="230508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16760" y="2292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237360" y="3308400"/>
            <a:ext cx="2782800" cy="763560"/>
            <a:chOff x="6237360" y="3308400"/>
            <a:chExt cx="2782800" cy="763560"/>
          </a:xfrm>
        </p:grpSpPr>
        <p:sp>
          <p:nvSpPr>
            <p:cNvPr id="486" name=""/>
            <p:cNvSpPr/>
            <p:nvPr/>
          </p:nvSpPr>
          <p:spPr>
            <a:xfrm>
              <a:off x="6237360" y="3308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31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84" y="11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89" y="95"/>
                  </a:lnTo>
                  <a:lnTo>
                    <a:pt x="1752" y="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888240" y="3321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16760" y="3308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37360" y="4397400"/>
            <a:ext cx="2782800" cy="763560"/>
            <a:chOff x="6237360" y="4397400"/>
            <a:chExt cx="2782800" cy="763560"/>
          </a:xfrm>
        </p:grpSpPr>
        <p:sp>
          <p:nvSpPr>
            <p:cNvPr id="490" name=""/>
            <p:cNvSpPr/>
            <p:nvPr/>
          </p:nvSpPr>
          <p:spPr>
            <a:xfrm>
              <a:off x="6237360" y="4397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63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71"/>
                  </a:lnTo>
                  <a:lnTo>
                    <a:pt x="600" y="79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97" y="158"/>
                  </a:lnTo>
                  <a:lnTo>
                    <a:pt x="1752" y="6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888240" y="4410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16760" y="4397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237360" y="5424480"/>
            <a:ext cx="2782800" cy="763560"/>
            <a:chOff x="6237360" y="5424480"/>
            <a:chExt cx="2782800" cy="763560"/>
          </a:xfrm>
        </p:grpSpPr>
        <p:sp>
          <p:nvSpPr>
            <p:cNvPr id="494" name=""/>
            <p:cNvSpPr/>
            <p:nvPr/>
          </p:nvSpPr>
          <p:spPr>
            <a:xfrm>
              <a:off x="6237360" y="542448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36" y="95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0"/>
                  </a:lnTo>
                  <a:lnTo>
                    <a:pt x="1066" y="0"/>
                  </a:lnTo>
                  <a:lnTo>
                    <a:pt x="1113" y="213"/>
                  </a:lnTo>
                  <a:lnTo>
                    <a:pt x="1736" y="9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6760" y="5424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13720" y="543708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237360" y="1177920"/>
            <a:ext cx="2782800" cy="789120"/>
            <a:chOff x="6237360" y="1177920"/>
            <a:chExt cx="2782800" cy="789120"/>
          </a:xfrm>
        </p:grpSpPr>
        <p:sp>
          <p:nvSpPr>
            <p:cNvPr id="498" name=""/>
            <p:cNvSpPr/>
            <p:nvPr/>
          </p:nvSpPr>
          <p:spPr>
            <a:xfrm>
              <a:off x="6237360" y="117792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341" y="0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88240" y="119052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16760" y="1203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317680" y="1854360"/>
            <a:ext cx="701640" cy="1288800"/>
          </a:xfrm>
          <a:custGeom>
            <a:avLst/>
            <a:gdLst/>
            <a:ahLst/>
            <a:rect l="l" t="t" r="r" b="b"/>
            <a:pathLst>
              <a:path w="442" h="812">
                <a:moveTo>
                  <a:pt x="16" y="812"/>
                </a:moveTo>
                <a:lnTo>
                  <a:pt x="0" y="0"/>
                </a:lnTo>
                <a:lnTo>
                  <a:pt x="237" y="71"/>
                </a:lnTo>
                <a:lnTo>
                  <a:pt x="442" y="189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17680" y="1652760"/>
            <a:ext cx="1065240" cy="1515960"/>
          </a:xfrm>
          <a:custGeom>
            <a:avLst/>
            <a:gdLst/>
            <a:ahLst/>
            <a:rect l="l" t="t" r="r" b="b"/>
            <a:pathLst>
              <a:path w="671" h="955">
                <a:moveTo>
                  <a:pt x="671" y="0"/>
                </a:moveTo>
                <a:lnTo>
                  <a:pt x="278" y="540"/>
                </a:lnTo>
                <a:lnTo>
                  <a:pt x="0" y="9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08480" y="2054160"/>
            <a:ext cx="1365120" cy="1790640"/>
          </a:xfrm>
          <a:custGeom>
            <a:avLst/>
            <a:gdLst/>
            <a:ahLst/>
            <a:rect l="l" t="t" r="r" b="b"/>
            <a:pathLst>
              <a:path w="860" h="1128">
                <a:moveTo>
                  <a:pt x="828" y="860"/>
                </a:moveTo>
                <a:lnTo>
                  <a:pt x="860" y="332"/>
                </a:lnTo>
                <a:lnTo>
                  <a:pt x="592" y="0"/>
                </a:lnTo>
                <a:lnTo>
                  <a:pt x="457" y="276"/>
                </a:lnTo>
                <a:lnTo>
                  <a:pt x="252" y="702"/>
                </a:lnTo>
                <a:lnTo>
                  <a:pt x="0" y="1128"/>
                </a:lnTo>
                <a:lnTo>
                  <a:pt x="828" y="86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9663200">
            <a:off x="2376360" y="51271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166840" y="58244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9663200">
            <a:off x="2695320" y="5204880"/>
            <a:ext cx="187200" cy="113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9663200">
            <a:off x="3139920" y="59781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9663200">
            <a:off x="3322800" y="48049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9663200">
            <a:off x="2583000" y="63846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33440" y="512640"/>
            <a:ext cx="53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35560" y="2567160"/>
            <a:ext cx="2783160" cy="75060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491" y="213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88240" y="2603520"/>
            <a:ext cx="33804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235560" y="4397400"/>
            <a:ext cx="2783160" cy="75096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1122" y="8"/>
                </a:lnTo>
                <a:lnTo>
                  <a:pt x="1043" y="244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7754400" y="4433760"/>
            <a:ext cx="250920" cy="67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5520" y="1501920"/>
            <a:ext cx="4860360" cy="2687040"/>
            <a:chOff x="425520" y="1501920"/>
            <a:chExt cx="4860360" cy="2687040"/>
          </a:xfrm>
        </p:grpSpPr>
        <p:sp>
          <p:nvSpPr>
            <p:cNvPr id="516" name=""/>
            <p:cNvSpPr/>
            <p:nvPr/>
          </p:nvSpPr>
          <p:spPr>
            <a:xfrm>
              <a:off x="435960" y="1512360"/>
              <a:ext cx="4849920" cy="2463480"/>
            </a:xfrm>
            <a:custGeom>
              <a:avLst/>
              <a:gdLst/>
              <a:ahLst/>
              <a:rect l="l" t="t" r="r" b="b"/>
              <a:pathLst>
                <a:path w="3574" h="1816">
                  <a:moveTo>
                    <a:pt x="0" y="1318"/>
                  </a:moveTo>
                  <a:lnTo>
                    <a:pt x="1223" y="8"/>
                  </a:lnTo>
                  <a:lnTo>
                    <a:pt x="1869" y="0"/>
                  </a:lnTo>
                  <a:lnTo>
                    <a:pt x="2027" y="339"/>
                  </a:lnTo>
                  <a:lnTo>
                    <a:pt x="2746" y="207"/>
                  </a:lnTo>
                  <a:lnTo>
                    <a:pt x="3062" y="159"/>
                  </a:lnTo>
                  <a:lnTo>
                    <a:pt x="3574" y="159"/>
                  </a:lnTo>
                  <a:lnTo>
                    <a:pt x="3188" y="1240"/>
                  </a:lnTo>
                  <a:lnTo>
                    <a:pt x="1981" y="1816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9840" y="1501920"/>
              <a:ext cx="856080" cy="942840"/>
            </a:xfrm>
            <a:custGeom>
              <a:avLst/>
              <a:gdLst/>
              <a:ahLst/>
              <a:rect l="l" t="t" r="r" b="b"/>
              <a:pathLst>
                <a:path w="631" h="695">
                  <a:moveTo>
                    <a:pt x="487" y="0"/>
                  </a:moveTo>
                  <a:lnTo>
                    <a:pt x="631" y="338"/>
                  </a:lnTo>
                  <a:lnTo>
                    <a:pt x="455" y="563"/>
                  </a:lnTo>
                  <a:lnTo>
                    <a:pt x="308" y="695"/>
                  </a:lnTo>
                  <a:lnTo>
                    <a:pt x="0" y="691"/>
                  </a:lnTo>
                  <a:cubicBezTo>
                    <a:pt x="121" y="569"/>
                    <a:pt x="199" y="413"/>
                    <a:pt x="318" y="289"/>
                  </a:cubicBezTo>
                  <a:cubicBezTo>
                    <a:pt x="444" y="176"/>
                    <a:pt x="487" y="0"/>
                    <a:pt x="4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520" y="3185280"/>
              <a:ext cx="4336920" cy="1003680"/>
            </a:xfrm>
            <a:custGeom>
              <a:avLst/>
              <a:gdLst/>
              <a:ahLst/>
              <a:rect l="l" t="t" r="r" b="b"/>
              <a:pathLst>
                <a:path w="3196" h="740">
                  <a:moveTo>
                    <a:pt x="0" y="93"/>
                  </a:moveTo>
                  <a:lnTo>
                    <a:pt x="829" y="94"/>
                  </a:lnTo>
                  <a:lnTo>
                    <a:pt x="860" y="110"/>
                  </a:lnTo>
                  <a:cubicBezTo>
                    <a:pt x="966" y="119"/>
                    <a:pt x="1292" y="119"/>
                    <a:pt x="1468" y="149"/>
                  </a:cubicBezTo>
                  <a:cubicBezTo>
                    <a:pt x="1644" y="179"/>
                    <a:pt x="1791" y="252"/>
                    <a:pt x="1918" y="291"/>
                  </a:cubicBezTo>
                  <a:lnTo>
                    <a:pt x="2233" y="386"/>
                  </a:lnTo>
                  <a:lnTo>
                    <a:pt x="2415" y="0"/>
                  </a:lnTo>
                  <a:lnTo>
                    <a:pt x="3196" y="0"/>
                  </a:lnTo>
                  <a:lnTo>
                    <a:pt x="3196" y="725"/>
                  </a:lnTo>
                  <a:lnTo>
                    <a:pt x="0" y="74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2600" y="2402640"/>
              <a:ext cx="425880" cy="761040"/>
            </a:xfrm>
            <a:custGeom>
              <a:avLst/>
              <a:gdLst/>
              <a:ahLst/>
              <a:rect l="l" t="t" r="r" b="b"/>
              <a:pathLst>
                <a:path w="314" h="561">
                  <a:moveTo>
                    <a:pt x="0" y="561"/>
                  </a:moveTo>
                  <a:cubicBezTo>
                    <a:pt x="52" y="468"/>
                    <a:pt x="262" y="94"/>
                    <a:pt x="3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20560" y="3709080"/>
              <a:ext cx="234720" cy="45036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73" y="0"/>
                  </a:moveTo>
                  <a:cubicBezTo>
                    <a:pt x="173" y="0"/>
                    <a:pt x="86" y="166"/>
                    <a:pt x="0" y="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62440" y="1720080"/>
              <a:ext cx="514080" cy="2450160"/>
            </a:xfrm>
            <a:custGeom>
              <a:avLst/>
              <a:gdLst/>
              <a:ahLst/>
              <a:rect l="l" t="t" r="r" b="b"/>
              <a:pathLst>
                <a:path w="434" h="1759">
                  <a:moveTo>
                    <a:pt x="0" y="1081"/>
                  </a:moveTo>
                  <a:cubicBezTo>
                    <a:pt x="0" y="1097"/>
                    <a:pt x="0" y="1112"/>
                    <a:pt x="0" y="1128"/>
                  </a:cubicBezTo>
                  <a:lnTo>
                    <a:pt x="0" y="1759"/>
                  </a:lnTo>
                  <a:lnTo>
                    <a:pt x="434" y="489"/>
                  </a:lnTo>
                  <a:lnTo>
                    <a:pt x="434" y="0"/>
                  </a:lnTo>
                  <a:lnTo>
                    <a:pt x="0" y="10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6640" y="1770480"/>
              <a:ext cx="1690920" cy="674280"/>
            </a:xfrm>
            <a:custGeom>
              <a:avLst/>
              <a:gdLst/>
              <a:ahLst/>
              <a:rect l="l" t="t" r="r" b="b"/>
              <a:pathLst>
                <a:path w="1246" h="497">
                  <a:moveTo>
                    <a:pt x="678" y="482"/>
                  </a:moveTo>
                  <a:lnTo>
                    <a:pt x="1041" y="434"/>
                  </a:lnTo>
                  <a:lnTo>
                    <a:pt x="1207" y="308"/>
                  </a:lnTo>
                  <a:lnTo>
                    <a:pt x="1246" y="0"/>
                  </a:lnTo>
                  <a:lnTo>
                    <a:pt x="307" y="165"/>
                  </a:lnTo>
                  <a:lnTo>
                    <a:pt x="71" y="441"/>
                  </a:lnTo>
                  <a:lnTo>
                    <a:pt x="0" y="497"/>
                  </a:lnTo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72760" y="2564280"/>
              <a:ext cx="1639080" cy="1143360"/>
            </a:xfrm>
            <a:custGeom>
              <a:avLst/>
              <a:gdLst/>
              <a:ahLst/>
              <a:rect l="l" t="t" r="r" b="b"/>
              <a:pathLst>
                <a:path w="1208" h="843">
                  <a:moveTo>
                    <a:pt x="0" y="598"/>
                  </a:moveTo>
                  <a:cubicBezTo>
                    <a:pt x="88" y="540"/>
                    <a:pt x="328" y="346"/>
                    <a:pt x="529" y="251"/>
                  </a:cubicBezTo>
                  <a:cubicBezTo>
                    <a:pt x="730" y="156"/>
                    <a:pt x="1133" y="0"/>
                    <a:pt x="1208" y="30"/>
                  </a:cubicBezTo>
                  <a:lnTo>
                    <a:pt x="979" y="432"/>
                  </a:lnTo>
                  <a:lnTo>
                    <a:pt x="789" y="843"/>
                  </a:lnTo>
                </a:path>
              </a:pathLst>
            </a:cu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04920" y="2435040"/>
              <a:ext cx="963360" cy="201960"/>
            </a:xfrm>
            <a:custGeom>
              <a:avLst/>
              <a:gdLst/>
              <a:ahLst/>
              <a:rect l="l" t="t" r="r" b="b"/>
              <a:pathLst>
                <a:path w="710" h="149">
                  <a:moveTo>
                    <a:pt x="0" y="0"/>
                  </a:moveTo>
                  <a:lnTo>
                    <a:pt x="710" y="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1400" y="2359080"/>
              <a:ext cx="1059480" cy="288720"/>
            </a:xfrm>
            <a:custGeom>
              <a:avLst/>
              <a:gdLst/>
              <a:ahLst/>
              <a:rect l="l" t="t" r="r" b="b"/>
              <a:pathLst>
                <a:path w="781" h="213">
                  <a:moveTo>
                    <a:pt x="0" y="63"/>
                  </a:moveTo>
                  <a:lnTo>
                    <a:pt x="457" y="48"/>
                  </a:lnTo>
                  <a:lnTo>
                    <a:pt x="781" y="0"/>
                  </a:lnTo>
                  <a:lnTo>
                    <a:pt x="639" y="213"/>
                  </a:lnTo>
                  <a:lnTo>
                    <a:pt x="0" y="63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rot="19862400">
            <a:off x="2485800" y="4584240"/>
            <a:ext cx="952200" cy="614520"/>
          </a:xfrm>
          <a:custGeom>
            <a:avLst/>
            <a:gdLst/>
            <a:ahLst/>
            <a:rect l="l" t="t" r="r" b="b"/>
            <a:pathLst>
              <a:path w="600" h="387">
                <a:moveTo>
                  <a:pt x="0" y="387"/>
                </a:moveTo>
                <a:lnTo>
                  <a:pt x="6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9862400">
            <a:off x="2711520" y="6008400"/>
            <a:ext cx="990360" cy="596880"/>
          </a:xfrm>
          <a:custGeom>
            <a:avLst/>
            <a:gdLst/>
            <a:ahLst/>
            <a:rect l="l" t="t" r="r" b="b"/>
            <a:pathLst>
              <a:path w="624" h="376">
                <a:moveTo>
                  <a:pt x="0" y="376"/>
                </a:moveTo>
                <a:lnTo>
                  <a:pt x="62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7925600">
            <a:off x="2804040" y="51375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7925600">
            <a:off x="2892960" y="6456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7925600">
            <a:off x="3032640" y="46533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7925600">
            <a:off x="3204360" y="5947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92440" y="5386320"/>
            <a:ext cx="801720" cy="438120"/>
          </a:xfrm>
          <a:custGeom>
            <a:avLst/>
            <a:gdLst/>
            <a:ahLst/>
            <a:rect l="l" t="t" r="r" b="b"/>
            <a:pathLst>
              <a:path w="505" h="276">
                <a:moveTo>
                  <a:pt x="0" y="0"/>
                </a:moveTo>
                <a:lnTo>
                  <a:pt x="505" y="2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56040" y="5386320"/>
            <a:ext cx="412560" cy="23832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2766600" y="5687640"/>
            <a:ext cx="412920" cy="23796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4880" y="3130560"/>
            <a:ext cx="6912000" cy="965160"/>
          </a:xfrm>
          <a:custGeom>
            <a:avLst/>
            <a:gdLst/>
            <a:ahLst/>
            <a:rect l="l" t="t" r="r" b="b"/>
            <a:pathLst>
              <a:path w="4354" h="608">
                <a:moveTo>
                  <a:pt x="0" y="573"/>
                </a:moveTo>
                <a:lnTo>
                  <a:pt x="0" y="370"/>
                </a:lnTo>
                <a:lnTo>
                  <a:pt x="911" y="370"/>
                </a:lnTo>
                <a:lnTo>
                  <a:pt x="1554" y="0"/>
                </a:lnTo>
                <a:lnTo>
                  <a:pt x="2869" y="0"/>
                </a:lnTo>
                <a:lnTo>
                  <a:pt x="3588" y="416"/>
                </a:lnTo>
                <a:lnTo>
                  <a:pt x="4354" y="419"/>
                </a:lnTo>
                <a:lnTo>
                  <a:pt x="4354" y="608"/>
                </a:lnTo>
                <a:lnTo>
                  <a:pt x="3972" y="607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54440" y="4094280"/>
            <a:ext cx="5054400" cy="6062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3433680"/>
            <a:ext cx="5575320" cy="126684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30240" y="2790360"/>
            <a:ext cx="67932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94040" y="2179800"/>
            <a:ext cx="679680" cy="190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4200" y="2188800"/>
            <a:ext cx="67968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4880" y="4700520"/>
            <a:ext cx="6305760" cy="322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103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5336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460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3728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85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8120" y="4110120"/>
            <a:ext cx="6302520" cy="588960"/>
          </a:xfrm>
          <a:custGeom>
            <a:avLst/>
            <a:gdLst/>
            <a:ahLst/>
            <a:rect l="l" t="t" r="r" b="b"/>
            <a:pathLst>
              <a:path w="2785" h="260">
                <a:moveTo>
                  <a:pt x="0" y="260"/>
                </a:moveTo>
                <a:lnTo>
                  <a:pt x="797" y="260"/>
                </a:lnTo>
                <a:lnTo>
                  <a:pt x="1247" y="0"/>
                </a:lnTo>
                <a:lnTo>
                  <a:pt x="278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11520" y="4264200"/>
            <a:ext cx="950760" cy="371160"/>
            <a:chOff x="3611520" y="4264200"/>
            <a:chExt cx="950760" cy="371160"/>
          </a:xfrm>
        </p:grpSpPr>
        <p:sp>
          <p:nvSpPr>
            <p:cNvPr id="63" name=""/>
            <p:cNvSpPr/>
            <p:nvPr/>
          </p:nvSpPr>
          <p:spPr>
            <a:xfrm>
              <a:off x="4245120" y="426420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6360" y="435744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9960" y="444960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46520" y="454176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11520" y="463536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95520" y="3995640"/>
            <a:ext cx="4054320" cy="590760"/>
          </a:xfrm>
          <a:custGeom>
            <a:avLst/>
            <a:gdLst/>
            <a:ahLst/>
            <a:rect l="l" t="t" r="r" b="b"/>
            <a:pathLst>
              <a:path w="2554" h="372">
                <a:moveTo>
                  <a:pt x="0" y="372"/>
                </a:moveTo>
                <a:lnTo>
                  <a:pt x="1136" y="372"/>
                </a:lnTo>
                <a:lnTo>
                  <a:pt x="1778" y="1"/>
                </a:lnTo>
                <a:lnTo>
                  <a:pt x="25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3440" y="3859200"/>
            <a:ext cx="4010040" cy="590400"/>
          </a:xfrm>
          <a:custGeom>
            <a:avLst/>
            <a:gdLst/>
            <a:ahLst/>
            <a:rect l="l" t="t" r="r" b="b"/>
            <a:pathLst>
              <a:path w="2526" h="372">
                <a:moveTo>
                  <a:pt x="0" y="370"/>
                </a:moveTo>
                <a:lnTo>
                  <a:pt x="1108" y="372"/>
                </a:lnTo>
                <a:lnTo>
                  <a:pt x="1750" y="1"/>
                </a:lnTo>
                <a:lnTo>
                  <a:pt x="2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2040" y="3876840"/>
            <a:ext cx="696960" cy="1062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2403360"/>
            <a:ext cx="3406680" cy="825480"/>
            <a:chOff x="250920" y="2403360"/>
            <a:chExt cx="3406680" cy="825480"/>
          </a:xfrm>
        </p:grpSpPr>
        <p:sp>
          <p:nvSpPr>
            <p:cNvPr id="72" name=""/>
            <p:cNvSpPr/>
            <p:nvPr/>
          </p:nvSpPr>
          <p:spPr>
            <a:xfrm>
              <a:off x="250920" y="240336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poco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8960" y="2781360"/>
              <a:ext cx="1628640" cy="377640"/>
            </a:xfrm>
            <a:custGeom>
              <a:avLst/>
              <a:gdLst/>
              <a:ahLst/>
              <a:rect l="l" t="t" r="r" b="b"/>
              <a:pathLst>
                <a:path w="1026" h="238">
                  <a:moveTo>
                    <a:pt x="0" y="0"/>
                  </a:moveTo>
                  <a:cubicBezTo>
                    <a:pt x="303" y="102"/>
                    <a:pt x="607" y="204"/>
                    <a:pt x="718" y="221"/>
                  </a:cubicBezTo>
                  <a:cubicBezTo>
                    <a:pt x="829" y="238"/>
                    <a:pt x="612" y="99"/>
                    <a:pt x="663" y="102"/>
                  </a:cubicBezTo>
                  <a:cubicBezTo>
                    <a:pt x="714" y="105"/>
                    <a:pt x="870" y="170"/>
                    <a:pt x="1026" y="2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00640" y="927000"/>
            <a:ext cx="2692440" cy="2441520"/>
            <a:chOff x="6200640" y="927000"/>
            <a:chExt cx="2692440" cy="2441520"/>
          </a:xfrm>
        </p:grpSpPr>
        <p:sp>
          <p:nvSpPr>
            <p:cNvPr id="75" name=""/>
            <p:cNvSpPr/>
            <p:nvPr/>
          </p:nvSpPr>
          <p:spPr>
            <a:xfrm>
              <a:off x="7591320" y="214164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0640" y="927000"/>
              <a:ext cx="26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19520" y="1239840"/>
            <a:ext cx="2655720" cy="1803240"/>
            <a:chOff x="3719520" y="1239840"/>
            <a:chExt cx="2655720" cy="1803240"/>
          </a:xfrm>
        </p:grpSpPr>
        <p:sp>
          <p:nvSpPr>
            <p:cNvPr id="79" name=""/>
            <p:cNvSpPr/>
            <p:nvPr/>
          </p:nvSpPr>
          <p:spPr>
            <a:xfrm>
              <a:off x="3719520" y="1239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pla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11560" y="1816200"/>
              <a:ext cx="17496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81160"/>
            <a:ext cx="807696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39760"/>
            <a:ext cx="9144000" cy="33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ja plegada y fallada con pliegues por 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480" y="2063880"/>
            <a:ext cx="8858160" cy="1222200"/>
          </a:xfrm>
          <a:custGeom>
            <a:avLst/>
            <a:gdLst/>
            <a:ahLst/>
            <a:rect l="l" t="t" r="r" b="b"/>
            <a:pathLst>
              <a:path w="4009" h="553">
                <a:moveTo>
                  <a:pt x="0" y="395"/>
                </a:moveTo>
                <a:lnTo>
                  <a:pt x="0" y="56"/>
                </a:lnTo>
                <a:cubicBezTo>
                  <a:pt x="65" y="0"/>
                  <a:pt x="204" y="59"/>
                  <a:pt x="387" y="56"/>
                </a:cubicBezTo>
                <a:cubicBezTo>
                  <a:pt x="569" y="117"/>
                  <a:pt x="885" y="56"/>
                  <a:pt x="1097" y="40"/>
                </a:cubicBezTo>
                <a:cubicBezTo>
                  <a:pt x="1207" y="3"/>
                  <a:pt x="1127" y="23"/>
                  <a:pt x="1342" y="32"/>
                </a:cubicBezTo>
                <a:cubicBezTo>
                  <a:pt x="1444" y="67"/>
                  <a:pt x="1372" y="49"/>
                  <a:pt x="1563" y="40"/>
                </a:cubicBezTo>
                <a:cubicBezTo>
                  <a:pt x="1719" y="15"/>
                  <a:pt x="1789" y="22"/>
                  <a:pt x="1949" y="32"/>
                </a:cubicBezTo>
                <a:cubicBezTo>
                  <a:pt x="2040" y="26"/>
                  <a:pt x="2127" y="17"/>
                  <a:pt x="2217" y="40"/>
                </a:cubicBezTo>
                <a:cubicBezTo>
                  <a:pt x="2397" y="19"/>
                  <a:pt x="2386" y="16"/>
                  <a:pt x="2612" y="16"/>
                </a:cubicBezTo>
                <a:cubicBezTo>
                  <a:pt x="2657" y="16"/>
                  <a:pt x="2701" y="20"/>
                  <a:pt x="2746" y="24"/>
                </a:cubicBezTo>
                <a:cubicBezTo>
                  <a:pt x="2801" y="28"/>
                  <a:pt x="2912" y="40"/>
                  <a:pt x="2912" y="40"/>
                </a:cubicBezTo>
                <a:cubicBezTo>
                  <a:pt x="3097" y="21"/>
                  <a:pt x="3278" y="43"/>
                  <a:pt x="3464" y="48"/>
                </a:cubicBezTo>
                <a:cubicBezTo>
                  <a:pt x="3632" y="53"/>
                  <a:pt x="3833" y="53"/>
                  <a:pt x="4001" y="56"/>
                </a:cubicBezTo>
                <a:lnTo>
                  <a:pt x="4009" y="553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2400" y="2030400"/>
            <a:ext cx="4673520" cy="1144440"/>
          </a:xfrm>
          <a:custGeom>
            <a:avLst/>
            <a:gdLst/>
            <a:ahLst/>
            <a:rect l="l" t="t" r="r" b="b"/>
            <a:pathLst>
              <a:path w="2115" h="518">
                <a:moveTo>
                  <a:pt x="0" y="500"/>
                </a:moveTo>
                <a:lnTo>
                  <a:pt x="0" y="393"/>
                </a:lnTo>
                <a:lnTo>
                  <a:pt x="483" y="393"/>
                </a:lnTo>
                <a:lnTo>
                  <a:pt x="824" y="197"/>
                </a:lnTo>
                <a:lnTo>
                  <a:pt x="1073" y="8"/>
                </a:lnTo>
                <a:lnTo>
                  <a:pt x="1278" y="0"/>
                </a:lnTo>
                <a:lnTo>
                  <a:pt x="1018" y="189"/>
                </a:lnTo>
                <a:lnTo>
                  <a:pt x="1521" y="197"/>
                </a:lnTo>
                <a:lnTo>
                  <a:pt x="1902" y="417"/>
                </a:lnTo>
                <a:lnTo>
                  <a:pt x="2115" y="410"/>
                </a:lnTo>
                <a:lnTo>
                  <a:pt x="2106" y="518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4720" y="3178080"/>
            <a:ext cx="3729240" cy="4460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2400" y="2689200"/>
            <a:ext cx="4114800" cy="93492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2400" y="3624120"/>
            <a:ext cx="4653000" cy="2383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05600" y="2965320"/>
            <a:ext cx="514440" cy="7956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60" y="1943280"/>
            <a:ext cx="5649840" cy="1223640"/>
          </a:xfrm>
          <a:custGeom>
            <a:avLst/>
            <a:gdLst/>
            <a:ahLst/>
            <a:rect l="l" t="t" r="r" b="b"/>
            <a:pathLst>
              <a:path w="3559" h="771">
                <a:moveTo>
                  <a:pt x="3012" y="757"/>
                </a:moveTo>
                <a:lnTo>
                  <a:pt x="2931" y="771"/>
                </a:lnTo>
                <a:lnTo>
                  <a:pt x="0" y="746"/>
                </a:lnTo>
                <a:lnTo>
                  <a:pt x="0" y="590"/>
                </a:lnTo>
                <a:lnTo>
                  <a:pt x="672" y="590"/>
                </a:lnTo>
                <a:lnTo>
                  <a:pt x="1147" y="308"/>
                </a:lnTo>
                <a:lnTo>
                  <a:pt x="1801" y="0"/>
                </a:lnTo>
                <a:lnTo>
                  <a:pt x="2021" y="11"/>
                </a:lnTo>
                <a:lnTo>
                  <a:pt x="1471" y="319"/>
                </a:lnTo>
                <a:lnTo>
                  <a:pt x="1648" y="308"/>
                </a:lnTo>
                <a:lnTo>
                  <a:pt x="2117" y="308"/>
                </a:lnTo>
                <a:lnTo>
                  <a:pt x="2647" y="593"/>
                </a:lnTo>
                <a:lnTo>
                  <a:pt x="2922" y="593"/>
                </a:lnTo>
                <a:lnTo>
                  <a:pt x="3164" y="341"/>
                </a:lnTo>
                <a:lnTo>
                  <a:pt x="3559" y="110"/>
                </a:lnTo>
                <a:lnTo>
                  <a:pt x="3012" y="757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0080" y="3168720"/>
            <a:ext cx="3729240" cy="461880"/>
          </a:xfrm>
          <a:custGeom>
            <a:avLst/>
            <a:gdLst/>
            <a:ahLst/>
            <a:rect l="l" t="t" r="r" b="b"/>
            <a:pathLst>
              <a:path w="1688" h="209">
                <a:moveTo>
                  <a:pt x="1688" y="209"/>
                </a:moveTo>
                <a:lnTo>
                  <a:pt x="0" y="209"/>
                </a:lnTo>
                <a:lnTo>
                  <a:pt x="0" y="0"/>
                </a:lnTo>
                <a:lnTo>
                  <a:pt x="1688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760" y="2662200"/>
            <a:ext cx="4114800" cy="96840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60" y="3630600"/>
            <a:ext cx="8856720" cy="2649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000" y="2676600"/>
            <a:ext cx="8663040" cy="954000"/>
          </a:xfrm>
          <a:custGeom>
            <a:avLst/>
            <a:gdLst/>
            <a:ahLst/>
            <a:rect l="l" t="t" r="r" b="b"/>
            <a:pathLst>
              <a:path w="5457" h="601">
                <a:moveTo>
                  <a:pt x="0" y="601"/>
                </a:moveTo>
                <a:lnTo>
                  <a:pt x="838" y="601"/>
                </a:lnTo>
                <a:lnTo>
                  <a:pt x="1312" y="317"/>
                </a:lnTo>
                <a:lnTo>
                  <a:pt x="2908" y="318"/>
                </a:lnTo>
                <a:lnTo>
                  <a:pt x="3366" y="279"/>
                </a:lnTo>
                <a:lnTo>
                  <a:pt x="3886" y="11"/>
                </a:lnTo>
                <a:lnTo>
                  <a:pt x="4666" y="0"/>
                </a:lnTo>
                <a:lnTo>
                  <a:pt x="5172" y="274"/>
                </a:lnTo>
                <a:lnTo>
                  <a:pt x="5457" y="30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2930400"/>
            <a:ext cx="514080" cy="810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00320" y="3189240"/>
            <a:ext cx="7615080" cy="446040"/>
          </a:xfrm>
          <a:custGeom>
            <a:avLst/>
            <a:gdLst/>
            <a:ahLst/>
            <a:rect l="l" t="t" r="r" b="b"/>
            <a:pathLst>
              <a:path w="3447" h="202">
                <a:moveTo>
                  <a:pt x="0" y="202"/>
                </a:moveTo>
                <a:lnTo>
                  <a:pt x="1944" y="197"/>
                </a:lnTo>
                <a:lnTo>
                  <a:pt x="2285" y="0"/>
                </a:lnTo>
                <a:lnTo>
                  <a:pt x="3447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4600" y="1909800"/>
            <a:ext cx="1030320" cy="1219320"/>
          </a:xfrm>
          <a:custGeom>
            <a:avLst/>
            <a:gdLst/>
            <a:ahLst/>
            <a:rect l="l" t="t" r="r" b="b"/>
            <a:pathLst>
              <a:path w="466" h="552">
                <a:moveTo>
                  <a:pt x="0" y="552"/>
                </a:moveTo>
                <a:cubicBezTo>
                  <a:pt x="78" y="460"/>
                  <a:pt x="388" y="92"/>
                  <a:pt x="46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0120" y="1838160"/>
            <a:ext cx="1063800" cy="889200"/>
          </a:xfrm>
          <a:custGeom>
            <a:avLst/>
            <a:gdLst/>
            <a:ahLst/>
            <a:rect l="l" t="t" r="r" b="b"/>
            <a:pathLst>
              <a:path w="481" h="402">
                <a:moveTo>
                  <a:pt x="0" y="402"/>
                </a:moveTo>
                <a:lnTo>
                  <a:pt x="402" y="79"/>
                </a:lnTo>
                <a:lnTo>
                  <a:pt x="48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400" y="2655720"/>
            <a:ext cx="4028760" cy="490680"/>
          </a:xfrm>
          <a:custGeom>
            <a:avLst/>
            <a:gdLst/>
            <a:ahLst/>
            <a:rect l="l" t="t" r="r" b="b"/>
            <a:pathLst>
              <a:path w="2538" h="309">
                <a:moveTo>
                  <a:pt x="0" y="309"/>
                </a:moveTo>
                <a:lnTo>
                  <a:pt x="769" y="276"/>
                </a:lnTo>
                <a:lnTo>
                  <a:pt x="1220" y="2"/>
                </a:lnTo>
                <a:lnTo>
                  <a:pt x="2047" y="0"/>
                </a:lnTo>
                <a:lnTo>
                  <a:pt x="2538" y="29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3120" y="1803240"/>
            <a:ext cx="1533240" cy="855720"/>
          </a:xfrm>
          <a:custGeom>
            <a:avLst/>
            <a:gdLst/>
            <a:ahLst/>
            <a:rect l="l" t="t" r="r" b="b"/>
            <a:pathLst>
              <a:path w="694" h="387">
                <a:moveTo>
                  <a:pt x="0" y="387"/>
                </a:moveTo>
                <a:lnTo>
                  <a:pt x="473" y="119"/>
                </a:lnTo>
                <a:lnTo>
                  <a:pt x="69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10519" r="0" b="0"/>
          <a:stretch/>
        </p:blipFill>
        <p:spPr>
          <a:xfrm>
            <a:off x="0" y="181080"/>
            <a:ext cx="457056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97560" y="752400"/>
            <a:ext cx="45464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propagac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propagation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lenta de la falla (Rocas mecánicamente incompetentes, por ej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760" y="576360"/>
            <a:ext cx="885672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4320" y="2776680"/>
            <a:ext cx="6180120" cy="1303200"/>
          </a:xfrm>
          <a:custGeom>
            <a:avLst/>
            <a:gdLst/>
            <a:ahLst/>
            <a:rect l="l" t="t" r="r" b="b"/>
            <a:pathLst>
              <a:path w="3893" h="821">
                <a:moveTo>
                  <a:pt x="0" y="766"/>
                </a:moveTo>
                <a:lnTo>
                  <a:pt x="0" y="495"/>
                </a:lnTo>
                <a:lnTo>
                  <a:pt x="1218" y="495"/>
                </a:lnTo>
                <a:lnTo>
                  <a:pt x="2078" y="0"/>
                </a:lnTo>
                <a:lnTo>
                  <a:pt x="2467" y="1"/>
                </a:lnTo>
                <a:lnTo>
                  <a:pt x="2637" y="476"/>
                </a:lnTo>
                <a:lnTo>
                  <a:pt x="3893" y="476"/>
                </a:lnTo>
                <a:lnTo>
                  <a:pt x="3893" y="813"/>
                </a:lnTo>
                <a:lnTo>
                  <a:pt x="2458" y="821"/>
                </a:lnTo>
                <a:lnTo>
                  <a:pt x="0" y="766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5800" y="4065480"/>
            <a:ext cx="4513320" cy="8114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4320" y="3205080"/>
            <a:ext cx="3868560" cy="1684440"/>
          </a:xfrm>
          <a:custGeom>
            <a:avLst/>
            <a:gdLst/>
            <a:ahLst/>
            <a:rect l="l" t="t" r="r" b="b"/>
            <a:pathLst>
              <a:path w="1822" h="793">
                <a:moveTo>
                  <a:pt x="0" y="371"/>
                </a:moveTo>
                <a:lnTo>
                  <a:pt x="1002" y="371"/>
                </a:lnTo>
                <a:lnTo>
                  <a:pt x="1637" y="1"/>
                </a:lnTo>
                <a:lnTo>
                  <a:pt x="1716" y="0"/>
                </a:lnTo>
                <a:lnTo>
                  <a:pt x="1822" y="382"/>
                </a:lnTo>
                <a:lnTo>
                  <a:pt x="1119" y="793"/>
                </a:lnTo>
                <a:lnTo>
                  <a:pt x="0" y="787"/>
                </a:lnTo>
                <a:lnTo>
                  <a:pt x="0" y="371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901960" y="3200040"/>
            <a:ext cx="596880" cy="1676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312800" y="2426760"/>
            <a:ext cx="306360" cy="979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4320" y="4876920"/>
            <a:ext cx="61704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7000" y="4280040"/>
            <a:ext cx="1271160" cy="458280"/>
            <a:chOff x="3807000" y="4280040"/>
            <a:chExt cx="1271160" cy="458280"/>
          </a:xfrm>
        </p:grpSpPr>
        <p:sp>
          <p:nvSpPr>
            <p:cNvPr id="111" name=""/>
            <p:cNvSpPr/>
            <p:nvPr/>
          </p:nvSpPr>
          <p:spPr>
            <a:xfrm>
              <a:off x="4654080" y="42800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1680" y="43952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5880" y="450900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7360" y="462276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7000" y="473832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39680" y="4264200"/>
            <a:ext cx="3197520" cy="446040"/>
          </a:xfrm>
          <a:custGeom>
            <a:avLst/>
            <a:gdLst/>
            <a:ahLst/>
            <a:rect l="l" t="t" r="r" b="b"/>
            <a:pathLst>
              <a:path w="1506" h="210">
                <a:moveTo>
                  <a:pt x="0" y="210"/>
                </a:moveTo>
                <a:lnTo>
                  <a:pt x="1136" y="210"/>
                </a:lnTo>
                <a:lnTo>
                  <a:pt x="1497" y="0"/>
                </a:lnTo>
                <a:lnTo>
                  <a:pt x="1506" y="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8720" y="3627360"/>
            <a:ext cx="3519360" cy="679680"/>
          </a:xfrm>
          <a:custGeom>
            <a:avLst/>
            <a:gdLst/>
            <a:ahLst/>
            <a:rect l="l" t="t" r="r" b="b"/>
            <a:pathLst>
              <a:path w="1657" h="320">
                <a:moveTo>
                  <a:pt x="0" y="318"/>
                </a:moveTo>
                <a:lnTo>
                  <a:pt x="1017" y="320"/>
                </a:lnTo>
                <a:lnTo>
                  <a:pt x="1593" y="0"/>
                </a:lnTo>
                <a:lnTo>
                  <a:pt x="1657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84600" y="2523960"/>
            <a:ext cx="633600" cy="88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17960" y="2825280"/>
            <a:ext cx="884520" cy="1233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27400" y="3359160"/>
            <a:ext cx="471600" cy="115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9000" y="4002120"/>
            <a:ext cx="3895920" cy="871560"/>
          </a:xfrm>
          <a:custGeom>
            <a:avLst/>
            <a:gdLst/>
            <a:ahLst/>
            <a:rect l="l" t="t" r="r" b="b"/>
            <a:pathLst>
              <a:path w="1835" h="411">
                <a:moveTo>
                  <a:pt x="0" y="411"/>
                </a:moveTo>
                <a:lnTo>
                  <a:pt x="1136" y="411"/>
                </a:lnTo>
                <a:lnTo>
                  <a:pt x="183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68600" y="1298520"/>
            <a:ext cx="2559240" cy="1930320"/>
            <a:chOff x="5268600" y="1298520"/>
            <a:chExt cx="2559240" cy="1930320"/>
          </a:xfrm>
        </p:grpSpPr>
        <p:sp>
          <p:nvSpPr>
            <p:cNvPr id="123" name=""/>
            <p:cNvSpPr/>
            <p:nvPr/>
          </p:nvSpPr>
          <p:spPr>
            <a:xfrm>
              <a:off x="5448240" y="129852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 frontal muy inclin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268240" y="2378160"/>
              <a:ext cx="671400" cy="8506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9772400">
            <a:off x="4406400" y="3914280"/>
            <a:ext cx="662040" cy="10188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877000" y="2214720"/>
            <a:ext cx="3192480" cy="1841760"/>
            <a:chOff x="5877000" y="2214720"/>
            <a:chExt cx="3192480" cy="1841760"/>
          </a:xfrm>
        </p:grpSpPr>
        <p:sp>
          <p:nvSpPr>
            <p:cNvPr id="127" name=""/>
            <p:cNvSpPr/>
            <p:nvPr/>
          </p:nvSpPr>
          <p:spPr>
            <a:xfrm>
              <a:off x="6075360" y="221472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3801600">
              <a:off x="6377400" y="3089520"/>
              <a:ext cx="174240" cy="122724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54160" y="1225440"/>
            <a:ext cx="2656080" cy="1513080"/>
            <a:chOff x="2054160" y="1225440"/>
            <a:chExt cx="2656080" cy="1513080"/>
          </a:xfrm>
        </p:grpSpPr>
        <p:sp>
          <p:nvSpPr>
            <p:cNvPr id="130" name=""/>
            <p:cNvSpPr/>
            <p:nvPr/>
          </p:nvSpPr>
          <p:spPr>
            <a:xfrm>
              <a:off x="2054160" y="1225440"/>
              <a:ext cx="265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generalmente cerr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9440" y="2101680"/>
              <a:ext cx="501480" cy="6368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97560" y="752400"/>
            <a:ext cx="454644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“detach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Detachment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nula de la falla (Rocas dúctiles, sin fra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95200"/>
            <a:ext cx="38862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3800" y="2050920"/>
            <a:ext cx="6167160" cy="2103480"/>
          </a:xfrm>
          <a:custGeom>
            <a:avLst/>
            <a:gdLst/>
            <a:ahLst/>
            <a:rect l="l" t="t" r="r" b="b"/>
            <a:pathLst>
              <a:path w="3893" h="1325">
                <a:moveTo>
                  <a:pt x="0" y="1258"/>
                </a:moveTo>
                <a:lnTo>
                  <a:pt x="1" y="1041"/>
                </a:lnTo>
                <a:lnTo>
                  <a:pt x="1137" y="1041"/>
                </a:lnTo>
                <a:lnTo>
                  <a:pt x="1271" y="954"/>
                </a:lnTo>
                <a:lnTo>
                  <a:pt x="1603" y="236"/>
                </a:lnTo>
                <a:cubicBezTo>
                  <a:pt x="1724" y="80"/>
                  <a:pt x="1860" y="0"/>
                  <a:pt x="2000" y="15"/>
                </a:cubicBezTo>
                <a:cubicBezTo>
                  <a:pt x="2147" y="15"/>
                  <a:pt x="2336" y="176"/>
                  <a:pt x="2442" y="324"/>
                </a:cubicBezTo>
                <a:cubicBezTo>
                  <a:pt x="2568" y="555"/>
                  <a:pt x="2605" y="804"/>
                  <a:pt x="2644" y="923"/>
                </a:cubicBezTo>
                <a:cubicBezTo>
                  <a:pt x="2644" y="923"/>
                  <a:pt x="2786" y="1017"/>
                  <a:pt x="2786" y="1017"/>
                </a:cubicBezTo>
                <a:lnTo>
                  <a:pt x="3891" y="1025"/>
                </a:lnTo>
                <a:lnTo>
                  <a:pt x="3893" y="1315"/>
                </a:lnTo>
                <a:lnTo>
                  <a:pt x="2458" y="1325"/>
                </a:lnTo>
                <a:lnTo>
                  <a:pt x="0" y="1258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5240" y="2459160"/>
            <a:ext cx="6167520" cy="2571480"/>
          </a:xfrm>
          <a:custGeom>
            <a:avLst/>
            <a:gdLst/>
            <a:ahLst/>
            <a:rect l="l" t="t" r="r" b="b"/>
            <a:pathLst>
              <a:path w="3885" h="1620">
                <a:moveTo>
                  <a:pt x="0" y="997"/>
                </a:moveTo>
                <a:lnTo>
                  <a:pt x="1270" y="997"/>
                </a:lnTo>
                <a:lnTo>
                  <a:pt x="1404" y="902"/>
                </a:lnTo>
                <a:lnTo>
                  <a:pt x="1728" y="208"/>
                </a:lnTo>
                <a:cubicBezTo>
                  <a:pt x="1832" y="61"/>
                  <a:pt x="1935" y="0"/>
                  <a:pt x="2028" y="19"/>
                </a:cubicBezTo>
                <a:cubicBezTo>
                  <a:pt x="2105" y="19"/>
                  <a:pt x="2187" y="159"/>
                  <a:pt x="2286" y="321"/>
                </a:cubicBezTo>
                <a:cubicBezTo>
                  <a:pt x="2385" y="483"/>
                  <a:pt x="2353" y="879"/>
                  <a:pt x="2619" y="989"/>
                </a:cubicBezTo>
                <a:cubicBezTo>
                  <a:pt x="3309" y="989"/>
                  <a:pt x="3885" y="982"/>
                  <a:pt x="3885" y="982"/>
                </a:cubicBezTo>
                <a:lnTo>
                  <a:pt x="3885" y="1620"/>
                </a:lnTo>
                <a:lnTo>
                  <a:pt x="0" y="1581"/>
                </a:lnTo>
                <a:lnTo>
                  <a:pt x="0" y="997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3800" y="5000760"/>
            <a:ext cx="61578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04840" y="4925160"/>
            <a:ext cx="3362400" cy="73080"/>
          </a:xfrm>
          <a:custGeom>
            <a:avLst/>
            <a:gdLst/>
            <a:ahLst/>
            <a:rect l="l" t="t" r="r" b="b"/>
            <a:pathLst>
              <a:path w="1519" h="1">
                <a:moveTo>
                  <a:pt x="0" y="0"/>
                </a:moveTo>
                <a:lnTo>
                  <a:pt x="151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6120" y="996840"/>
            <a:ext cx="2755800" cy="1930680"/>
            <a:chOff x="5226120" y="996840"/>
            <a:chExt cx="2755800" cy="1930680"/>
          </a:xfrm>
        </p:grpSpPr>
        <p:sp>
          <p:nvSpPr>
            <p:cNvPr id="140" name=""/>
            <p:cNvSpPr/>
            <p:nvPr/>
          </p:nvSpPr>
          <p:spPr>
            <a:xfrm>
              <a:off x="5226120" y="996840"/>
              <a:ext cx="275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simétricos, muy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235480" y="2076480"/>
              <a:ext cx="671760" cy="8510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44240" y="1913040"/>
            <a:ext cx="3191760" cy="1842120"/>
            <a:chOff x="5844240" y="1913040"/>
            <a:chExt cx="3191760" cy="1842120"/>
          </a:xfrm>
        </p:grpSpPr>
        <p:sp>
          <p:nvSpPr>
            <p:cNvPr id="143" name=""/>
            <p:cNvSpPr/>
            <p:nvPr/>
          </p:nvSpPr>
          <p:spPr>
            <a:xfrm>
              <a:off x="6041880" y="191304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arri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3801600">
              <a:off x="6344280" y="278856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59000" y="847800"/>
            <a:ext cx="2981160" cy="1186920"/>
            <a:chOff x="2259000" y="847800"/>
            <a:chExt cx="2981160" cy="1186920"/>
          </a:xfrm>
        </p:grpSpPr>
        <p:sp>
          <p:nvSpPr>
            <p:cNvPr id="146" name=""/>
            <p:cNvSpPr/>
            <p:nvPr/>
          </p:nvSpPr>
          <p:spPr>
            <a:xfrm>
              <a:off x="2259000" y="847800"/>
              <a:ext cx="298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apret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040" y="1398600"/>
              <a:ext cx="501840" cy="63612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7320" y="3124080"/>
            <a:ext cx="6162480" cy="1381320"/>
          </a:xfrm>
          <a:custGeom>
            <a:avLst/>
            <a:gdLst/>
            <a:ahLst/>
            <a:rect l="l" t="t" r="r" b="b"/>
            <a:pathLst>
              <a:path w="3882" h="870">
                <a:moveTo>
                  <a:pt x="0" y="846"/>
                </a:moveTo>
                <a:lnTo>
                  <a:pt x="1373" y="846"/>
                </a:lnTo>
                <a:cubicBezTo>
                  <a:pt x="1674" y="720"/>
                  <a:pt x="1715" y="178"/>
                  <a:pt x="1804" y="89"/>
                </a:cubicBezTo>
                <a:cubicBezTo>
                  <a:pt x="1893" y="0"/>
                  <a:pt x="1869" y="309"/>
                  <a:pt x="1910" y="310"/>
                </a:cubicBezTo>
                <a:cubicBezTo>
                  <a:pt x="1951" y="311"/>
                  <a:pt x="1961" y="5"/>
                  <a:pt x="2052" y="97"/>
                </a:cubicBezTo>
                <a:cubicBezTo>
                  <a:pt x="2143" y="189"/>
                  <a:pt x="2154" y="733"/>
                  <a:pt x="2459" y="862"/>
                </a:cubicBezTo>
                <a:lnTo>
                  <a:pt x="3882" y="8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3440" y="3913200"/>
            <a:ext cx="2730600" cy="89676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05160" y="2387520"/>
            <a:ext cx="1295280" cy="2656080"/>
          </a:xfrm>
          <a:custGeom>
            <a:avLst/>
            <a:gdLst/>
            <a:ahLst/>
            <a:rect l="l" t="t" r="r" b="b"/>
            <a:pathLst>
              <a:path w="682" h="1712">
                <a:moveTo>
                  <a:pt x="0" y="0"/>
                </a:moveTo>
                <a:lnTo>
                  <a:pt x="682" y="1712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64080" y="2389320"/>
            <a:ext cx="1278000" cy="26413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774800"/>
            <a:ext cx="3181320" cy="1716120"/>
            <a:chOff x="380880" y="1774800"/>
            <a:chExt cx="3181320" cy="1716120"/>
          </a:xfrm>
        </p:grpSpPr>
        <p:sp>
          <p:nvSpPr>
            <p:cNvPr id="154" name=""/>
            <p:cNvSpPr/>
            <p:nvPr/>
          </p:nvSpPr>
          <p:spPr>
            <a:xfrm>
              <a:off x="380880" y="1774800"/>
              <a:ext cx="298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lujo de material dúctil al núcl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97240" y="2665440"/>
              <a:ext cx="1164960" cy="8254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64000" y="4502160"/>
            <a:ext cx="1203120" cy="39528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2:37:01Z</dcterms:created>
  <dc:creator>Eduardo Casas</dc:creator>
  <dc:description/>
  <dc:language>en-US</dc:language>
  <cp:lastModifiedBy>Eduardo Casas</cp:lastModifiedBy>
  <dcterms:modified xsi:type="dcterms:W3CDTF">2005-09-27T03:04:47Z</dcterms:modified>
  <cp:revision>2</cp:revision>
  <dc:subject/>
  <dc:title>Tectónica compresional</dc:title>
</cp:coreProperties>
</file>