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301-1230-4693-AF24-EB4C03AB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DB9-10D0-4049-8FB5-08696380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25F-2E51-4510-AF63-82A84D9A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675-72A5-4570-B214-199B11A4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522-E6D5-40D5-8889-4881B5BF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B6D-4F8D-4FD2-B9F9-5C108C18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4F0-8AF0-4B79-B653-61CE434A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163-63EA-40F3-9E68-3E0360C9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BC8-DFB8-481E-B44F-2945ED5D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AC8-2418-40DB-8FF9-40793672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65A-9CA9-4457-BE19-205086E1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74A-F041-469A-9DC3-CC8E398C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E952-A169-496B-9918-771F93930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námica de Cuencas Sediment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ubsidencia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33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olevantamiento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36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ipos principales de Cuen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exten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ll apart (transten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post exten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racratón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argen P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Compre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te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te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texto tectó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2384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extension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 delimitada por fallas norm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5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2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ligeramente y el centro sub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eneralmente es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ona de la litósfera donde ha a ocurrido deformación extensional. Gran extensión y adelgazamiento litosfér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&gt;200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&gt;10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ligeramente y el centro sub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eneralmente es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efecto “doming” (alzamiento térmico) en el centro menos importante que la subsidenci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 cuencas extens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Primero sedimentos son continetales (lacustres A&gt; S o fluviales S &gt;A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n el borde alzado existe una superficie de erosión que permite la generación de conglomera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xiste agrad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Si el sistema es endorreico se formaran evapori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Si existe contacto con el océano se encontraran depósitos marinos que pasarán de proximales a distales en la medida que se profundiza la cue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extensiva" descr=""/>
          <p:cNvPicPr/>
          <p:nvPr/>
        </p:nvPicPr>
        <p:blipFill>
          <a:blip r:embed="rId1"/>
          <a:stretch/>
        </p:blipFill>
        <p:spPr>
          <a:xfrm>
            <a:off x="2373480" y="1057320"/>
            <a:ext cx="4395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carp1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505320" cy="2452680"/>
          </a:xfrm>
          <a:prstGeom prst="rect">
            <a:avLst/>
          </a:prstGeom>
          <a:ln w="0">
            <a:noFill/>
          </a:ln>
        </p:spPr>
      </p:pic>
      <p:pic>
        <p:nvPicPr>
          <p:cNvPr id="77" name="scarp2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505320" cy="2463840"/>
          </a:xfrm>
          <a:prstGeom prst="rect">
            <a:avLst/>
          </a:prstGeom>
          <a:ln w="0">
            <a:noFill/>
          </a:ln>
        </p:spPr>
      </p:pic>
      <p:pic>
        <p:nvPicPr>
          <p:cNvPr id="78" name="scarp3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3470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138320" y="581040"/>
            <a:ext cx="6867360" cy="5511600"/>
            <a:chOff x="1138320" y="581040"/>
            <a:chExt cx="6867360" cy="5511600"/>
          </a:xfrm>
        </p:grpSpPr>
        <p:grpSp>
          <p:nvGrpSpPr>
            <p:cNvPr id="80" name=""/>
            <p:cNvGrpSpPr/>
            <p:nvPr/>
          </p:nvGrpSpPr>
          <p:grpSpPr>
            <a:xfrm>
              <a:off x="1143000" y="585720"/>
              <a:ext cx="6858000" cy="5502240"/>
              <a:chOff x="1143000" y="585720"/>
              <a:chExt cx="6858000" cy="5502240"/>
            </a:xfrm>
          </p:grpSpPr>
          <p:sp>
            <p:nvSpPr>
              <p:cNvPr id="81" name=""/>
              <p:cNvSpPr/>
              <p:nvPr/>
            </p:nvSpPr>
            <p:spPr>
              <a:xfrm>
                <a:off x="1143000" y="585720"/>
                <a:ext cx="6858000" cy="55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" sz="355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43000" y="585720"/>
                <a:ext cx="6858000" cy="550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138320" y="581040"/>
              <a:ext cx="6867360" cy="5511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image46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2973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Nivel Base: nivel de equilibrio teórico sin erosión ni sedimentación. Sobre éste domina la erosión y bajo éste la sedi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pacio de acomodación (A): Espacio libre dentro de una cuenca para preservar sed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lujo sedimentario (S): aporte de sedimentos a una cue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 sedimentaria: lugar donde hay sedimentación y preservacion de sedi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usas que generan un Rift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vección del manto.  (Rift Pas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lumas. (Rift Act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lapso gravita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lab pull y Ridge pu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omodo contraccional (Indentación tectón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554040"/>
            <a:ext cx="66294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ull apart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 estructuras limitadas por dos fallas transformantes cuya geometría en relevo deja una depresión intermedia que sirve de área de depósito. Son fallas de dirección o de desgar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mados en sistema trascur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ctores con fallas normales y de r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an variación de profundidad entre los bordes y el centro de la cue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cho 10-5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10-5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no se alzan o lo hacen ligeramente y el centro subside fuer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ll apart frío: deformación de la corteza fal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ll apart caliente: deformación de toda la litósfe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los bordes de la cuenca se encuentran sistemas de conos aluviales y brech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&gt;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depósitos lacustres inici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 cuenca se abre al océano habrá sedimentación marina profu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gra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ullapart" descr=""/>
          <p:cNvPicPr/>
          <p:nvPr/>
        </p:nvPicPr>
        <p:blipFill>
          <a:blip r:embed="rId1"/>
          <a:stretch/>
        </p:blipFill>
        <p:spPr>
          <a:xfrm>
            <a:off x="1965240" y="612720"/>
            <a:ext cx="52117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post-extens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produce flexuramiento post extensión de tipo termal o isostacia. La subsidencia termal disminuye con el tiempo. La subsidencia por carga o isostacia es mayor o igual que la 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enca intracrat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ift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argen pas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uenca intracrató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Post extensión sobre corteza continen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No hay deform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500- 2000 Km (Forma de pap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fundidad 3-5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empo de formación 100- 200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ordes no se alzan o lo hacen ligeramente y el centro sub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ja velocidad de subsidencia (&lt; 50 m/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se está en un continente se produce el desarrollo de un sistema fluv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esta corresponde a un sistema marino habra desarrollo de deltas y cuencas carbona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general son sistemas de baja energía sin presencia de conglomera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ntracratonica" descr=""/>
          <p:cNvPicPr/>
          <p:nvPr/>
        </p:nvPicPr>
        <p:blipFill>
          <a:blip r:embed="rId1"/>
          <a:stretch/>
        </p:blipFill>
        <p:spPr>
          <a:xfrm>
            <a:off x="1965240" y="569880"/>
            <a:ext cx="5211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Margen Pas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100-3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 ~3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0-20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no se alzan o lo hacen ligeramente y el centro subside fuerte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Depósitos marinos de platafor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por subsidencia termal hay gran espacio de acomodación por lo que se ve retrogradación, luego subdicencia decrece lo que se ve reflejado en prograd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erfil de deposi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38280"/>
            <a:ext cx="86104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margenpasivo" descr=""/>
          <p:cNvPicPr/>
          <p:nvPr/>
        </p:nvPicPr>
        <p:blipFill>
          <a:blip r:embed="rId1"/>
          <a:stretch/>
        </p:blipFill>
        <p:spPr>
          <a:xfrm>
            <a:off x="2359080" y="960480"/>
            <a:ext cx="44258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Compresiv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enca de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lexuración por carga (cabalga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100- 300 Km, dependiendo de la rigidez flexural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rgo depende del orógeno al cual se relaci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fundidad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20-3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 subsidencia 10 m/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y el centro se mantiene fijo o bien se alza liger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Deformación va migrando hacia el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Generación de fallas inversas al interior de la cuenca deformando los sedimentos generando dos cuencas menores (Piggy b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A medida que la cuenca se rellena de sedimentos aumenta la rigidez flexural por lo cual disminuye la subsidencia y la cuenca se ensanc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Se pueden generar cuencas intramontanas y triang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n la base se encuentran depositos de tipo turbidíticos por alta pendiente y rápida subsidenc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Puede haber inluencia mari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Como la cordillera va creciendo va aumentando el flujo sedimentario unido a una disminución de la subsidencia puede producir una colmatración de la cuenca y predominio de depósitos continentales en los niveles superiores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ntepais" descr=""/>
          <p:cNvPicPr/>
          <p:nvPr/>
        </p:nvPicPr>
        <p:blipFill>
          <a:blip r:embed="rId1"/>
          <a:stretch/>
        </p:blipFill>
        <p:spPr>
          <a:xfrm>
            <a:off x="1928880" y="334800"/>
            <a:ext cx="528480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uenca de antear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Se produce por el crecimiento y alzamiento del prisma de acreción que genera una subsidencia relativa en el antear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Ancho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0 Km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Largo 450-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Profundidad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empo 20-4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locidad de subsidencia variable (25 a 250 m/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Bordes no se alzan o ligeramente y centro sub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xiste un comportamiento cíc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preservación de sedimentos en la cue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β erosión por subdu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n etapa de creación del prisma se produce depositación de turbiditas hacia la f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cuenca tiene principalemente depositos fluviales deltaicos y carbona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ntearco" descr=""/>
          <p:cNvPicPr/>
          <p:nvPr/>
        </p:nvPicPr>
        <p:blipFill>
          <a:blip r:embed="rId1"/>
          <a:stretch/>
        </p:blipFill>
        <p:spPr>
          <a:xfrm>
            <a:off x="1901880" y="322200"/>
            <a:ext cx="53402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stratigrafía sís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scontinu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op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own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n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cord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run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ac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rquitectura sediment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563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 Rel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actores que controlan el registro sediment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ubsidencia: Hundimiento progresivo de un sector de la cort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Térmica: se produce por d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latación y contracción térmica. Existen puntos calientes en la corteza que pueden producir dilataciones en zonas de la corteza, cuando esa zona se enfría y empieza la contracción, se produce una depresión mientras dure la contracción, la cuen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Tectónica: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una zona distensiva que da lugar a la formación de fallas normales y un consiguiente reajuste hidrostátic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Flexuración: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Se produce una deformación elástica por carga en zonas de orógeno. Las fallas inversas llegan a acumular fallas sucesivas de escamas de rocas que no están en equilibrio isostático, al restaurarse éste se produce la cuenca de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stasi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tenemos una zona a la que se le añade una masa de magma más densa, eso implica más masa con lo que el reajuste isostático produce una depre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iramiento de la corteza y ascenso pasivo de la astenosfera. Son las típicas cuencas oceánicas. Se produce un estiramiento de corteza por una fuerza de contracción que da lugar a un rifting (conjunto escalonado de fallas normales) que produce el ascenso pasivo de astenosfera. La astenosfera aflora en la línea de rif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mbio de fase. Cuando al haber un cambio de fase de los minerales éstos aumentan su masa y el equilibrio isostático produce una de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46:05Z</dcterms:created>
  <dc:creator>Luisa Pinto</dc:creator>
  <dc:description/>
  <dc:language>en-US</dc:language>
  <cp:lastModifiedBy>Eduardo Casas</cp:lastModifiedBy>
  <dcterms:modified xsi:type="dcterms:W3CDTF">2005-10-10T23:28:47Z</dcterms:modified>
  <cp:revision>29</cp:revision>
  <dc:subject/>
  <dc:title>Dinámica de Cuencas Sedimentarias</dc:title>
</cp:coreProperties>
</file>