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8A52-9F27-4713-8A61-E9E5B983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8332-2A25-49E9-8EDA-49A0E0B4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B769-1BC8-4E34-A4DF-88229C4E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3EAA-D9ED-4661-B99C-E77C27AAF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4A05-2A3C-4D2C-86BF-EF958CFC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9DF9-E008-43E5-859B-5295E854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2B67-8099-46B8-8ADD-C79946E1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AE39-68EC-430E-9686-DA150BD3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8335-7E3B-4AC9-8163-88D5B098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BBC7-61B4-492B-A11A-8DE7BEB7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5133-C7D4-499B-A660-A26AD164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37FD-E907-457B-8942-49630FD9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FCD9-19BE-4394-859B-561F916A0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inámica de Cuencas Sedimentar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ovimientos Verti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subsidencia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4338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ovimientos verti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solevantamiento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4363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Tipos principales de Cuen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encas extens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rab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ull apart (transtens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encas post extens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racratón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argen P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encas Compres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ntepaí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nte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ntexto tectón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1238400"/>
            <a:ext cx="7239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uencas extensiona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Grab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enca delimitada por fallas norm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ncho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5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o hasta 2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formación ~ 10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se alzan ligeramente y el centro subs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a velocidad de subsid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Generalmente es simét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R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Zona de la litósfera donde ha a ocurrido deformación extensional. Gran extensión y adelgazamiento litosfér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ncho &gt;200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o hasta &gt;10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formación ~ 10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se alzan ligeramente y el centro subs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a velocidad de subsid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Generalmente es simét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 un efecto “doming” (alzamiento térmico) en el centro menos importante que la subsidencia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tratigrafía cuencas extens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Primero sedimentos son continetales (lacustres A&gt; S o fluviales S &gt;A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En el borde alzado existe una superficie de erosión que permite la generación de conglomerad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Existe agradac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Si el sistema es endorreico se formaran evaporit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Si existe contacto con el océano se encontraran depósitos marinos que pasarán de proximales a distales en la medida que se profundiza la cuen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extensiva" descr=""/>
          <p:cNvPicPr/>
          <p:nvPr/>
        </p:nvPicPr>
        <p:blipFill>
          <a:blip r:embed="rId1"/>
          <a:stretch/>
        </p:blipFill>
        <p:spPr>
          <a:xfrm>
            <a:off x="2373480" y="1057320"/>
            <a:ext cx="43956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carp1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3505320" cy="2452680"/>
          </a:xfrm>
          <a:prstGeom prst="rect">
            <a:avLst/>
          </a:prstGeom>
          <a:ln w="0">
            <a:noFill/>
          </a:ln>
        </p:spPr>
      </p:pic>
      <p:pic>
        <p:nvPicPr>
          <p:cNvPr id="77" name="scarp2" descr=""/>
          <p:cNvPicPr/>
          <p:nvPr/>
        </p:nvPicPr>
        <p:blipFill>
          <a:blip r:embed="rId2"/>
          <a:stretch/>
        </p:blipFill>
        <p:spPr>
          <a:xfrm>
            <a:off x="4724280" y="990720"/>
            <a:ext cx="3505320" cy="2463840"/>
          </a:xfrm>
          <a:prstGeom prst="rect">
            <a:avLst/>
          </a:prstGeom>
          <a:ln w="0">
            <a:noFill/>
          </a:ln>
        </p:spPr>
      </p:pic>
      <p:pic>
        <p:nvPicPr>
          <p:cNvPr id="78" name="scarp3" descr=""/>
          <p:cNvPicPr/>
          <p:nvPr/>
        </p:nvPicPr>
        <p:blipFill>
          <a:blip r:embed="rId3"/>
          <a:stretch/>
        </p:blipFill>
        <p:spPr>
          <a:xfrm>
            <a:off x="3352680" y="3809880"/>
            <a:ext cx="34704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1138320" y="581040"/>
            <a:ext cx="6867360" cy="5511600"/>
            <a:chOff x="1138320" y="581040"/>
            <a:chExt cx="6867360" cy="5511600"/>
          </a:xfrm>
        </p:grpSpPr>
        <p:grpSp>
          <p:nvGrpSpPr>
            <p:cNvPr id="80" name=""/>
            <p:cNvGrpSpPr/>
            <p:nvPr/>
          </p:nvGrpSpPr>
          <p:grpSpPr>
            <a:xfrm>
              <a:off x="1143000" y="585720"/>
              <a:ext cx="6858000" cy="5502240"/>
              <a:chOff x="1143000" y="585720"/>
              <a:chExt cx="6858000" cy="5502240"/>
            </a:xfrm>
          </p:grpSpPr>
          <p:sp>
            <p:nvSpPr>
              <p:cNvPr id="81" name=""/>
              <p:cNvSpPr/>
              <p:nvPr/>
            </p:nvSpPr>
            <p:spPr>
              <a:xfrm>
                <a:off x="1143000" y="585720"/>
                <a:ext cx="6858000" cy="550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s-ES" sz="355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s-ES" sz="24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143000" y="585720"/>
                <a:ext cx="6858000" cy="5502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1138320" y="581040"/>
              <a:ext cx="6867360" cy="55116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" name="image46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429732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Nivel Base: nivel de equilibrio teórico sin erosión ni sedimentación. Sobre éste domina la erosión y bajo éste la sedim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spacio de acomodación (A): Espacio libre dentro de una cuenca para preservar sedi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Flujo sedimentario (S): aporte de sedimentos a una cuen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enca sedimentaria: lugar donde hay sedimentación y preservacion de sedi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usas que generan un Rift</a:t>
            </a: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vección del manto.  (Rift Pasiv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lumas. (Rift Activ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lapso gravitacion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lab pull y Ridge pu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comodo contraccional (Indentación tectónic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554040"/>
            <a:ext cx="662940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ull apart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on estructuras limitadas por dos fallas transformantes cuya geometría en relevo deja una depresión intermedia que sirve de área de depósito. Son fallas de dirección o de desgar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ormados en sistema trascur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ctores con fallas normales y de rum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ran variación de profundidad entre los bordes y el centro de la cuen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ncho 10-50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o 10-5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 10 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formación ~ 10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no se alzan o lo hacen ligeramente y el centro subside fuerte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a velocidad de subsid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ull apart frío: deformación de la corteza fall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ull apart caliente: deformación de toda la litósfe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stratigraf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n los bordes de la cuenca se encuentran sistemas de conos aluviales y brech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&gt;S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depósitos lacustres inici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 la cuenca se abre al océano habrá sedimentación marina profun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grad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ullapart" descr=""/>
          <p:cNvPicPr/>
          <p:nvPr/>
        </p:nvPicPr>
        <p:blipFill>
          <a:blip r:embed="rId1"/>
          <a:stretch/>
        </p:blipFill>
        <p:spPr>
          <a:xfrm>
            <a:off x="1965240" y="612720"/>
            <a:ext cx="52117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uencas post-extensio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e produce flexuramiento post extensión de tipo termal o isostacia. La subsidencia termal disminuye con el tiempo. La subsidencia por carga o isostacia es mayor o igual que la te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raben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uenca intracrató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ift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Margen pasi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uenca intracratón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Post extensión sobre corteza continent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No hay deform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o hasta 500- 2000 Km (Forma de pap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fundidad 3-5 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iempo de formación 100- 200 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ordes no se alzan o lo hacen ligeramente y el centro sub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ja velocidad de subsidencia (&lt; 50 m/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tratigraf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 se está en un continente se produce el desarrollo de un sistema fluv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 esta corresponde a un sistema marino habra desarrollo de deltas y cuencas carbona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n general son sistemas de baja energía sin presencia de conglomerad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ntracratonica" descr=""/>
          <p:cNvPicPr/>
          <p:nvPr/>
        </p:nvPicPr>
        <p:blipFill>
          <a:blip r:embed="rId1"/>
          <a:stretch/>
        </p:blipFill>
        <p:spPr>
          <a:xfrm>
            <a:off x="1965240" y="569880"/>
            <a:ext cx="52117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Margen Pas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mé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o 100-3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 ~3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de formación ~ 100-200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no se alzan o lo hacen ligeramente y el centro subside fuerte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tratigraf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Depósitos marinos de platafor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comienzo por subsidencia termal hay gran espacio de acomodación por lo que se ve retrogradación, luego subdicencia decrece lo que se ve reflejado en prograda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Perfil de deposi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538280"/>
            <a:ext cx="861048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margenpasivo" descr=""/>
          <p:cNvPicPr/>
          <p:nvPr/>
        </p:nvPicPr>
        <p:blipFill>
          <a:blip r:embed="rId1"/>
          <a:stretch/>
        </p:blipFill>
        <p:spPr>
          <a:xfrm>
            <a:off x="2359080" y="960480"/>
            <a:ext cx="442584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uencas Compresiv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uenca de ante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Flexuración por carga (cabalgamien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Ancho 100- 300 Km, dependiendo de la rigidez flexural de la cort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argo depende del orógeno al cual se relacio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rofundidad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5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 20-30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ocidad de subsidencia 10 m/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se alzan y el centro se mantiene fijo o bien se alza ligeramen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Deformación va migrando hacia el ante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Generación de fallas inversas al interior de la cuenca deformando los sedimentos generando dos cuencas menores (Piggy ba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A medida que la cuenca se rellena de sedimentos aumenta la rigidez flexural por lo cual disminuye la subsidencia y la cuenca se ensanch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Se pueden generar cuencas intramontanas y triangu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stratigraf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En la base se encuentran depositos de tipo turbidíticos por alta pendiente y rápida subsidenci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Puede haber inluencia mari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Como la cordillera va creciendo va aumentando el flujo sedimentario unido a una disminución de la subsidencia puede producir una colmatración de la cuenca y predominio de depósitos continentales en los niveles superiores.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ntepais" descr=""/>
          <p:cNvPicPr/>
          <p:nvPr/>
        </p:nvPicPr>
        <p:blipFill>
          <a:blip r:embed="rId1"/>
          <a:stretch/>
        </p:blipFill>
        <p:spPr>
          <a:xfrm>
            <a:off x="1928880" y="334800"/>
            <a:ext cx="5284800" cy="618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uenca de antear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Se produce por el crecimiento y alzamiento del prisma de acreción que genera una subsidencia relativa en el antear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Ancho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50 Km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Largo 450- 50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Profundidad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5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iempo 20-40 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elocidad de subsidencia variable (25 a 250 m/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Bordes no se alzan o ligeramente y centro sub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Existe un comportamiento cíc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tado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 preservación de sedimentos en la cuen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do β erosión por subduc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igraf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n etapa de creación del prisma se produce depositación de turbiditas hacia la fo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cuenca tiene principalemente depositos fluviales deltaicos y carbonat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antearco" descr=""/>
          <p:cNvPicPr/>
          <p:nvPr/>
        </p:nvPicPr>
        <p:blipFill>
          <a:blip r:embed="rId1"/>
          <a:stretch/>
        </p:blipFill>
        <p:spPr>
          <a:xfrm>
            <a:off x="1901880" y="322200"/>
            <a:ext cx="534024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stratigrafía sís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iscontinuida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Top 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own 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On 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ncorda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Trun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ac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Arquitectura sediment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5638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ovimiento Rela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724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Factores que controlan el registro sediment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ovimientos verti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Times New Roman"/>
              </a:rPr>
              <a:t>Subsidencia: Hundimiento progresivo de un sector de la cort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Térmica: se produce por d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latación y contracción térmica. Existen puntos calientes en la corteza que pueden producir dilataciones en zonas de la corteza, cuando esa zona se enfría y empieza la contracción, se produce una depresión mientras dure la contracción, la cuenc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 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Tectónica: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una zona distensiva que da lugar a la formación de fallas normales y un consiguiente reajuste hidrostátic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- Flexuración: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Se produce una deformación elástica por carga en zonas de orógeno. Las fallas inversas llegan a acumular fallas sucesivas de escamas de rocas que no están en equilibrio isostático, al restaurarse éste se produce la cuenca de ante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I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ostasi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i tenemos una zona a la que se le añade una masa de magma más densa, eso implica más masa con lo que el reajuste isostático produce una depres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iramiento de la corteza y ascenso pasivo de la astenosfera. Son las típicas cuencas oceánicas. Se produce un estiramiento de corteza por una fuerza de contracción que da lugar a un rifting (conjunto escalonado de fallas normales) que produce el ascenso pasivo de astenosfera. La astenosfera aflora en la línea de rif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mbio de fase. Cuando al haber un cambio de fase de los minerales éstos aumentan su masa y el equilibrio isostático produce una depr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5:46:05Z</dcterms:created>
  <dc:creator>Luisa Pinto</dc:creator>
  <dc:description/>
  <dc:language>en-US</dc:language>
  <cp:lastModifiedBy>Eduardo Casas</cp:lastModifiedBy>
  <dcterms:modified xsi:type="dcterms:W3CDTF">2005-10-10T23:28:47Z</dcterms:modified>
  <cp:revision>29</cp:revision>
  <dc:subject/>
  <dc:title>Dinámica de Cuencas Sedimentarias</dc:title>
</cp:coreProperties>
</file>